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25000" y="178920"/>
            <a:ext cx="4859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5560" y="3780000"/>
            <a:ext cx="6742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68280" y="17928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25560" y="3780000"/>
            <a:ext cx="674208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FE30-F80B-4509-8B3E-3C4CA620F3FD}" type="slidenum">
              <a:rPr b="0" lang="bg-BG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30A-B51F-4742-9176-DA5769B6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8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0BC-5DFF-4424-8328-8E55FBDA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8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8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DEF-1DB1-49E9-B836-1898E231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8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8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8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5CA3-0A61-4E8A-8F37-8670ED94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78DD-72DE-4C4C-BEAD-54AA13FF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BFF0-9F4A-4C17-8F0E-479E4609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49A5-42D0-4BEF-9B7C-B9DEA1ED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AC11-589A-427B-8EFE-332CE226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E05D-E6B4-43BF-8A53-79F10D07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09656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BDD4-6BFA-46C2-80E2-F7DDE444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8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B860-836F-44A8-BFCF-45C553CF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37A-28A5-4354-9CA9-ECF6019D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8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743D-44B8-472B-BAB8-878756E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8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17C6-203B-4363-8468-73F646F9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8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7549-340D-4E29-A464-E6BC1A38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8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8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1F3A-F834-4A03-83D8-29E7121F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570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570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8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8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8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0467-F03F-4838-9CDF-A0D6208D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B7F-0D98-4886-8E16-42C9C3E4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93DF-BDEF-4BD5-A7A5-3C2756C0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7CD-5D10-4EAB-AC07-8CCEE71B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9656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862-6290-4BCD-976A-8B35FE8D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8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587-ABCE-4E27-82D0-C06EA689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8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178-56A1-44A0-B307-290E25D2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570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8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DC9-25CB-457C-BA7F-C34B359A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00440"/>
            <a:ext cx="990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920" y="6476760"/>
            <a:ext cx="6248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8720" y="647676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512B-4952-452A-BF70-78107C52878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96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00440"/>
            <a:ext cx="990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B871-7A2F-44AF-9121-5AC37CD86A63}" type="datetime">
              <a:rPr b="0" lang="bg-BG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447920" y="6476760"/>
            <a:ext cx="6248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848720" y="651636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2A16-7E1C-49BA-9CBF-FCC825C8298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1"/>
          <p:cNvSpPr/>
          <p:nvPr/>
        </p:nvSpPr>
        <p:spPr>
          <a:xfrm>
            <a:off x="7848720" y="6477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F35B-96F0-4ECD-934A-A7081F53F961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23880" y="1773360"/>
            <a:ext cx="790884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Georgia"/>
              </a:rPr>
              <a:t>Оперативна програма </a:t>
            </a:r>
            <a:br>
              <a:rPr sz="3600"/>
            </a:br>
            <a:r>
              <a:rPr b="1" i="1" lang="bg-BG" sz="3600" spc="-1" strike="noStrike">
                <a:solidFill>
                  <a:srgbClr val="000000"/>
                </a:solidFill>
                <a:latin typeface="Georgia"/>
              </a:rPr>
              <a:t>по Фонда за Европейско подпомагане на най-нуждаещите се 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Georgia"/>
              </a:rPr>
              <a:t>2014-2020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333399"/>
                </a:solidFill>
                <a:latin typeface="Georgia"/>
              </a:rPr>
              <a:t>Агенция за социално подпомаг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7848720" y="6516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15BC-900B-4F5F-AD31-7C4CFD6D7B0B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3399"/>
                </a:solidFill>
                <a:latin typeface="Georgia"/>
              </a:rPr>
              <a:t>Фокус на ОП ФЕПНЛ</a:t>
            </a:r>
            <a:r>
              <a:rPr b="1" lang="bg-BG" sz="3600" spc="-1" strike="noStrike">
                <a:solidFill>
                  <a:srgbClr val="333399"/>
                </a:solidFill>
                <a:latin typeface="Georgia"/>
              </a:rPr>
              <a:t> </a:t>
            </a:r>
            <a:br>
              <a:rPr sz="3600"/>
            </a:br>
            <a:r>
              <a:rPr b="0" lang="bg-BG" sz="2400" spc="-1" strike="noStrike">
                <a:solidFill>
                  <a:srgbClr val="333399"/>
                </a:solidFill>
                <a:latin typeface="Arial"/>
              </a:rPr>
              <a:t>съгласно  Регламент (ЕС) № 223/2014 на Европейския парламент и на Съвета от 11 март 2014г.</a:t>
            </a:r>
            <a:br>
              <a:rPr sz="2400"/>
            </a:b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0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Въз основа на анализ на равнището на бедност, групите в риск от бедност и материалните лишения, както и изразходването на доходите за закупуване на храни, България предложи средствата на Оперативната програма от Фонда за европейско подпомагане на най-нуждаещите се лица да бъдат насочени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за подпомагане с храни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, като основна жизнена потребност, чрез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268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Осигуряване на хранителни продукти за период от 7 години чрез закупуването и предоставянето на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индивидуални пакети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 от хранителни продукт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268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Осигуряване на хранителни продукти за разширяване и надграждане на дейността на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обществени трапеза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7848720" y="6516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8A56-3345-44C1-8CC1-2D9230470B5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333399"/>
                </a:solidFill>
                <a:latin typeface="Georgia"/>
              </a:rPr>
              <a:t>Целеви групи на ОП ФЕПНЛ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8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Индивидуални пакети хранителни продукти: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Лица и семейства, подпомагани по реда на Наредба № РД-07-5 от 2008 г. за условията и реда за отпускане на целеви помощи за отопле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2.  Топъл обяд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-258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Лица и семейства на месечно подпомагане с доход по-нисък от диференцирания минимален дох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-258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Неосигурени, самотноживеещи лица с децата си, подпомагани по Закона за семейни помощи за де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-258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Самотно живеещи лица и семейства, получаващи минимални пенсии /за осигурителен стаж и възраст, за инвалидност, социални и наследствени пенсии/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-258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Скитащи и бездомни деца и л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7848720" y="6516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9B9F-C541-44D5-9C0D-11D916FD1D95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640" y="33336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333399"/>
                </a:solidFill>
                <a:latin typeface="Georgia"/>
              </a:rPr>
              <a:t>Целеви групи на ОП ФЕПНЛ (2)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05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В обхвата на целевите групи попадат също и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лица, пострадали от бедствия и аварии 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при форсмажорни обстоятелства, като в тези случаи Управляващият орган взима решение за подпомагане на потърпевшите лица с индивидуални пакети с храна или в трапезарии, след извършване на социална оценка в съответствие със законодателствот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5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Пакетите хранителни продукти се предоставят за нуждите на семейството или домакинствот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5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В случаите на непотърсени и неполучени индивидуални пакети от хранителни продукти от допустимите целеви групи, се предвиждат възможности същите ще бъдат разпределяни на партньорските организации за нуждите на обществените трапезар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5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250920" y="898560"/>
            <a:ext cx="8569080" cy="63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Управляващият орган ще определи бенефициент – публичен орган за закупуване на хранителни продукти за предоставяне на индивидуални пакети по програмата.</a:t>
            </a: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артньор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Съхранението, раздаването и разпределението на </a:t>
            </a:r>
            <a:r>
              <a:rPr b="1" lang="bg-BG" sz="2000" spc="-1" strike="noStrike">
                <a:solidFill>
                  <a:srgbClr val="000000"/>
                </a:solidFill>
                <a:latin typeface="Georgia"/>
              </a:rPr>
              <a:t>индивидуалните пакети с храни</a:t>
            </a: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 ще се извършва от партньорски организации, избрани при спазване на критерии, заложени в оперативната програма, при спазване на изискванията за наличен технически и финансов капацитет, организационни работни процеси, осигурена складова база, капацитет за реализиране на съпътстващи мерки, в допълнение към предоставянето на хра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Партньорската/ите организация/и следва да осигури пълно териториално покритие на територията на Република Бъ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Допустими са обединения на няколко организации, оглед постигане на пълно териториално покритие и в случай, че дадената организация-кандидат не може сама да отговори на това изискв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971640" y="260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3399"/>
                </a:solidFill>
                <a:latin typeface="Georgia"/>
              </a:rPr>
              <a:t>Реализация</a:t>
            </a:r>
            <a:r>
              <a:rPr b="0" i="1" lang="bg-BG" sz="2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i="1" lang="bg-BG" sz="2800" spc="-1" strike="noStrike">
                <a:solidFill>
                  <a:srgbClr val="333399"/>
                </a:solidFill>
                <a:latin typeface="Georgia"/>
              </a:rPr>
              <a:t>на програм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250920" y="898560"/>
            <a:ext cx="85690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Партньори за предоставянето на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топъл обяд 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ще бъдат публичноправни организации, доставчици на услугата „обществена трапезария“. Те ще се включват в програмата при заявено от тях желание,  при спазване на  детайлно разработени процедури за участие и подбор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За партньори ще бъдат поканени публичноправни организации на територията страната- доставчици на услугата „обществени трапезарии“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В рамките на изпълнението на програмата ще бъде създадена 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Направляваща група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, която ще получава информация за напредъка и резултатите от реализация на програмата и ще разглежда предложение за разпределението на финансовия ресур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971640" y="260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333399"/>
                </a:solidFill>
                <a:latin typeface="Georgia"/>
              </a:rPr>
              <a:t>Реализация</a:t>
            </a:r>
            <a:r>
              <a:rPr b="0" i="1" lang="bg-BG" sz="2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i="1" lang="bg-BG" sz="2800" spc="-1" strike="noStrike">
                <a:solidFill>
                  <a:srgbClr val="333399"/>
                </a:solidFill>
                <a:latin typeface="Georgia"/>
              </a:rPr>
              <a:t>на програмат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358560"/>
            <a:ext cx="849636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eorgia"/>
              </a:rPr>
              <a:t>Разпределение на средствата                             по ОП ФЕПНЛ 2014 – 2020 г. </a:t>
            </a:r>
            <a:br>
              <a:rPr sz="2800"/>
            </a:br>
            <a:br>
              <a:rPr sz="2000"/>
            </a:br>
            <a:r>
              <a:rPr b="1" lang="bg-BG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Text Box 39"/>
          <p:cNvSpPr/>
          <p:nvPr/>
        </p:nvSpPr>
        <p:spPr>
          <a:xfrm>
            <a:off x="826920" y="1052640"/>
            <a:ext cx="77058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Оперативната програма е на  обща стой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241 177 455 лева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 (123 312 075 евро), в т.ч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- 85% Евопейско финансира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205 000 838 лв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. (104 815 264 евр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- 15 % Национално финанси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36 176 617 лв.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 (18 496 811 евр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1"/>
          <p:cNvSpPr/>
          <p:nvPr/>
        </p:nvSpPr>
        <p:spPr>
          <a:xfrm>
            <a:off x="324000" y="3860640"/>
            <a:ext cx="8351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Разпределението по мерки  рамките на програмата, е както следва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Мерки свързани със закупуването на хранителни продукти –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229 118 584 лв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. (117 146 472 евр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Техническа помощ - </a:t>
            </a:r>
            <a:r>
              <a:rPr b="1" lang="bg-BG" sz="2400" spc="-1" strike="noStrike">
                <a:solidFill>
                  <a:srgbClr val="000000"/>
                </a:solidFill>
                <a:latin typeface="Georgia"/>
              </a:rPr>
              <a:t>12 058 871 лв.</a:t>
            </a:r>
            <a:r>
              <a:rPr b="0" lang="bg-BG" sz="2400" spc="-1" strike="noStrike">
                <a:solidFill>
                  <a:srgbClr val="000000"/>
                </a:solidFill>
                <a:latin typeface="Georgia"/>
              </a:rPr>
              <a:t> ( 6 165 603 евр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1"/>
          <p:cNvSpPr/>
          <p:nvPr/>
        </p:nvSpPr>
        <p:spPr>
          <a:xfrm>
            <a:off x="7848720" y="6477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F17C-AF24-44D7-8AE3-7A0A7C7DD12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11280" y="1628640"/>
            <a:ext cx="7921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eorgia"/>
              </a:rPr>
              <a:t>   </a:t>
            </a:r>
            <a:r>
              <a:rPr b="1" lang="bg-BG" sz="2800" spc="-1" strike="noStrike">
                <a:solidFill>
                  <a:srgbClr val="333399"/>
                </a:solidFill>
                <a:latin typeface="Georgia"/>
              </a:rPr>
              <a:t>БЛАГОДАРЯ ВИ ЗА ВНИМАНИЕ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55640" y="2349360"/>
            <a:ext cx="7704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20:37:36Z</dcterms:created>
  <dc:creator>Asp-mo21</dc:creator>
  <dc:description/>
  <dc:language>en-US</dc:language>
  <cp:lastModifiedBy>asp-mo23</cp:lastModifiedBy>
  <dcterms:modified xsi:type="dcterms:W3CDTF">2014-10-06T10:02:59Z</dcterms:modified>
  <cp:revision>219</cp:revision>
  <dc:subject/>
  <dc:title>Презентация</dc:title>
</cp:coreProperties>
</file>