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31.png" ContentType="image/png"/>
  <Override PartName="/ppt/media/image29.wmf" ContentType="image/x-wmf"/>
  <Override PartName="/ppt/media/image39.png" ContentType="image/png"/>
  <Override PartName="/ppt/media/image9.png" ContentType="image/png"/>
  <Override PartName="/ppt/media/image86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0.png" ContentType="image/png"/>
  <Override PartName="/ppt/media/image50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8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64.png" ContentType="image/png"/>
  <Override PartName="/ppt/media/image99.png" ContentType="image/png"/>
  <Override PartName="/ppt/media/image87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5.jpeg" ContentType="image/jpeg"/>
  <Override PartName="/ppt/media/image61.png" ContentType="image/png"/>
  <Override PartName="/ppt/media/image97.png" ContentType="image/png"/>
  <Override PartName="/ppt/media/image60.png" ContentType="image/png"/>
  <Override PartName="/ppt/media/image95.png" ContentType="image/png"/>
  <Override PartName="/ppt/media/image94.png" ContentType="image/png"/>
  <Override PartName="/ppt/media/image89.png" ContentType="image/png"/>
  <Override PartName="/ppt/media/image62.png" ContentType="image/png"/>
  <Override PartName="/ppt/media/image96.jpeg" ContentType="image/jpeg"/>
  <Override PartName="/ppt/media/image16.png" ContentType="image/png"/>
  <Override PartName="/ppt/media/image81.png" ContentType="image/png"/>
  <Override PartName="/ppt/media/image77.png" ContentType="image/png"/>
  <Override PartName="/ppt/media/image40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92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6.jpeg" ContentType="image/jpeg"/>
  <Override PartName="/ppt/media/image71.png" ContentType="image/png"/>
  <Override PartName="/ppt/media/image82.png" ContentType="image/png"/>
  <Override PartName="/ppt/media/image17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0.png" ContentType="image/png"/>
  <Override PartName="/ppt/media/image25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dt" idx="45"/>
          </p:nvPr>
        </p:nvSpPr>
        <p:spPr>
          <a:xfrm>
            <a:off x="380844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sldImg"/>
          </p:nvPr>
        </p:nvSpPr>
        <p:spPr>
          <a:xfrm>
            <a:off x="91872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ftr" idx="46"/>
          </p:nvPr>
        </p:nvSpPr>
        <p:spPr>
          <a:xfrm>
            <a:off x="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 type="sldNum" idx="47"/>
          </p:nvPr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747C-1743-4596-9F9C-965E85B1FFB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B11-596C-439B-A6AC-56FCCA72CCB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222-AF19-4EA6-8E0B-4766881511B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5A7B-0F8D-42E6-AA4A-933D1A3D5E8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35D1-6D07-4981-A44D-37B89580722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2E97-D278-4741-825A-4812D2D6B45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ECDE-5EA7-432D-886B-E083B46DB38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4CB6-864F-4CE8-9071-0FD18BF8BAC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B44-536B-4949-9258-7BCEE2C9B0D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F4A6-8766-46CF-B5FB-14FC39344AC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9B91-E49D-42E5-913F-AD370AED834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C836-72AC-4F27-83ED-74BC6A5C098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595-D378-480A-B0E9-8895D70077B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600" spc="-1" strike="noStrike">
                <a:solidFill>
                  <a:srgbClr val="42568d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 ресурс за периода 2014-202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вропейско финансира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лн. евр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те оперативни прогр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422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морско дело и рибарст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развитие на селските райо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339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 сума по С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8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за европейско подпомагане на най-нуждаещите се лиц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ни плащания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33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ъм за свързване на Европ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0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 териториално сътрудничеств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6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о за Бълг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 8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Сумата за 2014 г. е съгласно таблица 2, параграф 4 от Приложение ІІ на Регламент (ЕС) 1310/201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 периода 2015-2020 е съгласно приложение ІІ от Регламент (ЕС) 1307/20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A28C-222B-4658-A3C9-46A240BED2F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78E-37C6-45CB-AEF3-A1D1A523243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6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6B84-5C79-43D8-B502-BA0BA0AA788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89E3-0C36-495F-9634-C8ADA5C32D5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148E-557E-4CC4-ABF7-9A0A3779BC6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D361-BBDB-4355-9A00-FF9829279F7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6EC2-9A14-4697-8356-4AEE54DAC82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C679-4672-4144-8937-766C9CEBE80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8DF-3513-4B3C-A5C8-5780451B294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203-B817-4A91-8A45-997FFA01E57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68E3-D047-475E-8438-B7D38888210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D740-C82A-4AAD-9189-8A55D1E6A09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0D0B-FE30-4867-9B38-A11C70CA903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71040" y="4641480"/>
            <a:ext cx="53816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Slide Number Placeholder 3"/>
          <p:cNvSpPr/>
          <p:nvPr/>
        </p:nvSpPr>
        <p:spPr>
          <a:xfrm>
            <a:off x="3808440" y="9282240"/>
            <a:ext cx="2914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E4D-87FD-4BAF-A71B-1AA45CCFE10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4D345-5DBD-4A9B-AFB2-227BF21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355E8-D28A-4CBD-93AF-3961AE3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93415-3970-401F-B807-ACE4D9F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579FD-AFC3-48B3-9F41-206D7E7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0EEE5-A1B5-4ACB-9D35-FC781B0F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D5D3C-DF30-45D7-BAF7-C33C6AE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ED904-1A9E-4774-AB27-93FBBE31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A10ED-B18D-4464-BCC9-0DBA461B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89E00-C0CA-4C30-87C5-54818B77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91ADDA-207D-45C3-B51F-AB79DF36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51E9D7-E13E-401E-9D71-96CEB64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A5BF4-DB61-4D9D-87BD-DE031D44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E9A561-1B30-4016-9B5A-6ECE3786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D2D8F-4A1F-454B-8FAF-39F3E9F1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DAE23C-FD56-4DBB-99E1-815BF7B3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2D4B1D-4A33-4CB2-B3B3-ABA1E23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2D7846-B433-433B-81C6-5B638D0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EFE7A-DDE2-4DF9-BB16-038AB66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7547E8-A131-4786-88AF-60809C92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E4996-1FF0-46BA-8F7C-EEC337D7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29C81-8257-43AE-8EAB-8DEF15DE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1FFBE0-3C04-41B4-A6FD-B76025B2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BDB66C-B562-45FE-B385-27068B74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80018-6B7C-492D-9922-2DBBF1CF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D5DA6C-CBAE-4EF0-9529-8DE1E865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0D9F1E-E26A-4D8F-B98A-B1CF293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A7264-57BB-4967-A504-D703261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59E159-D18C-44B6-9C19-29D959A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EB3B5-3100-4AC1-9978-FF5D84C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E477D-8488-408C-8B8B-B11473E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A0D8-A24E-4E0A-9983-C0C98830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959B7A-E9DA-4D69-9532-45729D0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5B2B5-76D8-48CE-9EB4-1524679F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2A9494-63B2-4B96-B99A-FA06C4A9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F51457-B5C2-4CFD-9F03-0E7B53DA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ABA088-74E7-4D81-8564-E8CBF083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D03A84-8142-4DE3-BD94-174A5F54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6E1AB-49AB-4ADF-A180-3F56C52E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A91851-82E9-42F3-A6BC-4A665923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01851A-2A8A-4AC2-A321-C503D407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100282-24BC-4529-B850-DBB35AC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E5AB-B0C7-40F8-93FE-5E1DCB7F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5BA0BB-372B-47BB-917C-A6A82342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E5A8F3-C86A-4782-B507-C87A0900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C2E19C-8453-4B67-92CD-EACCDE91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68E104-7E3B-4546-A5B8-664887D9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27AA9-FC0F-4732-B400-4A4E69C0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2B5FD4-C68F-4CD0-B7A9-0AECFDBE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B01EB5-F5C8-4E51-9849-5D371548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44AEC-A398-496D-975B-4E97B9EC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0BCF5-1F80-4A7A-A24C-3B5182A9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C272E6-C5C2-498F-B69B-186B20A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F82F-A325-4F77-AAD8-820DCBC4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D50068-2429-4145-8C7E-5CD2F3E6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FCD8AF-BEA2-4D23-944A-5D56EC4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42C4DD-58BF-4943-8989-5D7BE53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749CE2-360B-4037-AF26-CF1551F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A4B03-6A95-4B1E-B9A4-DF368A9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89820B-75FE-4DDB-951F-A5594648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6BE392-AAE2-4C86-8FDB-61CF87E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128D41-BA43-4BE1-8013-37084535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74CB38-0A78-4C6B-A5D5-A5EB93D6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3230EB-87C8-4BD8-BDE2-BF97477F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6B25-B56E-4F55-A0E5-2AD54E1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B9B471-DAB7-48F0-A1AE-1EF6BA22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CE3D37-B06F-440A-9288-AB6A5151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693E02-A014-41F9-8945-D1992A9A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18C5E9-C459-4AE1-B2D4-753D0ED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2394F4-7FCD-438D-8FC7-3B4D1D88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9712B4-4632-48F6-986D-B3E4F695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C18028-77B8-4869-9501-051E8385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749CA5-6D13-43F2-88FB-D21110B1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CBB343-0D65-4FFA-AD2B-8888CC40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FB8FA8-31C4-41B5-954A-4944EBAE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245B-E9D4-47F1-ACE1-935B2D09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E57E30-B7AE-4910-A1E4-E6A0633E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4C815D-43CC-41E1-AD3D-9E7331D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F89868-2CB9-4BE1-B836-545B5430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6DDAA8-C1EA-40B6-B52F-2CE914F3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1D4690-C4D7-45DF-A288-201AF908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F171E8-7641-40D5-B856-D14B314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DF1FA4-871D-4380-9913-690C2B6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FEEDF6-4436-47EC-AFF8-8E043D3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693A35-84B1-444B-B12B-972B64C9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19EED2-6010-4629-BFBA-4292A2B0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0932-D3ED-4E79-B3CE-4892B24F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CC4336-A8C9-4D7A-B0A7-BC8E2489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CE4254-997A-4057-912D-86C9B23D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C809B6-186E-4855-8914-B6241889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1BDE5D-C715-4FD6-AD78-7CB735D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0324FF-6FB3-4AB2-B655-A9733CC7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DA7DCB-4557-4894-9FBA-E5E908E4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87C6AB-6438-4240-B44A-8FBEE6FF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541752-B77E-45FF-8BF3-6312054F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68ED3B-FA2C-4AD7-9942-2B16418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1D9C37-C086-4201-A3CC-472C7286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5F1D-931A-43B0-80C4-B8F2297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4633F2-D1B4-4D53-98C4-EE924A41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93A556-41D5-45F7-8939-59D586DC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5529FF-A93E-49E4-98CD-FA14ED51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93BC13-FE9E-4788-9D79-5D489C3F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43069C-7502-4330-B194-D2CAD772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ECC57C-5D5E-444D-BE4C-68C2D116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BF3963-F793-4407-86FD-68909A26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382E34-B5D8-4A32-9779-C611853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87EC72-32C3-4581-B388-C3C8CDB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B04C60-63A9-4610-B0CF-E753965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97F9-8258-49A8-94DD-C34125F7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645B92-608E-4B63-8DA8-FD6FE8D8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D8CB93-945A-4812-8B13-D8A73E2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A2227F-E322-48BB-A924-042693A9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192200-8622-4CB7-9B69-9FF1274D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EDB250-1B17-4578-A93F-414808D9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D578-AA62-4968-BC04-1F996A1F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16A3-0492-40EE-ADE0-8102080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AF2B-6BCA-489D-B379-9601C49F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3554-6A39-45BC-B21C-A949EEA2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7E73-BFB1-4709-B81C-3EAABC63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534E-8A97-40C9-AE76-A360AAA3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2FC-11F6-4192-8721-590C588B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3FAC-EC74-4E16-85B9-FADC2D0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0FF4-4372-43F1-B014-EB04DFB0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2E9A-F153-4718-8ADC-E4831F47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8259-A889-4CB2-B2C5-E3F994B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C849-18BA-440B-A1A2-A0CB9EC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2E82-5399-4F4E-A75B-BC3624CA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B2C2-2163-49DC-8697-A0E4C33A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791-246A-4861-B1F5-CBE1B8A1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7BA-1FEB-4845-BD50-ED8F4EFE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B44F-ADB9-4F5C-9A48-42981554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207D-0237-4036-8C85-CF52391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AD67-14AB-472B-AE11-F4B9CA4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7BB8E-8A9A-4BAF-921A-5CA47DCA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E0F8-8B56-40A4-8258-A62EFFF9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A042-3369-4D82-BC9E-075EE77D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334A1-6DC5-4D41-AFD8-0C11800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A3F3-DE14-42D5-9EB1-0E2B508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2224-D4A2-442C-9CF5-1602E2F8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203E-3CA4-440F-A47D-B850A8B5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E4B1-2B4F-4458-AA86-0AFB4BA9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780D-B014-4876-9818-3810524C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8E02D-2CE1-4181-9B13-670A92DE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EBE1A-1774-4280-834F-04995387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AD8A5-72F5-40D3-8E67-B20B84E2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3E1FD-689E-43F0-B44E-881A452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C0CB8-5ACD-4295-BD64-FC9876F6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E0D46-1250-436F-B022-A93EBCDE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BF5FB-3764-46C4-8652-9DACCEA3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CB54C-A9E8-4C7B-AE33-25E1FB5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237CF-82B0-4A49-8F5B-924D11D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1FF39-08B9-4298-A5AC-83D956F0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36346-906D-458E-87D9-74A61C90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73BAC-BE00-4040-8622-70E23F14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4E577-63D7-4690-8517-0DCC72B4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98A1D-6BCD-4256-B066-E78FC5B5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10C5B-FA35-43D0-BA79-7A148B6F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2280B-9898-4D1A-A705-894E9DE4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0D2A06-F5E4-4F85-B37B-F66F013A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9D938-8ED6-4664-BBCE-9B3C532D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1F105-D4F3-4C49-9238-846E5DB8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FA6E5-B66B-493F-82F5-7E74C009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A94A9-B587-42FF-A167-4F22408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7C562F-115E-4AB0-A01D-363F9E0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9B994-C1ED-4CAF-894D-185D317A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7461D-DF0F-420B-9CFF-3A297B96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68206-E72E-47C1-9ECD-0FE22837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C9B09-A056-4CCC-B6F6-E4791BF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AD58A-D244-4C58-82FA-C122CA7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7F90-6164-4A52-AAEE-81E326EDDC2A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BE91-3CC0-4354-A8CB-C67FC804BBE5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1D3-818A-4293-B85D-37DC46938341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8DD6-F9B3-4E28-91FA-78760168D96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D88C-F1E6-4E09-A894-11181376F410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FE27-EF5B-455D-AA54-DA59C401D708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0A12-D697-4191-AB14-BFDC11F454AA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A30E-300E-4107-A19D-6F3DFAAB456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2E30-07D2-4BFE-A309-DEFAB72B8762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BA98-581D-4515-85BC-A101E8049E8C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DE4F-E390-488C-948D-5D08CA79F5C5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AA92-39B6-430D-87CB-35EC18E5D683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0E49-9B1F-4A03-93FA-E018D794CB2E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ECAE-1E0B-473C-861E-A9F180A6F00F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AEE-6E2B-4498-9D2E-4A15DA0CB42F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0D69-1A46-4442-A995-209867145EB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37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40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AC79-5D6C-4FA8-96E0-CF4889AAEAFC}" type="slidenum">
              <a:rPr b="0" lang="bg-BG" sz="12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E042-EC7F-4EC7-AAD1-145DF47ED098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7D7-EBC8-4E05-AE94-47CA295613E0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604F-B27D-47FA-93BE-3E90FB60E7C8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64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167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Rectangle 9"/>
          <p:cNvGrpSpPr/>
          <p:nvPr/>
        </p:nvGrpSpPr>
        <p:grpSpPr>
          <a:xfrm>
            <a:off x="0" y="0"/>
            <a:ext cx="749160" cy="6858000"/>
            <a:chOff x="0" y="0"/>
            <a:chExt cx="749160" cy="6858000"/>
          </a:xfrm>
        </p:grpSpPr>
        <p:pic>
          <p:nvPicPr>
            <p:cNvPr id="171" name="Rectangle 9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745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749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3" name="Group 10" descr=""/>
          <p:cNvPicPr/>
          <p:nvPr/>
        </p:nvPicPr>
        <p:blipFill>
          <a:blip r:embed="rId6"/>
          <a:stretch/>
        </p:blipFill>
        <p:spPr>
          <a:xfrm>
            <a:off x="7467480" y="208080"/>
            <a:ext cx="658800" cy="431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7F6-CD13-4F51-BCAE-2E8C37070FB2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DA6D-B79B-4C89-9446-342E868F608C}" type="slidenum">
              <a:rPr b="0" lang="bg-BG" sz="14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Rectangle 11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21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Rectangle 12"/>
          <p:cNvGrpSpPr/>
          <p:nvPr/>
        </p:nvGrpSpPr>
        <p:grpSpPr>
          <a:xfrm>
            <a:off x="0" y="0"/>
            <a:ext cx="231840" cy="6858000"/>
            <a:chOff x="0" y="0"/>
            <a:chExt cx="231840" cy="6858000"/>
          </a:xfrm>
        </p:grpSpPr>
        <p:pic>
          <p:nvPicPr>
            <p:cNvPr id="219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31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0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1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D6EA-9433-441E-AB8B-994F2AB51F70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670C-2778-4000-863C-1F05E57E18FD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1475-7121-4A10-BDCB-73199346E8D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8AAE-F17B-4154-8073-BD15524F95AC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516-5AE6-4E52-8CD1-5E9368CB43A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8A10-EA65-4B84-87D3-BC1522AE929E}" type="datetime">
              <a:rPr b="0" lang="bg-BG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5FDB-19F0-4A59-9186-EA7F4311FAD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3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35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43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61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/>
          <p:cNvSpPr/>
          <p:nvPr/>
        </p:nvSpPr>
        <p:spPr>
          <a:xfrm>
            <a:off x="6688080" y="1700280"/>
            <a:ext cx="21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Calibri"/>
              </a:rPr>
              <a:t>ОБЛАСТЕН ИНФОРМАЦИОНЕН ЦЕНТЪР - КЪРДЖАЛ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619280" y="6165720"/>
            <a:ext cx="5402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BG161PO002-3.3.02-00012-C001”</a:t>
            </a: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Създаване на Областен информационен център в гр.Кърджали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”, </a:t>
            </a: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финансиран от Оперативна програма „Техническа помощ”, съфинансирана от Европейския съюз чрез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Европейския фонд за регионално развитие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Picture 4" descr=""/>
          <p:cNvPicPr/>
          <p:nvPr/>
        </p:nvPicPr>
        <p:blipFill>
          <a:blip r:embed="rId2"/>
          <a:stretch/>
        </p:blipFill>
        <p:spPr>
          <a:xfrm>
            <a:off x="593640" y="2422440"/>
            <a:ext cx="7956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Title 1" descr=""/>
          <p:cNvPicPr/>
          <p:nvPr/>
        </p:nvPicPr>
        <p:blipFill>
          <a:blip r:embed="rId1"/>
          <a:stretch/>
        </p:blipFill>
        <p:spPr>
          <a:xfrm>
            <a:off x="237960" y="255600"/>
            <a:ext cx="8436240" cy="853920"/>
          </a:xfrm>
          <a:prstGeom prst="rect">
            <a:avLst/>
          </a:prstGeom>
          <a:ln w="0">
            <a:noFill/>
          </a:ln>
        </p:spPr>
      </p:pic>
      <p:grpSp>
        <p:nvGrpSpPr>
          <p:cNvPr id="857" name="TextBox 3"/>
          <p:cNvGrpSpPr/>
          <p:nvPr/>
        </p:nvGrpSpPr>
        <p:grpSpPr>
          <a:xfrm>
            <a:off x="536400" y="1706400"/>
            <a:ext cx="7937640" cy="457200"/>
            <a:chOff x="536400" y="1706400"/>
            <a:chExt cx="7937640" cy="457200"/>
          </a:xfrm>
        </p:grpSpPr>
        <p:pic>
          <p:nvPicPr>
            <p:cNvPr id="858" name="TextBox 3" descr=""/>
            <p:cNvPicPr/>
            <p:nvPr/>
          </p:nvPicPr>
          <p:blipFill>
            <a:blip r:embed="rId2"/>
            <a:stretch/>
          </p:blipFill>
          <p:spPr>
            <a:xfrm>
              <a:off x="536400" y="1706400"/>
              <a:ext cx="7937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560520" y="173340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0" name="TextBox 4"/>
          <p:cNvGrpSpPr/>
          <p:nvPr/>
        </p:nvGrpSpPr>
        <p:grpSpPr>
          <a:xfrm>
            <a:off x="506520" y="2219400"/>
            <a:ext cx="7935840" cy="457200"/>
            <a:chOff x="506520" y="2219400"/>
            <a:chExt cx="7935840" cy="457200"/>
          </a:xfrm>
        </p:grpSpPr>
        <p:pic>
          <p:nvPicPr>
            <p:cNvPr id="861" name="TextBox 4" descr=""/>
            <p:cNvPicPr/>
            <p:nvPr/>
          </p:nvPicPr>
          <p:blipFill>
            <a:blip r:embed="rId3"/>
            <a:stretch/>
          </p:blipFill>
          <p:spPr>
            <a:xfrm>
              <a:off x="506520" y="2219400"/>
              <a:ext cx="7935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530280" y="224460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TextBox 5"/>
          <p:cNvGrpSpPr/>
          <p:nvPr/>
        </p:nvGrpSpPr>
        <p:grpSpPr>
          <a:xfrm>
            <a:off x="506520" y="2730600"/>
            <a:ext cx="7935840" cy="798480"/>
            <a:chOff x="506520" y="2730600"/>
            <a:chExt cx="7935840" cy="798480"/>
          </a:xfrm>
        </p:grpSpPr>
        <p:pic>
          <p:nvPicPr>
            <p:cNvPr id="864" name="TextBox 5" descr=""/>
            <p:cNvPicPr/>
            <p:nvPr/>
          </p:nvPicPr>
          <p:blipFill>
            <a:blip r:embed="rId4"/>
            <a:stretch/>
          </p:blipFill>
          <p:spPr>
            <a:xfrm>
              <a:off x="506520" y="2730600"/>
              <a:ext cx="7935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"/>
            <p:cNvSpPr/>
            <p:nvPr/>
          </p:nvSpPr>
          <p:spPr>
            <a:xfrm>
              <a:off x="547560" y="277344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TextBox 6"/>
          <p:cNvGrpSpPr/>
          <p:nvPr/>
        </p:nvGrpSpPr>
        <p:grpSpPr>
          <a:xfrm>
            <a:off x="506520" y="3638520"/>
            <a:ext cx="7935840" cy="804960"/>
            <a:chOff x="506520" y="3638520"/>
            <a:chExt cx="7935840" cy="804960"/>
          </a:xfrm>
        </p:grpSpPr>
        <p:pic>
          <p:nvPicPr>
            <p:cNvPr id="867" name="TextBox 6" descr=""/>
            <p:cNvPicPr/>
            <p:nvPr/>
          </p:nvPicPr>
          <p:blipFill>
            <a:blip r:embed="rId5"/>
            <a:stretch/>
          </p:blipFill>
          <p:spPr>
            <a:xfrm>
              <a:off x="506520" y="3638520"/>
              <a:ext cx="79358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50800" y="368460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Растеж, основан на ефективна публична администрация и съдебна систем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8"/>
          <p:cNvSpPr/>
          <p:nvPr/>
        </p:nvSpPr>
        <p:spPr>
          <a:xfrm>
            <a:off x="468360" y="1628640"/>
            <a:ext cx="8064360" cy="343404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TextBox 10"/>
          <p:cNvGrpSpPr/>
          <p:nvPr/>
        </p:nvGrpSpPr>
        <p:grpSpPr>
          <a:xfrm>
            <a:off x="506520" y="4548240"/>
            <a:ext cx="7935840" cy="457200"/>
            <a:chOff x="506520" y="4548240"/>
            <a:chExt cx="7935840" cy="457200"/>
          </a:xfrm>
        </p:grpSpPr>
        <p:pic>
          <p:nvPicPr>
            <p:cNvPr id="871" name="TextBox 10" descr=""/>
            <p:cNvPicPr/>
            <p:nvPr/>
          </p:nvPicPr>
          <p:blipFill>
            <a:blip r:embed="rId6"/>
            <a:stretch/>
          </p:blipFill>
          <p:spPr>
            <a:xfrm>
              <a:off x="506520" y="4548240"/>
              <a:ext cx="7935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30280" y="457344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Title 1" descr=""/>
          <p:cNvPicPr/>
          <p:nvPr/>
        </p:nvPicPr>
        <p:blipFill>
          <a:blip r:embed="rId1"/>
          <a:stretch/>
        </p:blipFill>
        <p:spPr>
          <a:xfrm>
            <a:off x="371520" y="281160"/>
            <a:ext cx="5499000" cy="1157040"/>
          </a:xfrm>
          <a:prstGeom prst="rect">
            <a:avLst/>
          </a:prstGeom>
          <a:ln w="0">
            <a:noFill/>
          </a:ln>
        </p:spPr>
      </p:pic>
      <p:grpSp>
        <p:nvGrpSpPr>
          <p:cNvPr id="874" name="TextBox 3"/>
          <p:cNvGrpSpPr/>
          <p:nvPr/>
        </p:nvGrpSpPr>
        <p:grpSpPr>
          <a:xfrm>
            <a:off x="536400" y="1712880"/>
            <a:ext cx="7937640" cy="1017720"/>
            <a:chOff x="536400" y="1712880"/>
            <a:chExt cx="7937640" cy="1017720"/>
          </a:xfrm>
        </p:grpSpPr>
        <p:pic>
          <p:nvPicPr>
            <p:cNvPr id="875" name="TextBox 3" descr=""/>
            <p:cNvPicPr/>
            <p:nvPr/>
          </p:nvPicPr>
          <p:blipFill>
            <a:blip r:embed="rId2"/>
            <a:stretch/>
          </p:blipFill>
          <p:spPr>
            <a:xfrm>
              <a:off x="536400" y="1712880"/>
              <a:ext cx="79376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588960" y="1770120"/>
              <a:ext cx="782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TextBox 4"/>
          <p:cNvGrpSpPr/>
          <p:nvPr/>
        </p:nvGrpSpPr>
        <p:grpSpPr>
          <a:xfrm>
            <a:off x="536400" y="2822400"/>
            <a:ext cx="7937640" cy="1017720"/>
            <a:chOff x="536400" y="2822400"/>
            <a:chExt cx="7937640" cy="1017720"/>
          </a:xfrm>
        </p:grpSpPr>
        <p:pic>
          <p:nvPicPr>
            <p:cNvPr id="878" name="TextBox 4" descr=""/>
            <p:cNvPicPr/>
            <p:nvPr/>
          </p:nvPicPr>
          <p:blipFill>
            <a:blip r:embed="rId3"/>
            <a:stretch/>
          </p:blipFill>
          <p:spPr>
            <a:xfrm>
              <a:off x="536400" y="2822400"/>
              <a:ext cx="79376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588960" y="2878200"/>
              <a:ext cx="782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TextBox 5"/>
          <p:cNvGrpSpPr/>
          <p:nvPr/>
        </p:nvGrpSpPr>
        <p:grpSpPr>
          <a:xfrm>
            <a:off x="536400" y="3925800"/>
            <a:ext cx="7937640" cy="804960"/>
            <a:chOff x="536400" y="3925800"/>
            <a:chExt cx="7937640" cy="804960"/>
          </a:xfrm>
        </p:grpSpPr>
        <p:pic>
          <p:nvPicPr>
            <p:cNvPr id="881" name="TextBox 5" descr=""/>
            <p:cNvPicPr/>
            <p:nvPr/>
          </p:nvPicPr>
          <p:blipFill>
            <a:blip r:embed="rId4"/>
            <a:stretch/>
          </p:blipFill>
          <p:spPr>
            <a:xfrm>
              <a:off x="536400" y="3925800"/>
              <a:ext cx="79376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577800" y="397188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3" name="TextBox 6"/>
          <p:cNvGrpSpPr/>
          <p:nvPr/>
        </p:nvGrpSpPr>
        <p:grpSpPr>
          <a:xfrm>
            <a:off x="560520" y="4913280"/>
            <a:ext cx="7943760" cy="804960"/>
            <a:chOff x="560520" y="4913280"/>
            <a:chExt cx="7943760" cy="804960"/>
          </a:xfrm>
        </p:grpSpPr>
        <p:pic>
          <p:nvPicPr>
            <p:cNvPr id="884" name="TextBox 6" descr=""/>
            <p:cNvPicPr/>
            <p:nvPr/>
          </p:nvPicPr>
          <p:blipFill>
            <a:blip r:embed="rId5"/>
            <a:stretch/>
          </p:blipFill>
          <p:spPr>
            <a:xfrm>
              <a:off x="560520" y="4913280"/>
              <a:ext cx="79437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608040" y="4957920"/>
              <a:ext cx="784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Стратегически приоритет 4 </a:t>
              </a:r>
              <a:r>
                <a:rPr b="0" lang="bg-BG" sz="2000" spc="-1" strike="noStrike">
                  <a:solidFill>
                    <a:srgbClr val="4e2929"/>
                  </a:solidFill>
                  <a:latin typeface="Calibri"/>
                </a:rPr>
                <a:t>(хоризонтален)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: Добро управление и достъп да качествени административни услуг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Rectangle 8"/>
          <p:cNvSpPr/>
          <p:nvPr/>
        </p:nvSpPr>
        <p:spPr>
          <a:xfrm>
            <a:off x="468360" y="1628640"/>
            <a:ext cx="8064360" cy="43102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TextBox 3"/>
          <p:cNvGrpSpPr/>
          <p:nvPr/>
        </p:nvGrpSpPr>
        <p:grpSpPr>
          <a:xfrm>
            <a:off x="523800" y="3108240"/>
            <a:ext cx="7943760" cy="1890720"/>
            <a:chOff x="523800" y="3108240"/>
            <a:chExt cx="7943760" cy="1890720"/>
          </a:xfrm>
        </p:grpSpPr>
        <p:pic>
          <p:nvPicPr>
            <p:cNvPr id="888" name="TextBox 3" descr=""/>
            <p:cNvPicPr/>
            <p:nvPr/>
          </p:nvPicPr>
          <p:blipFill>
            <a:blip r:embed="rId1"/>
            <a:stretch/>
          </p:blipFill>
          <p:spPr>
            <a:xfrm>
              <a:off x="523800" y="3108240"/>
              <a:ext cx="794376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623880" y="3203640"/>
              <a:ext cx="77389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дравен статус и здравеопазван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заетост и пазар на труд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TextBox 4"/>
          <p:cNvGrpSpPr/>
          <p:nvPr/>
        </p:nvGrpSpPr>
        <p:grpSpPr>
          <a:xfrm>
            <a:off x="506520" y="4932360"/>
            <a:ext cx="7935840" cy="1144440"/>
            <a:chOff x="506520" y="4932360"/>
            <a:chExt cx="7935840" cy="1144440"/>
          </a:xfrm>
        </p:grpSpPr>
        <p:pic>
          <p:nvPicPr>
            <p:cNvPr id="891" name="TextBox 4" descr=""/>
            <p:cNvPicPr/>
            <p:nvPr/>
          </p:nvPicPr>
          <p:blipFill>
            <a:blip r:embed="rId2"/>
            <a:stretch/>
          </p:blipFill>
          <p:spPr>
            <a:xfrm>
              <a:off x="506520" y="4932360"/>
              <a:ext cx="793584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66640" y="4994280"/>
              <a:ext cx="781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елско, горско и рибно стоп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3" name="Rectangle 8"/>
          <p:cNvSpPr/>
          <p:nvPr/>
        </p:nvSpPr>
        <p:spPr>
          <a:xfrm>
            <a:off x="439560" y="476280"/>
            <a:ext cx="8064720" cy="606420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4" name="TextBox 10"/>
          <p:cNvGrpSpPr/>
          <p:nvPr/>
        </p:nvGrpSpPr>
        <p:grpSpPr>
          <a:xfrm>
            <a:off x="506520" y="6083280"/>
            <a:ext cx="7935840" cy="463680"/>
            <a:chOff x="506520" y="6083280"/>
            <a:chExt cx="7935840" cy="463680"/>
          </a:xfrm>
        </p:grpSpPr>
        <p:pic>
          <p:nvPicPr>
            <p:cNvPr id="895" name="TextBox 10" descr=""/>
            <p:cNvPicPr/>
            <p:nvPr/>
          </p:nvPicPr>
          <p:blipFill>
            <a:blip r:embed="rId3"/>
            <a:stretch/>
          </p:blipFill>
          <p:spPr>
            <a:xfrm>
              <a:off x="506520" y="6083280"/>
              <a:ext cx="7935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530280" y="611496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TextBox 11"/>
          <p:cNvGrpSpPr/>
          <p:nvPr/>
        </p:nvGrpSpPr>
        <p:grpSpPr>
          <a:xfrm>
            <a:off x="506520" y="1809720"/>
            <a:ext cx="7935840" cy="1214640"/>
            <a:chOff x="506520" y="1809720"/>
            <a:chExt cx="7935840" cy="1214640"/>
          </a:xfrm>
        </p:grpSpPr>
        <p:pic>
          <p:nvPicPr>
            <p:cNvPr id="898" name="TextBox 11" descr=""/>
            <p:cNvPicPr/>
            <p:nvPr/>
          </p:nvPicPr>
          <p:blipFill>
            <a:blip r:embed="rId4"/>
            <a:stretch/>
          </p:blipFill>
          <p:spPr>
            <a:xfrm>
              <a:off x="506520" y="1809720"/>
              <a:ext cx="79358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566640" y="1878120"/>
              <a:ext cx="7805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Заетост и трудова мобилност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323640" y="980640"/>
            <a:ext cx="856908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исък и намаляващ достъп до зает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иска производителност на труда в сравнение със средната з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квалификация на работната сила, недостатъчно съответстваща на потребностите на бизнеса и икономи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-високо равнище на безработица спрямо средното з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-висок дял на младежката безработица от средния з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исоко равнище на безработица сред уязвимите групи (над 50% при ромит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допълнителни условия за удължаване на активния трудов живот на по-възрастните х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396720" indent="-2854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улесняване достъпа до работа, подобряване условията на тру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54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асърчаване на заетостта сред младежи, възрастно население и групи в неравностойно положение - самостоятелна дейност, предприемачество, мобилност, алтернативни форми на заетост, бърз преход от училище към раб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285480" algn="just"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среднически услуги на пазара на труда, активиране на икономически неактивни 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TextBox 3"/>
          <p:cNvGrpSpPr/>
          <p:nvPr/>
        </p:nvGrpSpPr>
        <p:grpSpPr>
          <a:xfrm>
            <a:off x="426960" y="3822840"/>
            <a:ext cx="7935840" cy="1547640"/>
            <a:chOff x="426960" y="3822840"/>
            <a:chExt cx="7935840" cy="1547640"/>
          </a:xfrm>
        </p:grpSpPr>
        <p:pic>
          <p:nvPicPr>
            <p:cNvPr id="902" name="TextBox 3" descr=""/>
            <p:cNvPicPr/>
            <p:nvPr/>
          </p:nvPicPr>
          <p:blipFill>
            <a:blip r:embed="rId1"/>
            <a:stretch/>
          </p:blipFill>
          <p:spPr>
            <a:xfrm>
              <a:off x="426960" y="3822840"/>
              <a:ext cx="793584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507960" y="3902040"/>
              <a:ext cx="77709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дравен статус и здравеопазван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социално включване и намаляване на бедност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Rectangle 8"/>
          <p:cNvSpPr/>
          <p:nvPr/>
        </p:nvSpPr>
        <p:spPr>
          <a:xfrm>
            <a:off x="439560" y="476280"/>
            <a:ext cx="8064720" cy="606420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5" name="TextBox 10"/>
          <p:cNvGrpSpPr/>
          <p:nvPr/>
        </p:nvGrpSpPr>
        <p:grpSpPr>
          <a:xfrm>
            <a:off x="506520" y="6083280"/>
            <a:ext cx="7935840" cy="463680"/>
            <a:chOff x="506520" y="6083280"/>
            <a:chExt cx="7935840" cy="463680"/>
          </a:xfrm>
        </p:grpSpPr>
        <p:pic>
          <p:nvPicPr>
            <p:cNvPr id="906" name="TextBox 10" descr=""/>
            <p:cNvPicPr/>
            <p:nvPr/>
          </p:nvPicPr>
          <p:blipFill>
            <a:blip r:embed="rId2"/>
            <a:stretch/>
          </p:blipFill>
          <p:spPr>
            <a:xfrm>
              <a:off x="506520" y="6083280"/>
              <a:ext cx="7935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530280" y="611496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TextBox 11"/>
          <p:cNvGrpSpPr/>
          <p:nvPr/>
        </p:nvGrpSpPr>
        <p:grpSpPr>
          <a:xfrm>
            <a:off x="463680" y="1620720"/>
            <a:ext cx="7941960" cy="1214640"/>
            <a:chOff x="463680" y="1620720"/>
            <a:chExt cx="7941960" cy="1214640"/>
          </a:xfrm>
        </p:grpSpPr>
        <p:pic>
          <p:nvPicPr>
            <p:cNvPr id="909" name="TextBox 11" descr=""/>
            <p:cNvPicPr/>
            <p:nvPr/>
          </p:nvPicPr>
          <p:blipFill>
            <a:blip r:embed="rId3"/>
            <a:stretch/>
          </p:blipFill>
          <p:spPr>
            <a:xfrm>
              <a:off x="463680" y="1620720"/>
              <a:ext cx="794196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30280" y="168768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Социално включва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324000" y="333360"/>
            <a:ext cx="8712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висок риск от бедност или социално изключване, особено за маргинализираните групи и лицата в надтрудоспособна възраст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високо ниво на бедност сред децата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задоволително състояние на основните социални услуги в населените места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обходимост от продължаване на процеса на деинституционализация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тегрирани мерки за п</a:t>
            </a: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одобряване достъпа до заетост, образование, социални и здравни услуги и социално приобщаване на маргинализираните общ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асърчаване на активния живот на възрастните хора, включително осигуряване на достъпна с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и в ранното детско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2400" indent="-282600" algn="just">
              <a:lnSpc>
                <a:spcPct val="90000"/>
              </a:lnSpc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замяна на институционалния модел на грижа и развитие на интегрирани междусекторни услуги за социално включване – възрастни хора, хора с увреждания, д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TextBox 3"/>
          <p:cNvGrpSpPr/>
          <p:nvPr/>
        </p:nvGrpSpPr>
        <p:grpSpPr>
          <a:xfrm>
            <a:off x="469800" y="3505320"/>
            <a:ext cx="7942320" cy="1206360"/>
            <a:chOff x="469800" y="3505320"/>
            <a:chExt cx="7942320" cy="1206360"/>
          </a:xfrm>
        </p:grpSpPr>
        <p:pic>
          <p:nvPicPr>
            <p:cNvPr id="913" name="TextBox 3" descr=""/>
            <p:cNvPicPr/>
            <p:nvPr/>
          </p:nvPicPr>
          <p:blipFill>
            <a:blip r:embed="rId1"/>
            <a:stretch/>
          </p:blipFill>
          <p:spPr>
            <a:xfrm>
              <a:off x="469800" y="3505320"/>
              <a:ext cx="79423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536400" y="3567240"/>
              <a:ext cx="7804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здравен статус и здравеопазване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Rectangle 8"/>
          <p:cNvSpPr/>
          <p:nvPr/>
        </p:nvSpPr>
        <p:spPr>
          <a:xfrm>
            <a:off x="439560" y="476280"/>
            <a:ext cx="8064720" cy="606420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6" name="TextBox 10"/>
          <p:cNvGrpSpPr/>
          <p:nvPr/>
        </p:nvGrpSpPr>
        <p:grpSpPr>
          <a:xfrm>
            <a:off x="469800" y="5364000"/>
            <a:ext cx="7942320" cy="463680"/>
            <a:chOff x="469800" y="5364000"/>
            <a:chExt cx="7942320" cy="463680"/>
          </a:xfrm>
        </p:grpSpPr>
        <p:pic>
          <p:nvPicPr>
            <p:cNvPr id="917" name="TextBox 10" descr=""/>
            <p:cNvPicPr/>
            <p:nvPr/>
          </p:nvPicPr>
          <p:blipFill>
            <a:blip r:embed="rId2"/>
            <a:stretch/>
          </p:blipFill>
          <p:spPr>
            <a:xfrm>
              <a:off x="469800" y="5364000"/>
              <a:ext cx="7942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500040" y="5394240"/>
              <a:ext cx="787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" name="TextBox 11"/>
          <p:cNvGrpSpPr/>
          <p:nvPr/>
        </p:nvGrpSpPr>
        <p:grpSpPr>
          <a:xfrm>
            <a:off x="433440" y="1847880"/>
            <a:ext cx="7935840" cy="1206360"/>
            <a:chOff x="433440" y="1847880"/>
            <a:chExt cx="7935840" cy="1206360"/>
          </a:xfrm>
        </p:grpSpPr>
        <p:pic>
          <p:nvPicPr>
            <p:cNvPr id="920" name="TextBox 11" descr=""/>
            <p:cNvPicPr/>
            <p:nvPr/>
          </p:nvPicPr>
          <p:blipFill>
            <a:blip r:embed="rId3"/>
            <a:stretch/>
          </p:blipFill>
          <p:spPr>
            <a:xfrm>
              <a:off x="433440" y="1847880"/>
              <a:ext cx="79358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498600" y="191124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Здравеопазван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23640" y="537840"/>
            <a:ext cx="85690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иска здравна култура и влошен здравен статус вкл. висок коефициентът на детската смъртност и ниска средна продължителност на жив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Дисбаланс в разпределението на здравните заведения на територията на стра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достатъчен брой обучаващи се студенти и увеличаване на броя на медицински специалисти, желаещи да търсят професионална реализация извън стра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еефективното управление на публичните средства в сек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нвестиции в здравна инфраструктура, включително в системата за спешна помощ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ромоция на здравето и превенция на заболя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нвестиции в човешки капитал – обучения за придобиване на специалност и продължаващото обучение на специалис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електронно здравеопазване - подобряване управлението на системата и по-добро наблюдение на предлаганите услу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3"/>
          <p:cNvSpPr/>
          <p:nvPr/>
        </p:nvSpPr>
        <p:spPr>
          <a:xfrm>
            <a:off x="8136000" y="5784840"/>
            <a:ext cx="539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TextBox 3"/>
          <p:cNvGrpSpPr/>
          <p:nvPr/>
        </p:nvGrpSpPr>
        <p:grpSpPr>
          <a:xfrm>
            <a:off x="433440" y="3060720"/>
            <a:ext cx="7942320" cy="1571760"/>
            <a:chOff x="433440" y="3060720"/>
            <a:chExt cx="7942320" cy="1571760"/>
          </a:xfrm>
        </p:grpSpPr>
        <p:pic>
          <p:nvPicPr>
            <p:cNvPr id="925" name="TextBox 3" descr=""/>
            <p:cNvPicPr/>
            <p:nvPr/>
          </p:nvPicPr>
          <p:blipFill>
            <a:blip r:embed="rId1"/>
            <a:stretch/>
          </p:blipFill>
          <p:spPr>
            <a:xfrm>
              <a:off x="433440" y="3060720"/>
              <a:ext cx="79423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/>
            <p:cNvSpPr/>
            <p:nvPr/>
          </p:nvSpPr>
          <p:spPr>
            <a:xfrm>
              <a:off x="517680" y="3144960"/>
              <a:ext cx="77691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аетост и пазар на труд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TextBox 4"/>
          <p:cNvGrpSpPr/>
          <p:nvPr/>
        </p:nvGrpSpPr>
        <p:grpSpPr>
          <a:xfrm>
            <a:off x="438120" y="4614840"/>
            <a:ext cx="7943760" cy="798480"/>
            <a:chOff x="438120" y="4614840"/>
            <a:chExt cx="7943760" cy="798480"/>
          </a:xfrm>
        </p:grpSpPr>
        <p:pic>
          <p:nvPicPr>
            <p:cNvPr id="928" name="TextBox 4" descr=""/>
            <p:cNvPicPr/>
            <p:nvPr/>
          </p:nvPicPr>
          <p:blipFill>
            <a:blip r:embed="rId2"/>
            <a:stretch/>
          </p:blipFill>
          <p:spPr>
            <a:xfrm>
              <a:off x="438120" y="4614840"/>
              <a:ext cx="7943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484200" y="4657680"/>
              <a:ext cx="784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Rectangle 8"/>
          <p:cNvSpPr/>
          <p:nvPr/>
        </p:nvSpPr>
        <p:spPr>
          <a:xfrm>
            <a:off x="439560" y="115920"/>
            <a:ext cx="8064720" cy="642456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TextBox 10"/>
          <p:cNvGrpSpPr/>
          <p:nvPr/>
        </p:nvGrpSpPr>
        <p:grpSpPr>
          <a:xfrm>
            <a:off x="487440" y="5645160"/>
            <a:ext cx="7937280" cy="457200"/>
            <a:chOff x="487440" y="5645160"/>
            <a:chExt cx="7937280" cy="457200"/>
          </a:xfrm>
        </p:grpSpPr>
        <p:pic>
          <p:nvPicPr>
            <p:cNvPr id="932" name="TextBox 10" descr=""/>
            <p:cNvPicPr/>
            <p:nvPr/>
          </p:nvPicPr>
          <p:blipFill>
            <a:blip r:embed="rId3"/>
            <a:stretch/>
          </p:blipFill>
          <p:spPr>
            <a:xfrm>
              <a:off x="487440" y="5645160"/>
              <a:ext cx="79372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515880" y="5672160"/>
              <a:ext cx="787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4" name="TextBox 11"/>
          <p:cNvGrpSpPr/>
          <p:nvPr/>
        </p:nvGrpSpPr>
        <p:grpSpPr>
          <a:xfrm>
            <a:off x="500040" y="1335240"/>
            <a:ext cx="7937640" cy="1616040"/>
            <a:chOff x="500040" y="1335240"/>
            <a:chExt cx="7937640" cy="1616040"/>
          </a:xfrm>
        </p:grpSpPr>
        <p:pic>
          <p:nvPicPr>
            <p:cNvPr id="935" name="TextBox 11" descr=""/>
            <p:cNvPicPr/>
            <p:nvPr/>
          </p:nvPicPr>
          <p:blipFill>
            <a:blip r:embed="rId4"/>
            <a:stretch/>
          </p:blipFill>
          <p:spPr>
            <a:xfrm>
              <a:off x="500040" y="1335240"/>
              <a:ext cx="79376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582480" y="141912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234271"/>
                  </a:solidFill>
                  <a:latin typeface="Calibri"/>
                </a:rPr>
                <a:t>Под-приоритет Образование, обучение и учене през целия живо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324000" y="333000"/>
            <a:ext cx="855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арастване на неграмотното население и увеличаване на дела на никога непосещавали училище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величаване на дела на преждевременно напусналите образование и обучение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ужда от специално внимание на децата и учениците със специални образователни потребности и достъпа им до образователни услуг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иско качество на образованието на всички нива и необходимост от неговото адаптиране към нуждите на пазара на труда и икономикат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ужда от модернизиране на образователната инфраструктура и развитие на ИКТ в образованието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r>
              <a:rPr b="1" lang="en-US" sz="1900" spc="-1" strike="noStrike">
                <a:solidFill>
                  <a:srgbClr val="18077b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модернизация и подобряване на условията в образователните и научни, осигуряване на достъпна среда и насърчаване използването на ИКТ в образованието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овишаване качеството на образователната система - средно професионално, висше образование, образователни услуги, съобразени с нуждите на пазара на труда, партньорства между висшето образование, предприятията и сектора на научните изследва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одкрепа на процеса на образователната интеграция и на социалното включван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учене през целия живо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Title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6383520" cy="1159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394920" y="1557000"/>
            <a:ext cx="482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50595"/>
                </a:solidFill>
                <a:latin typeface="Calibri"/>
                <a:ea typeface="Arial"/>
              </a:rPr>
              <a:t>Обща стратегия на национално ниво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  <a:ea typeface="Arial"/>
              </a:rPr>
              <a:t>за използване на Европейските структурни и инвестиционни фондове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b0189"/>
                </a:solidFill>
                <a:latin typeface="Calibri"/>
              </a:rPr>
              <a:t>Отчита </a:t>
            </a:r>
            <a:r>
              <a:rPr b="0" lang="bg-BG" sz="1900" spc="-1" strike="noStrike">
                <a:solidFill>
                  <a:srgbClr val="0b0189"/>
                </a:solidFill>
                <a:latin typeface="Calibri"/>
              </a:rPr>
              <a:t>Специфичните препоръки на Съвета от  юли 2013 г., </a:t>
            </a:r>
            <a:r>
              <a:rPr b="0" lang="en-US" sz="1900" spc="-1" strike="noStrike">
                <a:solidFill>
                  <a:srgbClr val="0b0189"/>
                </a:solidFill>
                <a:latin typeface="Calibri"/>
              </a:rPr>
              <a:t>Country Fact Sheet</a:t>
            </a:r>
            <a:r>
              <a:rPr b="0" lang="bg-BG" sz="1900" spc="-1" strike="noStrike">
                <a:solidFill>
                  <a:srgbClr val="0b0189"/>
                </a:solidFill>
                <a:latin typeface="Calibri"/>
              </a:rPr>
              <a:t> за България и Позицията на ЕК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b0189"/>
                </a:solidFill>
                <a:latin typeface="Calibri"/>
              </a:rPr>
              <a:t>Допринася за изпълнението на НПР България 2020</a:t>
            </a:r>
            <a:r>
              <a:rPr b="0" lang="bg-BG" sz="1900" spc="-1" strike="noStrike">
                <a:solidFill>
                  <a:srgbClr val="0b0189"/>
                </a:solidFill>
                <a:latin typeface="Calibri"/>
              </a:rPr>
              <a:t>, Националната програма за реформи и постигане на общоевропейските цели за растеж и заетост, формулирани в Стратегия Европа 2020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900" spc="-1" strike="noStrike">
                <a:solidFill>
                  <a:srgbClr val="0b0189"/>
                </a:solidFill>
                <a:latin typeface="Calibri"/>
              </a:rPr>
              <a:t>Осигурява: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боснованост на стратегическите ре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сътрудничество и координация между съответните органи, вкл. договорености за улесняване на изпълнението на последващ етап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lnSpc>
                <a:spcPct val="80000"/>
              </a:lnSpc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розрачност чрез включване на ангажименти не само спрямо ЕК, но и спрямо партньорите и бенефициент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725" name="Diagram 4" descr=""/>
          <p:cNvPicPr/>
          <p:nvPr/>
        </p:nvPicPr>
        <p:blipFill>
          <a:blip r:embed="rId2"/>
          <a:stretch/>
        </p:blipFill>
        <p:spPr>
          <a:xfrm>
            <a:off x="4645080" y="1127160"/>
            <a:ext cx="435924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TextBox 3"/>
          <p:cNvGrpSpPr/>
          <p:nvPr/>
        </p:nvGrpSpPr>
        <p:grpSpPr>
          <a:xfrm>
            <a:off x="500040" y="2200320"/>
            <a:ext cx="7942320" cy="1566720"/>
            <a:chOff x="500040" y="2200320"/>
            <a:chExt cx="7942320" cy="1566720"/>
          </a:xfrm>
        </p:grpSpPr>
        <p:pic>
          <p:nvPicPr>
            <p:cNvPr id="939" name="TextBox 3" descr=""/>
            <p:cNvPicPr/>
            <p:nvPr/>
          </p:nvPicPr>
          <p:blipFill>
            <a:blip r:embed="rId1"/>
            <a:stretch/>
          </p:blipFill>
          <p:spPr>
            <a:xfrm>
              <a:off x="500040" y="2200320"/>
              <a:ext cx="794232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584280" y="2279520"/>
              <a:ext cx="776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демографско развит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заетост и пазар на труд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TextBox 4"/>
          <p:cNvGrpSpPr/>
          <p:nvPr/>
        </p:nvGrpSpPr>
        <p:grpSpPr>
          <a:xfrm>
            <a:off x="506520" y="3749760"/>
            <a:ext cx="7935840" cy="1212840"/>
            <a:chOff x="506520" y="3749760"/>
            <a:chExt cx="7935840" cy="1212840"/>
          </a:xfrm>
        </p:grpSpPr>
        <p:pic>
          <p:nvPicPr>
            <p:cNvPr id="942" name="TextBox 4" descr=""/>
            <p:cNvPicPr/>
            <p:nvPr/>
          </p:nvPicPr>
          <p:blipFill>
            <a:blip r:embed="rId2"/>
            <a:stretch/>
          </p:blipFill>
          <p:spPr>
            <a:xfrm>
              <a:off x="506520" y="3749760"/>
              <a:ext cx="79358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569880" y="3814920"/>
              <a:ext cx="780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елско, горско и рибно стоп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8"/>
          <p:cNvSpPr/>
          <p:nvPr/>
        </p:nvSpPr>
        <p:spPr>
          <a:xfrm>
            <a:off x="439560" y="115920"/>
            <a:ext cx="8064720" cy="642456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5" name="TextBox 10"/>
          <p:cNvGrpSpPr/>
          <p:nvPr/>
        </p:nvGrpSpPr>
        <p:grpSpPr>
          <a:xfrm>
            <a:off x="506520" y="6083280"/>
            <a:ext cx="7935840" cy="463680"/>
            <a:chOff x="506520" y="6083280"/>
            <a:chExt cx="7935840" cy="463680"/>
          </a:xfrm>
        </p:grpSpPr>
        <p:pic>
          <p:nvPicPr>
            <p:cNvPr id="946" name="TextBox 10" descr=""/>
            <p:cNvPicPr/>
            <p:nvPr/>
          </p:nvPicPr>
          <p:blipFill>
            <a:blip r:embed="rId3"/>
            <a:stretch/>
          </p:blipFill>
          <p:spPr>
            <a:xfrm>
              <a:off x="506520" y="6083280"/>
              <a:ext cx="7935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30280" y="6114960"/>
              <a:ext cx="78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TextBox 16"/>
          <p:cNvGrpSpPr/>
          <p:nvPr/>
        </p:nvGrpSpPr>
        <p:grpSpPr>
          <a:xfrm>
            <a:off x="506520" y="4943520"/>
            <a:ext cx="7935840" cy="1139760"/>
            <a:chOff x="506520" y="4943520"/>
            <a:chExt cx="7935840" cy="1139760"/>
          </a:xfrm>
        </p:grpSpPr>
        <p:pic>
          <p:nvPicPr>
            <p:cNvPr id="949" name="TextBox 16" descr=""/>
            <p:cNvPicPr/>
            <p:nvPr/>
          </p:nvPicPr>
          <p:blipFill>
            <a:blip r:embed="rId4"/>
            <a:stretch/>
          </p:blipFill>
          <p:spPr>
            <a:xfrm>
              <a:off x="506520" y="4943520"/>
              <a:ext cx="79358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563400" y="5003640"/>
              <a:ext cx="781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есурсна и енергийна ефектив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1" name="TextBox 9"/>
          <p:cNvGrpSpPr/>
          <p:nvPr/>
        </p:nvGrpSpPr>
        <p:grpSpPr>
          <a:xfrm>
            <a:off x="517680" y="596880"/>
            <a:ext cx="7937280" cy="1622520"/>
            <a:chOff x="517680" y="596880"/>
            <a:chExt cx="7937280" cy="1622520"/>
          </a:xfrm>
        </p:grpSpPr>
        <p:pic>
          <p:nvPicPr>
            <p:cNvPr id="952" name="TextBox 9" descr=""/>
            <p:cNvPicPr/>
            <p:nvPr/>
          </p:nvPicPr>
          <p:blipFill>
            <a:blip r:embed="rId5"/>
            <a:stretch/>
          </p:blipFill>
          <p:spPr>
            <a:xfrm>
              <a:off x="517680" y="596880"/>
              <a:ext cx="793728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600120" y="682560"/>
              <a:ext cx="77659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Повишаване конкурентоспособността и ресурсната ефективност на МСП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240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иска конкурентоспособност и производителност на МСП в сектори с висока добавена стойност за икономиката и експортен потенциал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изоставащи научно-развойни и иновационни пазарно-ориентирани дейност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висока енергийна интензивност на българската икономика спрямо останалите страните от Е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ниска енергийна ефективност на МСП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висока степен на излагане на природните рискове, включително промените в клима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подкрепа за стартиращи иновативни предприятия и бързорастящи предприятия във високотехнологични сектор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развитие на партньорства между бизнеса и научните сред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обновление и усъвършенстване на технологиите в предприятията чрез внедряване на водещи технологични решения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одобряване на достъпа до нови международни и национални пазари и предоставяне на модерни бизнес услуги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въвеждане на енергийно и ресурсо-ефективни решения и технологии в предприятията, в това число и екоиновации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TextBox 3"/>
          <p:cNvGrpSpPr/>
          <p:nvPr/>
        </p:nvGrpSpPr>
        <p:grpSpPr>
          <a:xfrm>
            <a:off x="426960" y="3492360"/>
            <a:ext cx="7942320" cy="804960"/>
            <a:chOff x="426960" y="3492360"/>
            <a:chExt cx="7942320" cy="804960"/>
          </a:xfrm>
        </p:grpSpPr>
        <p:pic>
          <p:nvPicPr>
            <p:cNvPr id="956" name="TextBox 3" descr=""/>
            <p:cNvPicPr/>
            <p:nvPr/>
          </p:nvPicPr>
          <p:blipFill>
            <a:blip r:embed="rId1"/>
            <a:stretch/>
          </p:blipFill>
          <p:spPr>
            <a:xfrm>
              <a:off x="426960" y="3492360"/>
              <a:ext cx="79423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473040" y="353844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Растеж, основан на човешкия капита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образование, обучение и учене през целия живот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8" name="TextBox 4"/>
          <p:cNvGrpSpPr/>
          <p:nvPr/>
        </p:nvGrpSpPr>
        <p:grpSpPr>
          <a:xfrm>
            <a:off x="500040" y="5297400"/>
            <a:ext cx="7942320" cy="1206720"/>
            <a:chOff x="500040" y="5297400"/>
            <a:chExt cx="7942320" cy="1206720"/>
          </a:xfrm>
        </p:grpSpPr>
        <p:pic>
          <p:nvPicPr>
            <p:cNvPr id="959" name="TextBox 4" descr=""/>
            <p:cNvPicPr/>
            <p:nvPr/>
          </p:nvPicPr>
          <p:blipFill>
            <a:blip r:embed="rId2"/>
            <a:stretch/>
          </p:blipFill>
          <p:spPr>
            <a:xfrm>
              <a:off x="500040" y="5297400"/>
              <a:ext cx="794232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566640" y="535932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НИРД и инов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Rectangle 8"/>
          <p:cNvSpPr/>
          <p:nvPr/>
        </p:nvSpPr>
        <p:spPr>
          <a:xfrm>
            <a:off x="439560" y="115920"/>
            <a:ext cx="8064720" cy="642456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TextBox 9"/>
          <p:cNvGrpSpPr/>
          <p:nvPr/>
        </p:nvGrpSpPr>
        <p:grpSpPr>
          <a:xfrm>
            <a:off x="433440" y="1547640"/>
            <a:ext cx="7935840" cy="1214640"/>
            <a:chOff x="433440" y="1547640"/>
            <a:chExt cx="7935840" cy="1214640"/>
          </a:xfrm>
        </p:grpSpPr>
        <p:pic>
          <p:nvPicPr>
            <p:cNvPr id="963" name="TextBox 9" descr=""/>
            <p:cNvPicPr/>
            <p:nvPr/>
          </p:nvPicPr>
          <p:blipFill>
            <a:blip r:embed="rId3"/>
            <a:stretch/>
          </p:blipFill>
          <p:spPr>
            <a:xfrm>
              <a:off x="433440" y="1547640"/>
              <a:ext cx="79358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498600" y="161460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НИРД и инов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 txBox="1"/>
          <p:nvPr/>
        </p:nvSpPr>
        <p:spPr>
          <a:xfrm>
            <a:off x="324000" y="1125360"/>
            <a:ext cx="8362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Основни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зоставащи научно-развойни и иновационни пазарно-ориентирани дей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липса на ефективна образователна и научна среда и работещо взаимодействие с бизнеса, позволяващо провеждане на качествени научни изслед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задоволителен достъп до и използване на И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асърчаване на иновационната дейност на предприятия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развитие на партньорства за иновации между бизнеса и научните сре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развитие на инфраструктура за иновации и изслед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зграждане на капацитет и развитие на човешките ресурси за инов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TextBox 4"/>
          <p:cNvGrpSpPr/>
          <p:nvPr/>
        </p:nvGrpSpPr>
        <p:grpSpPr>
          <a:xfrm>
            <a:off x="517680" y="3852720"/>
            <a:ext cx="7943760" cy="743760"/>
            <a:chOff x="517680" y="3852720"/>
            <a:chExt cx="7943760" cy="743760"/>
          </a:xfrm>
        </p:grpSpPr>
        <p:pic>
          <p:nvPicPr>
            <p:cNvPr id="967" name="TextBox 4" descr=""/>
            <p:cNvPicPr/>
            <p:nvPr/>
          </p:nvPicPr>
          <p:blipFill>
            <a:blip r:embed="rId1"/>
            <a:stretch/>
          </p:blipFill>
          <p:spPr>
            <a:xfrm>
              <a:off x="517680" y="3852720"/>
              <a:ext cx="79437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557280" y="3892680"/>
              <a:ext cx="785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ИК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Rectangle 8"/>
          <p:cNvSpPr/>
          <p:nvPr/>
        </p:nvSpPr>
        <p:spPr>
          <a:xfrm>
            <a:off x="439560" y="836640"/>
            <a:ext cx="806472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TextBox 9"/>
          <p:cNvGrpSpPr/>
          <p:nvPr/>
        </p:nvGrpSpPr>
        <p:grpSpPr>
          <a:xfrm>
            <a:off x="444600" y="1908000"/>
            <a:ext cx="7937280" cy="1213200"/>
            <a:chOff x="444600" y="1908000"/>
            <a:chExt cx="7937280" cy="1213200"/>
          </a:xfrm>
        </p:grpSpPr>
        <p:pic>
          <p:nvPicPr>
            <p:cNvPr id="971" name="TextBox 9" descr=""/>
            <p:cNvPicPr/>
            <p:nvPr/>
          </p:nvPicPr>
          <p:blipFill>
            <a:blip r:embed="rId2"/>
            <a:stretch/>
          </p:blipFill>
          <p:spPr>
            <a:xfrm>
              <a:off x="444600" y="1908000"/>
              <a:ext cx="793728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509760" y="1974960"/>
              <a:ext cx="78040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77420d"/>
                  </a:solidFill>
                  <a:latin typeface="Calibri"/>
                </a:rPr>
                <a:t>Достъп до и използване на ИК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3" name="TextBox 6"/>
          <p:cNvGrpSpPr/>
          <p:nvPr/>
        </p:nvGrpSpPr>
        <p:grpSpPr>
          <a:xfrm>
            <a:off x="469800" y="5578560"/>
            <a:ext cx="7935840" cy="457200"/>
            <a:chOff x="469800" y="5578560"/>
            <a:chExt cx="7935840" cy="457200"/>
          </a:xfrm>
        </p:grpSpPr>
        <p:pic>
          <p:nvPicPr>
            <p:cNvPr id="974" name="TextBox 6" descr=""/>
            <p:cNvPicPr/>
            <p:nvPr/>
          </p:nvPicPr>
          <p:blipFill>
            <a:blip r:embed="rId3"/>
            <a:stretch/>
          </p:blipFill>
          <p:spPr>
            <a:xfrm>
              <a:off x="469800" y="5578560"/>
              <a:ext cx="7935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498600" y="5603760"/>
              <a:ext cx="787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Content Placeholder 2"/>
          <p:cNvSpPr/>
          <p:nvPr/>
        </p:nvSpPr>
        <p:spPr>
          <a:xfrm>
            <a:off x="474840" y="620640"/>
            <a:ext cx="84340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исбаланси по отношение на широколентовото покр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широколентов достъп в селските рай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ужда от доразвиване на ИКТ уменията във всички с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граничено участие на МСП в електронната търг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гарантиране на широколентов достъп от следващо поколение в общинските центрове в селските район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усъвършенстване на съществуващите широколентови мрежи до такива за достъп от следващо поко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създаване и въвеждане на информационни системи за управление, мониторинг и контрол в ключови сектор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осигуряване на технологично оборудване за образователната система, здравните и социалните заве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развитие и широко ползване на ИКТ-базирани продукти и услуги, включително през интерн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вишаване на квалификацията на ИКТ специалистите и цифровата компетентност на работната сила особено в МС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8"/>
          <p:cNvSpPr/>
          <p:nvPr/>
        </p:nvSpPr>
        <p:spPr>
          <a:xfrm>
            <a:off x="439560" y="836640"/>
            <a:ext cx="806472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8" name="TextBox 5"/>
          <p:cNvGrpSpPr/>
          <p:nvPr/>
        </p:nvGrpSpPr>
        <p:grpSpPr>
          <a:xfrm>
            <a:off x="450720" y="1908000"/>
            <a:ext cx="7937640" cy="1213200"/>
            <a:chOff x="450720" y="1908000"/>
            <a:chExt cx="7937640" cy="1213200"/>
          </a:xfrm>
        </p:grpSpPr>
        <p:pic>
          <p:nvPicPr>
            <p:cNvPr id="979" name="TextBox 5" descr=""/>
            <p:cNvPicPr/>
            <p:nvPr/>
          </p:nvPicPr>
          <p:blipFill>
            <a:blip r:embed="rId1"/>
            <a:stretch/>
          </p:blipFill>
          <p:spPr>
            <a:xfrm>
              <a:off x="450720" y="1908000"/>
              <a:ext cx="7937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"/>
            <p:cNvSpPr/>
            <p:nvPr/>
          </p:nvSpPr>
          <p:spPr>
            <a:xfrm>
              <a:off x="512640" y="1974960"/>
              <a:ext cx="7804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Свързаност (външна и вътрешна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1" name="TextBox 6"/>
          <p:cNvGrpSpPr/>
          <p:nvPr/>
        </p:nvGrpSpPr>
        <p:grpSpPr>
          <a:xfrm>
            <a:off x="450720" y="3998880"/>
            <a:ext cx="7937640" cy="1139760"/>
            <a:chOff x="450720" y="3998880"/>
            <a:chExt cx="7937640" cy="1139760"/>
          </a:xfrm>
        </p:grpSpPr>
        <p:pic>
          <p:nvPicPr>
            <p:cNvPr id="982" name="TextBox 6" descr=""/>
            <p:cNvPicPr/>
            <p:nvPr/>
          </p:nvPicPr>
          <p:blipFill>
            <a:blip r:embed="rId2"/>
            <a:stretch/>
          </p:blipFill>
          <p:spPr>
            <a:xfrm>
              <a:off x="450720" y="3998880"/>
              <a:ext cx="79376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509760" y="4059360"/>
              <a:ext cx="7810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вързаност и достъп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24000" y="259920"/>
            <a:ext cx="8712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частъци с недостатъчен капацитет и остаряло състояние на транспортната инфраструкту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достатъчна свързаност на основната TEN-T мрежа и прилежащите мреж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балансирано разпределение на железниците в България, остарели оперативни и технически параметри на железопътната инфраструктура, незадоволително състояние на подвижния съста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ограничен пренос на товар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задоволително общото техническо състояние на пристанищната инфраструкту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достатъчни интермодални терминал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висока смъртност поради пътнотранспортни произшествия и липса на мерки за осигуряване на достъп на хора с увреждания до транспортните услуг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ж.п. транспорт – инфраструктура и подвижен съста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ътища – магистрали, пътища І-ви кла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метро - инфраструктура и подвижен съста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интермодални терминал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управление на трафика - оперативна съвместимост и интелигентни транспортни систе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6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стойчива регионална мобилност и връзки с Т</a:t>
            </a:r>
            <a:r>
              <a:rPr b="0" lang="en-US" sz="1900" spc="-1" strike="noStrike">
                <a:solidFill>
                  <a:srgbClr val="18077b"/>
                </a:solidFill>
                <a:latin typeface="Calibri"/>
              </a:rPr>
              <a:t>EN-T </a:t>
            </a: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мрежа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8"/>
          <p:cNvSpPr/>
          <p:nvPr/>
        </p:nvSpPr>
        <p:spPr>
          <a:xfrm>
            <a:off x="406440" y="1609560"/>
            <a:ext cx="8064360" cy="524844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6" name="TextBox 5"/>
          <p:cNvGrpSpPr/>
          <p:nvPr/>
        </p:nvGrpSpPr>
        <p:grpSpPr>
          <a:xfrm>
            <a:off x="542880" y="2054160"/>
            <a:ext cx="7942320" cy="1622520"/>
            <a:chOff x="542880" y="2054160"/>
            <a:chExt cx="7942320" cy="1622520"/>
          </a:xfrm>
        </p:grpSpPr>
        <p:pic>
          <p:nvPicPr>
            <p:cNvPr id="987" name="TextBox 5" descr=""/>
            <p:cNvPicPr/>
            <p:nvPr/>
          </p:nvPicPr>
          <p:blipFill>
            <a:blip r:embed="rId1"/>
            <a:stretch/>
          </p:blipFill>
          <p:spPr>
            <a:xfrm>
              <a:off x="542880" y="2054160"/>
              <a:ext cx="79423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628560" y="213840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Преминаване към ниско-въглеродна икономика, енергийна и ресурсна ефективнос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TextBox 6"/>
          <p:cNvGrpSpPr/>
          <p:nvPr/>
        </p:nvGrpSpPr>
        <p:grpSpPr>
          <a:xfrm>
            <a:off x="506520" y="4505400"/>
            <a:ext cx="7935840" cy="1481040"/>
            <a:chOff x="506520" y="4505400"/>
            <a:chExt cx="7935840" cy="1481040"/>
          </a:xfrm>
        </p:grpSpPr>
        <p:pic>
          <p:nvPicPr>
            <p:cNvPr id="990" name="TextBox 6" descr=""/>
            <p:cNvPicPr/>
            <p:nvPr/>
          </p:nvPicPr>
          <p:blipFill>
            <a:blip r:embed="rId2"/>
            <a:stretch/>
          </p:blipFill>
          <p:spPr>
            <a:xfrm>
              <a:off x="506520" y="4505400"/>
              <a:ext cx="79358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584280" y="4579920"/>
              <a:ext cx="777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околна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есурсна и енергийна ефектив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324000" y="404640"/>
            <a:ext cx="87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исок ръст на брутното вътрешно потребление и крайното енергийно потребление в стра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въвеждане на пазарни икономически стимули за реализиране на мерки за ЕЕ, както за енергийните компании, така и за крайните потреб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вишаване на дела на използване на нови иновативни технологии, по-специално технологиите за ЕЕ и за енергия от 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добряване на енергийната ефективност в секторите - домакинства, индустрия, услуги, бизнеса, транспорт и друг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подпомагане на енергийната ефективност в сгради за обществено обслужване, както и на частни и търговски сград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въвеждане на нови модели и съоръжения за спестяване на вод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насърчаване на потреблението на енергия от ВИ за собствени нужди предприя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Иновации и технологии за намаляване не енергийната неефективонст и енергоемкостта на производствата и намаляване на енергийната зависим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Title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535720" cy="1159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28760" y="14796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b0189"/>
                </a:solidFill>
                <a:latin typeface="Calibri"/>
              </a:rPr>
              <a:t>Свежда елементите на Общата стратегическа рамка към националния контекст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b0189"/>
                </a:solidFill>
                <a:latin typeface="Calibri"/>
              </a:rPr>
              <a:t>Съдържа ясни ангажименти за постигане на целите на ЕС чрез ЕСИФ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b0189"/>
                </a:solidFill>
                <a:latin typeface="Calibri"/>
              </a:rPr>
              <a:t>Описва уредбата, която гарантира ефективното изпълнение на ЕСИФ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728" name="Group 1"/>
          <p:cNvGrpSpPr/>
          <p:nvPr/>
        </p:nvGrpSpPr>
        <p:grpSpPr>
          <a:xfrm>
            <a:off x="393840" y="2936880"/>
            <a:ext cx="8640720" cy="3887640"/>
            <a:chOff x="393840" y="2936880"/>
            <a:chExt cx="8640720" cy="3887640"/>
          </a:xfrm>
        </p:grpSpPr>
        <p:sp>
          <p:nvSpPr>
            <p:cNvPr id="729" name="AutoShape 3"/>
            <p:cNvSpPr/>
            <p:nvPr/>
          </p:nvSpPr>
          <p:spPr>
            <a:xfrm>
              <a:off x="393840" y="2936880"/>
              <a:ext cx="864072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5"/>
            <p:cNvSpPr/>
            <p:nvPr/>
          </p:nvSpPr>
          <p:spPr>
            <a:xfrm>
              <a:off x="2380320" y="2953080"/>
              <a:ext cx="6511680" cy="728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>
              <a:off x="2374920" y="2949840"/>
              <a:ext cx="6520320" cy="735120"/>
            </a:xfrm>
            <a:custGeom>
              <a:avLst/>
              <a:gdLst>
                <a:gd name="textAreaLeft" fmla="*/ 0 w 6520320"/>
                <a:gd name="textAreaRight" fmla="*/ 6520680 w 652032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3696" h="446">
                  <a:moveTo>
                    <a:pt x="0" y="0"/>
                  </a:moveTo>
                  <a:lnTo>
                    <a:pt x="3696" y="0"/>
                  </a:lnTo>
                  <a:lnTo>
                    <a:pt x="3696" y="446"/>
                  </a:lnTo>
                  <a:lnTo>
                    <a:pt x="0" y="446"/>
                  </a:lnTo>
                  <a:lnTo>
                    <a:pt x="0" y="0"/>
                  </a:lnTo>
                  <a:close/>
                  <a:moveTo>
                    <a:pt x="5" y="444"/>
                  </a:moveTo>
                  <a:lnTo>
                    <a:pt x="3" y="442"/>
                  </a:lnTo>
                  <a:lnTo>
                    <a:pt x="3694" y="442"/>
                  </a:lnTo>
                  <a:lnTo>
                    <a:pt x="3691" y="444"/>
                  </a:lnTo>
                  <a:lnTo>
                    <a:pt x="3691" y="2"/>
                  </a:lnTo>
                  <a:lnTo>
                    <a:pt x="3694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4167360" y="3057120"/>
              <a:ext cx="29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ОБЩА СТРАТЕГИЧЕСКА РАМ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8"/>
            <p:cNvSpPr/>
            <p:nvPr/>
          </p:nvSpPr>
          <p:spPr>
            <a:xfrm>
              <a:off x="4111560" y="3329280"/>
              <a:ext cx="292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14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РР, ЕСФ, КФ, ЕЗФРСР, ЕФМД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Rectangle 9"/>
            <p:cNvSpPr/>
            <p:nvPr/>
          </p:nvSpPr>
          <p:spPr>
            <a:xfrm>
              <a:off x="2380320" y="3889800"/>
              <a:ext cx="6651000" cy="522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0"/>
            <p:cNvSpPr/>
            <p:nvPr/>
          </p:nvSpPr>
          <p:spPr>
            <a:xfrm>
              <a:off x="2374920" y="3886560"/>
              <a:ext cx="6659640" cy="529200"/>
            </a:xfrm>
            <a:custGeom>
              <a:avLst/>
              <a:gdLst>
                <a:gd name="textAreaLeft" fmla="*/ 0 w 6659640"/>
                <a:gd name="textAreaRight" fmla="*/ 6660000 w 6659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3775" h="321">
                  <a:moveTo>
                    <a:pt x="0" y="0"/>
                  </a:moveTo>
                  <a:lnTo>
                    <a:pt x="3775" y="0"/>
                  </a:lnTo>
                  <a:lnTo>
                    <a:pt x="3775" y="321"/>
                  </a:lnTo>
                  <a:lnTo>
                    <a:pt x="0" y="321"/>
                  </a:lnTo>
                  <a:lnTo>
                    <a:pt x="0" y="0"/>
                  </a:lnTo>
                  <a:close/>
                  <a:moveTo>
                    <a:pt x="5" y="319"/>
                  </a:moveTo>
                  <a:lnTo>
                    <a:pt x="3" y="317"/>
                  </a:lnTo>
                  <a:lnTo>
                    <a:pt x="3773" y="317"/>
                  </a:lnTo>
                  <a:lnTo>
                    <a:pt x="3770" y="319"/>
                  </a:lnTo>
                  <a:lnTo>
                    <a:pt x="3770" y="2"/>
                  </a:lnTo>
                  <a:lnTo>
                    <a:pt x="377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Rectangle 11"/>
            <p:cNvSpPr/>
            <p:nvPr/>
          </p:nvSpPr>
          <p:spPr>
            <a:xfrm>
              <a:off x="3961440" y="3932640"/>
              <a:ext cx="28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СПОРАЗУМЕНИЕ ЗА ПАРТНЬОР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Rectangle 12"/>
            <p:cNvSpPr/>
            <p:nvPr/>
          </p:nvSpPr>
          <p:spPr>
            <a:xfrm>
              <a:off x="4118040" y="4130640"/>
              <a:ext cx="25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12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РР, ЕСФ, КФ, ЕЗФРСР, ЕФМД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Rectangle 13"/>
            <p:cNvSpPr/>
            <p:nvPr/>
          </p:nvSpPr>
          <p:spPr>
            <a:xfrm>
              <a:off x="450000" y="5075280"/>
              <a:ext cx="1414800" cy="71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14"/>
            <p:cNvSpPr/>
            <p:nvPr/>
          </p:nvSpPr>
          <p:spPr>
            <a:xfrm>
              <a:off x="416520" y="5038920"/>
              <a:ext cx="1425240" cy="748440"/>
            </a:xfrm>
            <a:custGeom>
              <a:avLst/>
              <a:gdLst>
                <a:gd name="textAreaLeft" fmla="*/ 0 w 1425240"/>
                <a:gd name="textAreaRight" fmla="*/ 1425600 w 142524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808" h="257">
                  <a:moveTo>
                    <a:pt x="0" y="0"/>
                  </a:moveTo>
                  <a:lnTo>
                    <a:pt x="808" y="0"/>
                  </a:lnTo>
                  <a:lnTo>
                    <a:pt x="808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6" y="255"/>
                  </a:moveTo>
                  <a:lnTo>
                    <a:pt x="3" y="253"/>
                  </a:lnTo>
                  <a:lnTo>
                    <a:pt x="805" y="253"/>
                  </a:lnTo>
                  <a:lnTo>
                    <a:pt x="803" y="255"/>
                  </a:lnTo>
                  <a:lnTo>
                    <a:pt x="803" y="2"/>
                  </a:lnTo>
                  <a:lnTo>
                    <a:pt x="805" y="4"/>
                  </a:lnTo>
                  <a:lnTo>
                    <a:pt x="3" y="4"/>
                  </a:lnTo>
                  <a:lnTo>
                    <a:pt x="6" y="2"/>
                  </a:lnTo>
                  <a:lnTo>
                    <a:pt x="6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Rectangle 15"/>
            <p:cNvSpPr/>
            <p:nvPr/>
          </p:nvSpPr>
          <p:spPr>
            <a:xfrm>
              <a:off x="488160" y="5132880"/>
              <a:ext cx="130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Национално ил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Rectangle 16"/>
            <p:cNvSpPr/>
            <p:nvPr/>
          </p:nvSpPr>
          <p:spPr>
            <a:xfrm>
              <a:off x="506160" y="5431320"/>
              <a:ext cx="128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регионално ни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Rectangle 17"/>
            <p:cNvSpPr/>
            <p:nvPr/>
          </p:nvSpPr>
          <p:spPr>
            <a:xfrm>
              <a:off x="2380320" y="4620240"/>
              <a:ext cx="2445120" cy="415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18"/>
            <p:cNvSpPr/>
            <p:nvPr/>
          </p:nvSpPr>
          <p:spPr>
            <a:xfrm>
              <a:off x="2374920" y="4617000"/>
              <a:ext cx="2450160" cy="42192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209" h="256">
                  <a:moveTo>
                    <a:pt x="0" y="0"/>
                  </a:moveTo>
                  <a:lnTo>
                    <a:pt x="1209" y="0"/>
                  </a:lnTo>
                  <a:lnTo>
                    <a:pt x="1209" y="256"/>
                  </a:lnTo>
                  <a:lnTo>
                    <a:pt x="0" y="256"/>
                  </a:lnTo>
                  <a:lnTo>
                    <a:pt x="0" y="0"/>
                  </a:lnTo>
                  <a:close/>
                  <a:moveTo>
                    <a:pt x="5" y="254"/>
                  </a:moveTo>
                  <a:lnTo>
                    <a:pt x="3" y="252"/>
                  </a:lnTo>
                  <a:lnTo>
                    <a:pt x="1206" y="252"/>
                  </a:lnTo>
                  <a:lnTo>
                    <a:pt x="1203" y="254"/>
                  </a:lnTo>
                  <a:lnTo>
                    <a:pt x="1203" y="2"/>
                  </a:lnTo>
                  <a:lnTo>
                    <a:pt x="1206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Rectangle 19"/>
            <p:cNvSpPr/>
            <p:nvPr/>
          </p:nvSpPr>
          <p:spPr>
            <a:xfrm>
              <a:off x="2450520" y="4720680"/>
              <a:ext cx="218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Оперативни програми ЕФР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Rectangle 21"/>
            <p:cNvSpPr/>
            <p:nvPr/>
          </p:nvSpPr>
          <p:spPr>
            <a:xfrm>
              <a:off x="5076000" y="4620240"/>
              <a:ext cx="1933560" cy="811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22"/>
            <p:cNvSpPr/>
            <p:nvPr/>
          </p:nvSpPr>
          <p:spPr>
            <a:xfrm>
              <a:off x="5070600" y="4617000"/>
              <a:ext cx="1944000" cy="814320"/>
            </a:xfrm>
            <a:custGeom>
              <a:avLst/>
              <a:gdLst>
                <a:gd name="textAreaLeft" fmla="*/ 0 w 1944000"/>
                <a:gd name="textAreaRight" fmla="*/ 1944360 w 194400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102" h="364">
                  <a:moveTo>
                    <a:pt x="0" y="0"/>
                  </a:moveTo>
                  <a:lnTo>
                    <a:pt x="1102" y="0"/>
                  </a:lnTo>
                  <a:lnTo>
                    <a:pt x="1102" y="364"/>
                  </a:lnTo>
                  <a:lnTo>
                    <a:pt x="0" y="364"/>
                  </a:lnTo>
                  <a:lnTo>
                    <a:pt x="0" y="0"/>
                  </a:lnTo>
                  <a:close/>
                  <a:moveTo>
                    <a:pt x="5" y="362"/>
                  </a:moveTo>
                  <a:lnTo>
                    <a:pt x="3" y="360"/>
                  </a:lnTo>
                  <a:lnTo>
                    <a:pt x="1099" y="360"/>
                  </a:lnTo>
                  <a:lnTo>
                    <a:pt x="1097" y="362"/>
                  </a:lnTo>
                  <a:lnTo>
                    <a:pt x="1097" y="2"/>
                  </a:lnTo>
                  <a:lnTo>
                    <a:pt x="1099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23"/>
            <p:cNvSpPr/>
            <p:nvPr/>
          </p:nvSpPr>
          <p:spPr>
            <a:xfrm>
              <a:off x="5149800" y="4699440"/>
              <a:ext cx="1783800" cy="5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3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Програми за развитие н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3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селските район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3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ЕЗФРСР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26"/>
            <p:cNvSpPr/>
            <p:nvPr/>
          </p:nvSpPr>
          <p:spPr>
            <a:xfrm>
              <a:off x="2380320" y="5141160"/>
              <a:ext cx="2445120" cy="415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27"/>
            <p:cNvSpPr/>
            <p:nvPr/>
          </p:nvSpPr>
          <p:spPr>
            <a:xfrm>
              <a:off x="2374920" y="5137920"/>
              <a:ext cx="2450160" cy="42192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421920"/>
                <a:gd name="textAreaBottom" fmla="*/ 422280 h 421920"/>
              </a:gdLst>
              <a:ahLst/>
              <a:rect l="textAreaLeft" t="textAreaTop" r="textAreaRight" b="textAreaBottom"/>
              <a:pathLst>
                <a:path w="1209" h="256">
                  <a:moveTo>
                    <a:pt x="0" y="0"/>
                  </a:moveTo>
                  <a:lnTo>
                    <a:pt x="1209" y="0"/>
                  </a:lnTo>
                  <a:lnTo>
                    <a:pt x="1209" y="256"/>
                  </a:lnTo>
                  <a:lnTo>
                    <a:pt x="0" y="256"/>
                  </a:lnTo>
                  <a:lnTo>
                    <a:pt x="0" y="0"/>
                  </a:lnTo>
                  <a:close/>
                  <a:moveTo>
                    <a:pt x="5" y="254"/>
                  </a:moveTo>
                  <a:lnTo>
                    <a:pt x="3" y="252"/>
                  </a:lnTo>
                  <a:lnTo>
                    <a:pt x="1206" y="252"/>
                  </a:lnTo>
                  <a:lnTo>
                    <a:pt x="1203" y="254"/>
                  </a:lnTo>
                  <a:lnTo>
                    <a:pt x="1203" y="2"/>
                  </a:lnTo>
                  <a:lnTo>
                    <a:pt x="1206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30"/>
            <p:cNvSpPr/>
            <p:nvPr/>
          </p:nvSpPr>
          <p:spPr>
            <a:xfrm>
              <a:off x="2341440" y="5662080"/>
              <a:ext cx="2484000" cy="415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31"/>
            <p:cNvSpPr/>
            <p:nvPr/>
          </p:nvSpPr>
          <p:spPr>
            <a:xfrm>
              <a:off x="2374920" y="5658840"/>
              <a:ext cx="2450160" cy="42012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1209" h="255">
                  <a:moveTo>
                    <a:pt x="0" y="0"/>
                  </a:moveTo>
                  <a:lnTo>
                    <a:pt x="1209" y="0"/>
                  </a:lnTo>
                  <a:lnTo>
                    <a:pt x="1209" y="255"/>
                  </a:lnTo>
                  <a:lnTo>
                    <a:pt x="0" y="255"/>
                  </a:lnTo>
                  <a:lnTo>
                    <a:pt x="0" y="0"/>
                  </a:lnTo>
                  <a:close/>
                  <a:moveTo>
                    <a:pt x="5" y="254"/>
                  </a:moveTo>
                  <a:lnTo>
                    <a:pt x="3" y="252"/>
                  </a:lnTo>
                  <a:lnTo>
                    <a:pt x="1206" y="252"/>
                  </a:lnTo>
                  <a:lnTo>
                    <a:pt x="1203" y="254"/>
                  </a:lnTo>
                  <a:lnTo>
                    <a:pt x="1203" y="2"/>
                  </a:lnTo>
                  <a:lnTo>
                    <a:pt x="1206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34"/>
            <p:cNvSpPr/>
            <p:nvPr/>
          </p:nvSpPr>
          <p:spPr>
            <a:xfrm>
              <a:off x="397080" y="3057120"/>
              <a:ext cx="1557720" cy="522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35"/>
            <p:cNvSpPr/>
            <p:nvPr/>
          </p:nvSpPr>
          <p:spPr>
            <a:xfrm>
              <a:off x="393840" y="3053880"/>
              <a:ext cx="1564560" cy="527400"/>
            </a:xfrm>
            <a:custGeom>
              <a:avLst/>
              <a:gdLst>
                <a:gd name="textAreaLeft" fmla="*/ 0 w 1564560"/>
                <a:gd name="textAreaRight" fmla="*/ 1564920 w 1564560"/>
                <a:gd name="textAreaTop" fmla="*/ 0 h 527400"/>
                <a:gd name="textAreaBottom" fmla="*/ 527760 h 527400"/>
              </a:gdLst>
              <a:ahLst/>
              <a:rect l="textAreaLeft" t="textAreaTop" r="textAreaRight" b="textAreaBottom"/>
              <a:pathLst>
                <a:path w="887" h="320">
                  <a:moveTo>
                    <a:pt x="0" y="0"/>
                  </a:moveTo>
                  <a:lnTo>
                    <a:pt x="887" y="0"/>
                  </a:lnTo>
                  <a:lnTo>
                    <a:pt x="887" y="320"/>
                  </a:lnTo>
                  <a:lnTo>
                    <a:pt x="0" y="320"/>
                  </a:lnTo>
                  <a:lnTo>
                    <a:pt x="0" y="0"/>
                  </a:lnTo>
                  <a:close/>
                  <a:moveTo>
                    <a:pt x="5" y="319"/>
                  </a:moveTo>
                  <a:lnTo>
                    <a:pt x="2" y="317"/>
                  </a:lnTo>
                  <a:lnTo>
                    <a:pt x="885" y="317"/>
                  </a:lnTo>
                  <a:lnTo>
                    <a:pt x="882" y="319"/>
                  </a:lnTo>
                  <a:lnTo>
                    <a:pt x="882" y="2"/>
                  </a:lnTo>
                  <a:lnTo>
                    <a:pt x="885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36"/>
            <p:cNvSpPr/>
            <p:nvPr/>
          </p:nvSpPr>
          <p:spPr>
            <a:xfrm>
              <a:off x="1002960" y="322200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Е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38"/>
            <p:cNvSpPr/>
            <p:nvPr/>
          </p:nvSpPr>
          <p:spPr>
            <a:xfrm>
              <a:off x="397080" y="3889800"/>
              <a:ext cx="1557720" cy="522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39"/>
            <p:cNvSpPr/>
            <p:nvPr/>
          </p:nvSpPr>
          <p:spPr>
            <a:xfrm>
              <a:off x="393840" y="3886560"/>
              <a:ext cx="1564560" cy="529200"/>
            </a:xfrm>
            <a:custGeom>
              <a:avLst/>
              <a:gdLst>
                <a:gd name="textAreaLeft" fmla="*/ 0 w 1564560"/>
                <a:gd name="textAreaRight" fmla="*/ 1564920 w 15645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887" h="321">
                  <a:moveTo>
                    <a:pt x="0" y="0"/>
                  </a:moveTo>
                  <a:lnTo>
                    <a:pt x="887" y="0"/>
                  </a:lnTo>
                  <a:lnTo>
                    <a:pt x="887" y="321"/>
                  </a:lnTo>
                  <a:lnTo>
                    <a:pt x="0" y="321"/>
                  </a:lnTo>
                  <a:lnTo>
                    <a:pt x="0" y="0"/>
                  </a:lnTo>
                  <a:close/>
                  <a:moveTo>
                    <a:pt x="5" y="319"/>
                  </a:moveTo>
                  <a:lnTo>
                    <a:pt x="2" y="317"/>
                  </a:lnTo>
                  <a:lnTo>
                    <a:pt x="885" y="317"/>
                  </a:lnTo>
                  <a:lnTo>
                    <a:pt x="882" y="319"/>
                  </a:lnTo>
                  <a:lnTo>
                    <a:pt x="882" y="2"/>
                  </a:lnTo>
                  <a:lnTo>
                    <a:pt x="885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40"/>
            <p:cNvSpPr/>
            <p:nvPr/>
          </p:nvSpPr>
          <p:spPr>
            <a:xfrm>
              <a:off x="483480" y="4016520"/>
              <a:ext cx="1349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Национално ни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41"/>
            <p:cNvSpPr/>
            <p:nvPr/>
          </p:nvSpPr>
          <p:spPr>
            <a:xfrm>
              <a:off x="2380320" y="6181560"/>
              <a:ext cx="2445120" cy="62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42"/>
            <p:cNvSpPr/>
            <p:nvPr/>
          </p:nvSpPr>
          <p:spPr>
            <a:xfrm>
              <a:off x="2374920" y="6180120"/>
              <a:ext cx="2450160" cy="629640"/>
            </a:xfrm>
            <a:custGeom>
              <a:avLst/>
              <a:gdLst>
                <a:gd name="textAreaLeft" fmla="*/ 0 w 2450160"/>
                <a:gd name="textAreaRight" fmla="*/ 2450520 w 24501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209" h="382">
                  <a:moveTo>
                    <a:pt x="0" y="0"/>
                  </a:moveTo>
                  <a:lnTo>
                    <a:pt x="1209" y="0"/>
                  </a:lnTo>
                  <a:lnTo>
                    <a:pt x="1209" y="382"/>
                  </a:lnTo>
                  <a:lnTo>
                    <a:pt x="0" y="382"/>
                  </a:lnTo>
                  <a:lnTo>
                    <a:pt x="0" y="0"/>
                  </a:lnTo>
                  <a:close/>
                  <a:moveTo>
                    <a:pt x="5" y="380"/>
                  </a:moveTo>
                  <a:lnTo>
                    <a:pt x="3" y="378"/>
                  </a:lnTo>
                  <a:lnTo>
                    <a:pt x="1206" y="378"/>
                  </a:lnTo>
                  <a:lnTo>
                    <a:pt x="1203" y="380"/>
                  </a:lnTo>
                  <a:lnTo>
                    <a:pt x="1203" y="1"/>
                  </a:lnTo>
                  <a:lnTo>
                    <a:pt x="1206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46"/>
            <p:cNvSpPr/>
            <p:nvPr/>
          </p:nvSpPr>
          <p:spPr>
            <a:xfrm>
              <a:off x="1949760" y="4512960"/>
              <a:ext cx="146160" cy="22968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296800"/>
                <a:gd name="textAreaBottom" fmla="*/ 2297160 h 2296800"/>
              </a:gdLst>
              <a:ahLst/>
              <a:rect l="textAreaLeft" t="textAreaTop" r="textAreaRight" b="textAreaBottom"/>
              <a:pathLst>
                <a:path w="771" h="16895">
                  <a:moveTo>
                    <a:pt x="766" y="16895"/>
                  </a:moveTo>
                  <a:lnTo>
                    <a:pt x="747" y="16893"/>
                  </a:lnTo>
                  <a:cubicBezTo>
                    <a:pt x="746" y="16893"/>
                    <a:pt x="744" y="16893"/>
                    <a:pt x="743" y="16893"/>
                  </a:cubicBezTo>
                  <a:lnTo>
                    <a:pt x="724" y="16887"/>
                  </a:lnTo>
                  <a:cubicBezTo>
                    <a:pt x="723" y="16887"/>
                    <a:pt x="722" y="16886"/>
                    <a:pt x="720" y="16886"/>
                  </a:cubicBezTo>
                  <a:lnTo>
                    <a:pt x="702" y="16877"/>
                  </a:lnTo>
                  <a:cubicBezTo>
                    <a:pt x="701" y="16877"/>
                    <a:pt x="700" y="16876"/>
                    <a:pt x="699" y="16875"/>
                  </a:cubicBezTo>
                  <a:lnTo>
                    <a:pt x="680" y="16863"/>
                  </a:lnTo>
                  <a:lnTo>
                    <a:pt x="660" y="16845"/>
                  </a:lnTo>
                  <a:lnTo>
                    <a:pt x="640" y="16824"/>
                  </a:lnTo>
                  <a:lnTo>
                    <a:pt x="622" y="16801"/>
                  </a:lnTo>
                  <a:lnTo>
                    <a:pt x="604" y="16774"/>
                  </a:lnTo>
                  <a:lnTo>
                    <a:pt x="570" y="16713"/>
                  </a:lnTo>
                  <a:lnTo>
                    <a:pt x="538" y="16641"/>
                  </a:lnTo>
                  <a:lnTo>
                    <a:pt x="509" y="16558"/>
                  </a:lnTo>
                  <a:lnTo>
                    <a:pt x="482" y="16466"/>
                  </a:lnTo>
                  <a:lnTo>
                    <a:pt x="458" y="16365"/>
                  </a:lnTo>
                  <a:lnTo>
                    <a:pt x="436" y="16255"/>
                  </a:lnTo>
                  <a:lnTo>
                    <a:pt x="418" y="16138"/>
                  </a:lnTo>
                  <a:lnTo>
                    <a:pt x="402" y="16014"/>
                  </a:lnTo>
                  <a:lnTo>
                    <a:pt x="390" y="15884"/>
                  </a:lnTo>
                  <a:lnTo>
                    <a:pt x="380" y="15749"/>
                  </a:lnTo>
                  <a:lnTo>
                    <a:pt x="374" y="15608"/>
                  </a:lnTo>
                  <a:lnTo>
                    <a:pt x="372" y="15463"/>
                  </a:lnTo>
                  <a:lnTo>
                    <a:pt x="372" y="9856"/>
                  </a:lnTo>
                  <a:lnTo>
                    <a:pt x="370" y="9713"/>
                  </a:lnTo>
                  <a:lnTo>
                    <a:pt x="365" y="9573"/>
                  </a:lnTo>
                  <a:lnTo>
                    <a:pt x="356" y="9439"/>
                  </a:lnTo>
                  <a:lnTo>
                    <a:pt x="344" y="9310"/>
                  </a:lnTo>
                  <a:lnTo>
                    <a:pt x="328" y="9188"/>
                  </a:lnTo>
                  <a:lnTo>
                    <a:pt x="309" y="9073"/>
                  </a:lnTo>
                  <a:lnTo>
                    <a:pt x="288" y="8965"/>
                  </a:lnTo>
                  <a:lnTo>
                    <a:pt x="264" y="8866"/>
                  </a:lnTo>
                  <a:lnTo>
                    <a:pt x="238" y="8776"/>
                  </a:lnTo>
                  <a:lnTo>
                    <a:pt x="210" y="8696"/>
                  </a:lnTo>
                  <a:lnTo>
                    <a:pt x="180" y="8627"/>
                  </a:lnTo>
                  <a:lnTo>
                    <a:pt x="148" y="8570"/>
                  </a:lnTo>
                  <a:lnTo>
                    <a:pt x="132" y="8546"/>
                  </a:lnTo>
                  <a:lnTo>
                    <a:pt x="116" y="8526"/>
                  </a:lnTo>
                  <a:lnTo>
                    <a:pt x="100" y="8508"/>
                  </a:lnTo>
                  <a:lnTo>
                    <a:pt x="84" y="8494"/>
                  </a:lnTo>
                  <a:lnTo>
                    <a:pt x="68" y="8483"/>
                  </a:lnTo>
                  <a:lnTo>
                    <a:pt x="71" y="8485"/>
                  </a:lnTo>
                  <a:lnTo>
                    <a:pt x="52" y="8477"/>
                  </a:lnTo>
                  <a:lnTo>
                    <a:pt x="56" y="8478"/>
                  </a:lnTo>
                  <a:lnTo>
                    <a:pt x="37" y="8473"/>
                  </a:lnTo>
                  <a:lnTo>
                    <a:pt x="41" y="8473"/>
                  </a:lnTo>
                  <a:lnTo>
                    <a:pt x="22" y="8471"/>
                  </a:lnTo>
                  <a:cubicBezTo>
                    <a:pt x="10" y="8470"/>
                    <a:pt x="0" y="8460"/>
                    <a:pt x="0" y="8447"/>
                  </a:cubicBezTo>
                  <a:cubicBezTo>
                    <a:pt x="0" y="8435"/>
                    <a:pt x="10" y="8425"/>
                    <a:pt x="22" y="8424"/>
                  </a:cubicBezTo>
                  <a:lnTo>
                    <a:pt x="41" y="8422"/>
                  </a:lnTo>
                  <a:lnTo>
                    <a:pt x="37" y="8422"/>
                  </a:lnTo>
                  <a:lnTo>
                    <a:pt x="56" y="8417"/>
                  </a:lnTo>
                  <a:lnTo>
                    <a:pt x="52" y="8418"/>
                  </a:lnTo>
                  <a:lnTo>
                    <a:pt x="71" y="8410"/>
                  </a:lnTo>
                  <a:lnTo>
                    <a:pt x="68" y="8412"/>
                  </a:lnTo>
                  <a:lnTo>
                    <a:pt x="86" y="8399"/>
                  </a:lnTo>
                  <a:lnTo>
                    <a:pt x="102" y="8385"/>
                  </a:lnTo>
                  <a:lnTo>
                    <a:pt x="117" y="8368"/>
                  </a:lnTo>
                  <a:lnTo>
                    <a:pt x="134" y="8347"/>
                  </a:lnTo>
                  <a:lnTo>
                    <a:pt x="150" y="8323"/>
                  </a:lnTo>
                  <a:lnTo>
                    <a:pt x="181" y="8266"/>
                  </a:lnTo>
                  <a:lnTo>
                    <a:pt x="210" y="8197"/>
                  </a:lnTo>
                  <a:lnTo>
                    <a:pt x="238" y="8118"/>
                  </a:lnTo>
                  <a:lnTo>
                    <a:pt x="264" y="8028"/>
                  </a:lnTo>
                  <a:lnTo>
                    <a:pt x="288" y="7929"/>
                  </a:lnTo>
                  <a:lnTo>
                    <a:pt x="309" y="7822"/>
                  </a:lnTo>
                  <a:lnTo>
                    <a:pt x="328" y="7707"/>
                  </a:lnTo>
                  <a:lnTo>
                    <a:pt x="343" y="7584"/>
                  </a:lnTo>
                  <a:lnTo>
                    <a:pt x="356" y="7456"/>
                  </a:lnTo>
                  <a:lnTo>
                    <a:pt x="365" y="7321"/>
                  </a:lnTo>
                  <a:lnTo>
                    <a:pt x="370" y="7182"/>
                  </a:lnTo>
                  <a:lnTo>
                    <a:pt x="372" y="7039"/>
                  </a:lnTo>
                  <a:lnTo>
                    <a:pt x="372" y="1432"/>
                  </a:lnTo>
                  <a:lnTo>
                    <a:pt x="374" y="1288"/>
                  </a:lnTo>
                  <a:lnTo>
                    <a:pt x="380" y="1148"/>
                  </a:lnTo>
                  <a:lnTo>
                    <a:pt x="390" y="1012"/>
                  </a:lnTo>
                  <a:lnTo>
                    <a:pt x="402" y="882"/>
                  </a:lnTo>
                  <a:lnTo>
                    <a:pt x="418" y="758"/>
                  </a:lnTo>
                  <a:lnTo>
                    <a:pt x="436" y="641"/>
                  </a:lnTo>
                  <a:lnTo>
                    <a:pt x="458" y="532"/>
                  </a:lnTo>
                  <a:lnTo>
                    <a:pt x="482" y="431"/>
                  </a:lnTo>
                  <a:lnTo>
                    <a:pt x="509" y="339"/>
                  </a:lnTo>
                  <a:lnTo>
                    <a:pt x="538" y="256"/>
                  </a:lnTo>
                  <a:lnTo>
                    <a:pt x="569" y="184"/>
                  </a:lnTo>
                  <a:lnTo>
                    <a:pt x="603" y="123"/>
                  </a:lnTo>
                  <a:lnTo>
                    <a:pt x="621" y="96"/>
                  </a:lnTo>
                  <a:lnTo>
                    <a:pt x="639" y="72"/>
                  </a:lnTo>
                  <a:lnTo>
                    <a:pt x="658" y="52"/>
                  </a:lnTo>
                  <a:lnTo>
                    <a:pt x="678" y="34"/>
                  </a:lnTo>
                  <a:lnTo>
                    <a:pt x="699" y="20"/>
                  </a:lnTo>
                  <a:cubicBezTo>
                    <a:pt x="700" y="19"/>
                    <a:pt x="701" y="18"/>
                    <a:pt x="702" y="18"/>
                  </a:cubicBezTo>
                  <a:lnTo>
                    <a:pt x="720" y="9"/>
                  </a:lnTo>
                  <a:cubicBezTo>
                    <a:pt x="722" y="9"/>
                    <a:pt x="723" y="8"/>
                    <a:pt x="724" y="8"/>
                  </a:cubicBezTo>
                  <a:lnTo>
                    <a:pt x="743" y="2"/>
                  </a:lnTo>
                  <a:cubicBezTo>
                    <a:pt x="744" y="2"/>
                    <a:pt x="746" y="2"/>
                    <a:pt x="747" y="2"/>
                  </a:cubicBezTo>
                  <a:lnTo>
                    <a:pt x="766" y="0"/>
                  </a:lnTo>
                  <a:lnTo>
                    <a:pt x="771" y="47"/>
                  </a:lnTo>
                  <a:lnTo>
                    <a:pt x="752" y="49"/>
                  </a:lnTo>
                  <a:lnTo>
                    <a:pt x="756" y="49"/>
                  </a:lnTo>
                  <a:lnTo>
                    <a:pt x="737" y="54"/>
                  </a:lnTo>
                  <a:lnTo>
                    <a:pt x="740" y="53"/>
                  </a:lnTo>
                  <a:lnTo>
                    <a:pt x="722" y="61"/>
                  </a:lnTo>
                  <a:lnTo>
                    <a:pt x="725" y="59"/>
                  </a:lnTo>
                  <a:lnTo>
                    <a:pt x="709" y="70"/>
                  </a:lnTo>
                  <a:lnTo>
                    <a:pt x="693" y="84"/>
                  </a:lnTo>
                  <a:lnTo>
                    <a:pt x="677" y="102"/>
                  </a:lnTo>
                  <a:lnTo>
                    <a:pt x="661" y="122"/>
                  </a:lnTo>
                  <a:lnTo>
                    <a:pt x="645" y="146"/>
                  </a:lnTo>
                  <a:lnTo>
                    <a:pt x="613" y="203"/>
                  </a:lnTo>
                  <a:lnTo>
                    <a:pt x="583" y="272"/>
                  </a:lnTo>
                  <a:lnTo>
                    <a:pt x="555" y="352"/>
                  </a:lnTo>
                  <a:lnTo>
                    <a:pt x="529" y="442"/>
                  </a:lnTo>
                  <a:lnTo>
                    <a:pt x="505" y="541"/>
                  </a:lnTo>
                  <a:lnTo>
                    <a:pt x="484" y="649"/>
                  </a:lnTo>
                  <a:lnTo>
                    <a:pt x="465" y="764"/>
                  </a:lnTo>
                  <a:lnTo>
                    <a:pt x="450" y="886"/>
                  </a:lnTo>
                  <a:lnTo>
                    <a:pt x="437" y="1015"/>
                  </a:lnTo>
                  <a:lnTo>
                    <a:pt x="428" y="1149"/>
                  </a:lnTo>
                  <a:lnTo>
                    <a:pt x="422" y="1289"/>
                  </a:lnTo>
                  <a:lnTo>
                    <a:pt x="420" y="1432"/>
                  </a:lnTo>
                  <a:lnTo>
                    <a:pt x="420" y="7039"/>
                  </a:lnTo>
                  <a:lnTo>
                    <a:pt x="418" y="7184"/>
                  </a:lnTo>
                  <a:lnTo>
                    <a:pt x="413" y="7325"/>
                  </a:lnTo>
                  <a:lnTo>
                    <a:pt x="403" y="7460"/>
                  </a:lnTo>
                  <a:lnTo>
                    <a:pt x="391" y="7590"/>
                  </a:lnTo>
                  <a:lnTo>
                    <a:pt x="375" y="7714"/>
                  </a:lnTo>
                  <a:lnTo>
                    <a:pt x="357" y="7831"/>
                  </a:lnTo>
                  <a:lnTo>
                    <a:pt x="335" y="7941"/>
                  </a:lnTo>
                  <a:lnTo>
                    <a:pt x="311" y="8042"/>
                  </a:lnTo>
                  <a:lnTo>
                    <a:pt x="284" y="8134"/>
                  </a:lnTo>
                  <a:lnTo>
                    <a:pt x="254" y="8216"/>
                  </a:lnTo>
                  <a:lnTo>
                    <a:pt x="223" y="8289"/>
                  </a:lnTo>
                  <a:lnTo>
                    <a:pt x="189" y="8350"/>
                  </a:lnTo>
                  <a:lnTo>
                    <a:pt x="171" y="8377"/>
                  </a:lnTo>
                  <a:lnTo>
                    <a:pt x="153" y="8400"/>
                  </a:lnTo>
                  <a:lnTo>
                    <a:pt x="133" y="8421"/>
                  </a:lnTo>
                  <a:lnTo>
                    <a:pt x="113" y="8439"/>
                  </a:lnTo>
                  <a:lnTo>
                    <a:pt x="94" y="8451"/>
                  </a:lnTo>
                  <a:cubicBezTo>
                    <a:pt x="93" y="8452"/>
                    <a:pt x="92" y="8453"/>
                    <a:pt x="91" y="8453"/>
                  </a:cubicBezTo>
                  <a:lnTo>
                    <a:pt x="72" y="8462"/>
                  </a:lnTo>
                  <a:cubicBezTo>
                    <a:pt x="71" y="8462"/>
                    <a:pt x="70" y="8463"/>
                    <a:pt x="69" y="8463"/>
                  </a:cubicBezTo>
                  <a:lnTo>
                    <a:pt x="50" y="8469"/>
                  </a:lnTo>
                  <a:cubicBezTo>
                    <a:pt x="49" y="8469"/>
                    <a:pt x="47" y="8469"/>
                    <a:pt x="46" y="8469"/>
                  </a:cubicBezTo>
                  <a:lnTo>
                    <a:pt x="27" y="8471"/>
                  </a:lnTo>
                  <a:lnTo>
                    <a:pt x="27" y="8424"/>
                  </a:lnTo>
                  <a:lnTo>
                    <a:pt x="46" y="8426"/>
                  </a:lnTo>
                  <a:cubicBezTo>
                    <a:pt x="47" y="8426"/>
                    <a:pt x="49" y="8426"/>
                    <a:pt x="50" y="8426"/>
                  </a:cubicBezTo>
                  <a:lnTo>
                    <a:pt x="69" y="8432"/>
                  </a:lnTo>
                  <a:cubicBezTo>
                    <a:pt x="70" y="8432"/>
                    <a:pt x="71" y="8433"/>
                    <a:pt x="72" y="8433"/>
                  </a:cubicBezTo>
                  <a:lnTo>
                    <a:pt x="91" y="8442"/>
                  </a:lnTo>
                  <a:cubicBezTo>
                    <a:pt x="92" y="8442"/>
                    <a:pt x="93" y="8443"/>
                    <a:pt x="94" y="8444"/>
                  </a:cubicBezTo>
                  <a:lnTo>
                    <a:pt x="115" y="8458"/>
                  </a:lnTo>
                  <a:lnTo>
                    <a:pt x="135" y="8476"/>
                  </a:lnTo>
                  <a:lnTo>
                    <a:pt x="154" y="8496"/>
                  </a:lnTo>
                  <a:lnTo>
                    <a:pt x="172" y="8520"/>
                  </a:lnTo>
                  <a:lnTo>
                    <a:pt x="190" y="8547"/>
                  </a:lnTo>
                  <a:lnTo>
                    <a:pt x="224" y="8608"/>
                  </a:lnTo>
                  <a:lnTo>
                    <a:pt x="255" y="8680"/>
                  </a:lnTo>
                  <a:lnTo>
                    <a:pt x="284" y="8763"/>
                  </a:lnTo>
                  <a:lnTo>
                    <a:pt x="311" y="8855"/>
                  </a:lnTo>
                  <a:lnTo>
                    <a:pt x="335" y="8956"/>
                  </a:lnTo>
                  <a:lnTo>
                    <a:pt x="357" y="9065"/>
                  </a:lnTo>
                  <a:lnTo>
                    <a:pt x="375" y="9182"/>
                  </a:lnTo>
                  <a:lnTo>
                    <a:pt x="391" y="9306"/>
                  </a:lnTo>
                  <a:lnTo>
                    <a:pt x="404" y="9436"/>
                  </a:lnTo>
                  <a:lnTo>
                    <a:pt x="413" y="9572"/>
                  </a:lnTo>
                  <a:lnTo>
                    <a:pt x="418" y="9712"/>
                  </a:lnTo>
                  <a:lnTo>
                    <a:pt x="420" y="9856"/>
                  </a:lnTo>
                  <a:lnTo>
                    <a:pt x="420" y="15463"/>
                  </a:lnTo>
                  <a:lnTo>
                    <a:pt x="422" y="15606"/>
                  </a:lnTo>
                  <a:lnTo>
                    <a:pt x="428" y="15745"/>
                  </a:lnTo>
                  <a:lnTo>
                    <a:pt x="437" y="15880"/>
                  </a:lnTo>
                  <a:lnTo>
                    <a:pt x="450" y="16008"/>
                  </a:lnTo>
                  <a:lnTo>
                    <a:pt x="465" y="16131"/>
                  </a:lnTo>
                  <a:lnTo>
                    <a:pt x="484" y="16246"/>
                  </a:lnTo>
                  <a:lnTo>
                    <a:pt x="505" y="16353"/>
                  </a:lnTo>
                  <a:lnTo>
                    <a:pt x="529" y="16452"/>
                  </a:lnTo>
                  <a:lnTo>
                    <a:pt x="555" y="16542"/>
                  </a:lnTo>
                  <a:lnTo>
                    <a:pt x="582" y="16621"/>
                  </a:lnTo>
                  <a:lnTo>
                    <a:pt x="613" y="16690"/>
                  </a:lnTo>
                  <a:lnTo>
                    <a:pt x="644" y="16747"/>
                  </a:lnTo>
                  <a:lnTo>
                    <a:pt x="660" y="16771"/>
                  </a:lnTo>
                  <a:lnTo>
                    <a:pt x="676" y="16792"/>
                  </a:lnTo>
                  <a:lnTo>
                    <a:pt x="691" y="16809"/>
                  </a:lnTo>
                  <a:lnTo>
                    <a:pt x="707" y="16823"/>
                  </a:lnTo>
                  <a:lnTo>
                    <a:pt x="725" y="16836"/>
                  </a:lnTo>
                  <a:lnTo>
                    <a:pt x="722" y="16834"/>
                  </a:lnTo>
                  <a:lnTo>
                    <a:pt x="740" y="16842"/>
                  </a:lnTo>
                  <a:lnTo>
                    <a:pt x="737" y="16841"/>
                  </a:lnTo>
                  <a:lnTo>
                    <a:pt x="756" y="16846"/>
                  </a:lnTo>
                  <a:lnTo>
                    <a:pt x="752" y="16846"/>
                  </a:lnTo>
                  <a:lnTo>
                    <a:pt x="771" y="16848"/>
                  </a:lnTo>
                  <a:lnTo>
                    <a:pt x="766" y="168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47"/>
            <p:cNvSpPr/>
            <p:nvPr/>
          </p:nvSpPr>
          <p:spPr>
            <a:xfrm>
              <a:off x="7201800" y="4620240"/>
              <a:ext cx="1829160" cy="593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48"/>
            <p:cNvSpPr/>
            <p:nvPr/>
          </p:nvSpPr>
          <p:spPr>
            <a:xfrm>
              <a:off x="7201800" y="4617000"/>
              <a:ext cx="1832760" cy="60012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128" h="364">
                  <a:moveTo>
                    <a:pt x="0" y="0"/>
                  </a:moveTo>
                  <a:lnTo>
                    <a:pt x="1128" y="0"/>
                  </a:lnTo>
                  <a:lnTo>
                    <a:pt x="1128" y="364"/>
                  </a:lnTo>
                  <a:lnTo>
                    <a:pt x="0" y="364"/>
                  </a:lnTo>
                  <a:lnTo>
                    <a:pt x="0" y="0"/>
                  </a:lnTo>
                  <a:close/>
                  <a:moveTo>
                    <a:pt x="5" y="362"/>
                  </a:moveTo>
                  <a:lnTo>
                    <a:pt x="2" y="360"/>
                  </a:lnTo>
                  <a:lnTo>
                    <a:pt x="1126" y="360"/>
                  </a:lnTo>
                  <a:lnTo>
                    <a:pt x="1123" y="362"/>
                  </a:lnTo>
                  <a:lnTo>
                    <a:pt x="1123" y="2"/>
                  </a:lnTo>
                  <a:lnTo>
                    <a:pt x="1126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49"/>
            <p:cNvSpPr/>
            <p:nvPr/>
          </p:nvSpPr>
          <p:spPr>
            <a:xfrm>
              <a:off x="7270200" y="4696200"/>
              <a:ext cx="1693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Оперативни програ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16489f"/>
                  </a:solidFill>
                  <a:latin typeface="Times New Roman"/>
                  <a:ea typeface="Arial"/>
                </a:rPr>
                <a:t>ЕФМД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Rectangle 19"/>
          <p:cNvSpPr/>
          <p:nvPr/>
        </p:nvSpPr>
        <p:spPr>
          <a:xfrm>
            <a:off x="2493000" y="5281560"/>
            <a:ext cx="210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Оперативни програми ЕС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19"/>
          <p:cNvSpPr/>
          <p:nvPr/>
        </p:nvSpPr>
        <p:spPr>
          <a:xfrm>
            <a:off x="2527200" y="5815080"/>
            <a:ext cx="199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Оперативни програми К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19"/>
          <p:cNvSpPr/>
          <p:nvPr/>
        </p:nvSpPr>
        <p:spPr>
          <a:xfrm>
            <a:off x="2527200" y="6280200"/>
            <a:ext cx="2099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Многофондови оператив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16489f"/>
                </a:solidFill>
                <a:latin typeface="Times New Roman"/>
                <a:ea typeface="Arial"/>
              </a:rPr>
              <a:t>програми ЕФРР, ЕСФ, К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8"/>
          <p:cNvSpPr/>
          <p:nvPr/>
        </p:nvSpPr>
        <p:spPr>
          <a:xfrm>
            <a:off x="439560" y="836640"/>
            <a:ext cx="806472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4" name="TextBox 5"/>
          <p:cNvGrpSpPr/>
          <p:nvPr/>
        </p:nvGrpSpPr>
        <p:grpSpPr>
          <a:xfrm>
            <a:off x="457200" y="2054160"/>
            <a:ext cx="7937640" cy="1622520"/>
            <a:chOff x="457200" y="2054160"/>
            <a:chExt cx="7937640" cy="1622520"/>
          </a:xfrm>
        </p:grpSpPr>
        <p:pic>
          <p:nvPicPr>
            <p:cNvPr id="995" name="TextBox 5" descr=""/>
            <p:cNvPicPr/>
            <p:nvPr/>
          </p:nvPicPr>
          <p:blipFill>
            <a:blip r:embed="rId1"/>
            <a:stretch/>
          </p:blipFill>
          <p:spPr>
            <a:xfrm>
              <a:off x="457200" y="2054160"/>
              <a:ext cx="793764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440" y="213840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Климат и климатични промени, превенция и управление на рис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7" name="TextBox 6"/>
          <p:cNvGrpSpPr/>
          <p:nvPr/>
        </p:nvGrpSpPr>
        <p:grpSpPr>
          <a:xfrm>
            <a:off x="506520" y="4505400"/>
            <a:ext cx="7935840" cy="1481040"/>
            <a:chOff x="506520" y="4505400"/>
            <a:chExt cx="7935840" cy="1481040"/>
          </a:xfrm>
        </p:grpSpPr>
        <p:pic>
          <p:nvPicPr>
            <p:cNvPr id="998" name="TextBox 6" descr=""/>
            <p:cNvPicPr/>
            <p:nvPr/>
          </p:nvPicPr>
          <p:blipFill>
            <a:blip r:embed="rId2"/>
            <a:stretch/>
          </p:blipFill>
          <p:spPr>
            <a:xfrm>
              <a:off x="506520" y="4505400"/>
              <a:ext cx="79358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>
              <a:off x="584280" y="4579920"/>
              <a:ext cx="777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изменение на климата, превенция и управление на рис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есурсна и енергийна ефективнос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324000" y="404280"/>
            <a:ext cx="8712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тражение на изменението на климата върху питейно водоснабдяване, селско стопанство, горско стопанство, туризъм, рибарство и аквакултури, потреблението на ене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Значителни рискове, свързани с изменението на климата - повишена честота на бедствията, засушаване, намаляване годността на културите, навлизане на инвазивни видове и разпространението на атипични инфекциозни заболявания, мащабни свлачищни, срутищни, абразионни, ерозионни и други неблагоприятни геодинамични проце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адекватни мерки за управление на риска, в т.ч. анализ и оценка на риска от природни бедствия, неразвити системи за ранно предупреждение</a:t>
            </a:r>
            <a:r>
              <a:rPr b="1" lang="ru-RU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онни дейности за превенция и управление на риска от изменението на климата – превенция / защита от наводнения; свлачища; засушав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бществена политика и изграждане на административен капацитет за адаптиране към изменението на климата – единна база данни за основните видове бедствия; учения на първите реагиращи при бедствия; Национален център за управление на водите в реално вр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8"/>
          <p:cNvSpPr/>
          <p:nvPr/>
        </p:nvSpPr>
        <p:spPr>
          <a:xfrm>
            <a:off x="439560" y="836640"/>
            <a:ext cx="830916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2" name="TextBox 5"/>
          <p:cNvGrpSpPr/>
          <p:nvPr/>
        </p:nvGrpSpPr>
        <p:grpSpPr>
          <a:xfrm>
            <a:off x="506520" y="1700280"/>
            <a:ext cx="8210520" cy="1622520"/>
            <a:chOff x="506520" y="1700280"/>
            <a:chExt cx="8210520" cy="1622520"/>
          </a:xfrm>
        </p:grpSpPr>
        <p:pic>
          <p:nvPicPr>
            <p:cNvPr id="1003" name="TextBox 5" descr=""/>
            <p:cNvPicPr/>
            <p:nvPr/>
          </p:nvPicPr>
          <p:blipFill>
            <a:blip r:embed="rId1"/>
            <a:stretch/>
          </p:blipFill>
          <p:spPr>
            <a:xfrm>
              <a:off x="506520" y="1700280"/>
              <a:ext cx="8210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87520" y="1787400"/>
              <a:ext cx="80420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314510"/>
                  </a:solidFill>
                  <a:latin typeface="Calibri"/>
                </a:rPr>
                <a:t>Околна среда и опазване на природното богатство и културно-историческото наслед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TextBox 6"/>
          <p:cNvGrpSpPr/>
          <p:nvPr/>
        </p:nvGrpSpPr>
        <p:grpSpPr>
          <a:xfrm>
            <a:off x="480960" y="3786120"/>
            <a:ext cx="8182080" cy="1139760"/>
            <a:chOff x="480960" y="3786120"/>
            <a:chExt cx="8182080" cy="1139760"/>
          </a:xfrm>
        </p:grpSpPr>
        <p:pic>
          <p:nvPicPr>
            <p:cNvPr id="1006" name="TextBox 6" descr=""/>
            <p:cNvPicPr/>
            <p:nvPr/>
          </p:nvPicPr>
          <p:blipFill>
            <a:blip r:embed="rId2"/>
            <a:stretch/>
          </p:blipFill>
          <p:spPr>
            <a:xfrm>
              <a:off x="480960" y="3786120"/>
              <a:ext cx="81820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544680" y="3843360"/>
              <a:ext cx="8053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Растеж, основан на свързаност, устойчиво развитие и ефикасно използване на ресурс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околна сре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8" name="TextBox 4"/>
          <p:cNvGrpSpPr/>
          <p:nvPr/>
        </p:nvGrpSpPr>
        <p:grpSpPr>
          <a:xfrm>
            <a:off x="469800" y="5578560"/>
            <a:ext cx="8143920" cy="457200"/>
            <a:chOff x="469800" y="5578560"/>
            <a:chExt cx="8143920" cy="457200"/>
          </a:xfrm>
        </p:grpSpPr>
        <p:pic>
          <p:nvPicPr>
            <p:cNvPr id="1009" name="TextBox 4" descr=""/>
            <p:cNvPicPr/>
            <p:nvPr/>
          </p:nvPicPr>
          <p:blipFill>
            <a:blip r:embed="rId3"/>
            <a:stretch/>
          </p:blipFill>
          <p:spPr>
            <a:xfrm>
              <a:off x="469800" y="5578560"/>
              <a:ext cx="81439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498600" y="5603760"/>
              <a:ext cx="80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11171d"/>
                  </a:solidFill>
                  <a:latin typeface="Calibri"/>
                </a:rPr>
                <a:t>Специфични териториални характеристи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324000" y="259920"/>
            <a:ext cx="8712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19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едостатъчни усилия и инвестиции в дейности за опазване на околната сред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влошено качество на въздух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липса на стимули за опазване на биологичното разнообраз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иско качество на градската среда и благоустройството в градовет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нужда от опазване на природното и културно наследство при наличие на уникални недвижими културни ценност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управление на водите </a:t>
            </a: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- изграждане на ВиК инфраструктура </a:t>
            </a:r>
            <a:r>
              <a:rPr b="0" lang="en-US" sz="1900" spc="-1" strike="noStrike">
                <a:solidFill>
                  <a:srgbClr val="18077b"/>
                </a:solidFill>
                <a:latin typeface="Calibri"/>
              </a:rPr>
              <a:t>(</a:t>
            </a: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приоритетно в агломерации с над 10 000 екв. ж.</a:t>
            </a:r>
            <a:r>
              <a:rPr b="0" lang="en-US" sz="1900" spc="-1" strike="noStrike">
                <a:solidFill>
                  <a:srgbClr val="18077b"/>
                </a:solidFill>
                <a:latin typeface="Calibri"/>
              </a:rPr>
              <a:t>)</a:t>
            </a: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; намаляване на въздействите на селското стопанство върху водите; изграждане и оборудване на системи за мониторинг на водит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управление на отпадъците – системи за оползотворяване и третиране на отпадъци; инсталация за комбинирано производство на енергия в Соф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защита на биоразнообразието и природните ресурс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8077b"/>
                </a:solidFill>
                <a:latin typeface="Calibri"/>
              </a:rPr>
              <a:t>опазване на въздуха – устойчив и интегриран градски транспорт; газифициране; системи за мониторинг на въздух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18077b"/>
                </a:solidFill>
                <a:latin typeface="Calibri"/>
              </a:rPr>
              <a:t>опазване на културното наследство – финансиране на регионален туристически продукт; дигитализация на културното наследст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8"/>
          <p:cNvSpPr/>
          <p:nvPr/>
        </p:nvSpPr>
        <p:spPr>
          <a:xfrm>
            <a:off x="439560" y="836640"/>
            <a:ext cx="830916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TextBox 7"/>
          <p:cNvGrpSpPr/>
          <p:nvPr/>
        </p:nvGrpSpPr>
        <p:grpSpPr>
          <a:xfrm>
            <a:off x="438120" y="1481040"/>
            <a:ext cx="7943760" cy="1616040"/>
            <a:chOff x="438120" y="1481040"/>
            <a:chExt cx="7943760" cy="1616040"/>
          </a:xfrm>
        </p:grpSpPr>
        <p:pic>
          <p:nvPicPr>
            <p:cNvPr id="1014" name="TextBox 7" descr=""/>
            <p:cNvPicPr/>
            <p:nvPr/>
          </p:nvPicPr>
          <p:blipFill>
            <a:blip r:embed="rId1"/>
            <a:stretch/>
          </p:blipFill>
          <p:spPr>
            <a:xfrm>
              <a:off x="438120" y="1481040"/>
              <a:ext cx="79437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525600" y="1563840"/>
              <a:ext cx="77644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Стратегически приоритет 4 </a:t>
              </a:r>
              <a:r>
                <a:rPr b="0" lang="bg-BG" sz="2000" spc="-1" strike="noStrike">
                  <a:solidFill>
                    <a:srgbClr val="4e2929"/>
                  </a:solidFill>
                  <a:latin typeface="Calibri"/>
                </a:rPr>
                <a:t>(хоризонтален)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: Добро управление и достъп да качествени административни услуг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Административна ефективност и електронно управление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6" name="TextBox 9"/>
          <p:cNvGrpSpPr/>
          <p:nvPr/>
        </p:nvGrpSpPr>
        <p:grpSpPr>
          <a:xfrm>
            <a:off x="506520" y="5151600"/>
            <a:ext cx="7935840" cy="798480"/>
            <a:chOff x="506520" y="5151600"/>
            <a:chExt cx="7935840" cy="798480"/>
          </a:xfrm>
        </p:grpSpPr>
        <p:pic>
          <p:nvPicPr>
            <p:cNvPr id="1017" name="TextBox 9" descr=""/>
            <p:cNvPicPr/>
            <p:nvPr/>
          </p:nvPicPr>
          <p:blipFill>
            <a:blip r:embed="rId2"/>
            <a:stretch/>
          </p:blipFill>
          <p:spPr>
            <a:xfrm>
              <a:off x="506520" y="5151600"/>
              <a:ext cx="79358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550800" y="5195880"/>
              <a:ext cx="784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Растеж, основан на иновации и предприем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редизвикателства пред МСП и състояние на сектор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9" name="TextBox 10"/>
          <p:cNvGrpSpPr/>
          <p:nvPr/>
        </p:nvGrpSpPr>
        <p:grpSpPr>
          <a:xfrm>
            <a:off x="438120" y="3402000"/>
            <a:ext cx="7943760" cy="1139760"/>
            <a:chOff x="438120" y="3402000"/>
            <a:chExt cx="7943760" cy="1139760"/>
          </a:xfrm>
        </p:grpSpPr>
        <p:pic>
          <p:nvPicPr>
            <p:cNvPr id="1020" name="TextBox 10" descr=""/>
            <p:cNvPicPr/>
            <p:nvPr/>
          </p:nvPicPr>
          <p:blipFill>
            <a:blip r:embed="rId3"/>
            <a:stretch/>
          </p:blipFill>
          <p:spPr>
            <a:xfrm>
              <a:off x="438120" y="3402000"/>
              <a:ext cx="79437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501480" y="3463920"/>
              <a:ext cx="781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Растеж, основан на ефективна публична администрация и съдебна систем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административна реформа и електронно управ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Content Placeholder 2"/>
          <p:cNvSpPr/>
          <p:nvPr/>
        </p:nvSpPr>
        <p:spPr>
          <a:xfrm>
            <a:off x="474840" y="0"/>
            <a:ext cx="843408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8077b"/>
                </a:solidFill>
                <a:latin typeface="Calibri"/>
              </a:rPr>
              <a:t>необходимост от подобряване на административното обслужване и намаляване на административната теже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липса на последователни действия в прилагането на стратегията за управление на човешките ресурси в администрация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недостатъчно развитие и ниска степен на използване на услугите на електронното у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необходимост от подобряване на институционалната среда за по-ефективно разходване на публични сред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яване на ефективността на администрацията и административните услуги, намаляване на административната тежес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ефективно планиране и прилагане на публичните политики на всички нива на държавното управ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електронно управление - методики и инструменти, информационни центрове за данни и възстановяване при бедствие, дигитализация, цифровизация и  осигуряване на оперативната съвместимост, разработване на секторни и комплексни електронни услуги за гражданите и бизнеса - е-правителство, е-здравеопазване, е-образование, е-обществени поръчки, е-митници, системи и услуги на приходните администрации и е-идентификация, е-възлага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яване управлението на човешките ресурси в администрация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засилване на участието на социално-икономическите партньори и НПО в управление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яване на институционална и политическа рамка за насърчаване на заетост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8"/>
          <p:cNvSpPr/>
          <p:nvPr/>
        </p:nvSpPr>
        <p:spPr>
          <a:xfrm>
            <a:off x="439560" y="836640"/>
            <a:ext cx="8309160" cy="5248080"/>
          </a:xfrm>
          <a:prstGeom prst="rect">
            <a:avLst/>
          </a:prstGeom>
          <a:noFill/>
          <a:ln w="158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TextBox 7"/>
          <p:cNvGrpSpPr/>
          <p:nvPr/>
        </p:nvGrpSpPr>
        <p:grpSpPr>
          <a:xfrm>
            <a:off x="530280" y="1841400"/>
            <a:ext cx="7937280" cy="1206720"/>
            <a:chOff x="530280" y="1841400"/>
            <a:chExt cx="7937280" cy="1206720"/>
          </a:xfrm>
        </p:grpSpPr>
        <p:pic>
          <p:nvPicPr>
            <p:cNvPr id="1025" name="TextBox 7" descr=""/>
            <p:cNvPicPr/>
            <p:nvPr/>
          </p:nvPicPr>
          <p:blipFill>
            <a:blip r:embed="rId1"/>
            <a:stretch/>
          </p:blipFill>
          <p:spPr>
            <a:xfrm>
              <a:off x="530280" y="1841400"/>
              <a:ext cx="793728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593640" y="1903320"/>
              <a:ext cx="7805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Стратегически приоритет 4 </a:t>
              </a:r>
              <a:r>
                <a:rPr b="0" lang="bg-BG" sz="2000" spc="-1" strike="noStrike">
                  <a:solidFill>
                    <a:srgbClr val="4e2929"/>
                  </a:solidFill>
                  <a:latin typeface="Calibri"/>
                </a:rPr>
                <a:t>(хоризонтален)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: Добро управление и достъп да качествени административни услуг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Ефективна съдебна система и е-правосъдие</a:t>
              </a:r>
              <a:r>
                <a:rPr b="1" lang="bg-BG" sz="24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TextBox 10"/>
          <p:cNvGrpSpPr/>
          <p:nvPr/>
        </p:nvGrpSpPr>
        <p:grpSpPr>
          <a:xfrm>
            <a:off x="530280" y="3925800"/>
            <a:ext cx="7937280" cy="1481400"/>
            <a:chOff x="530280" y="3925800"/>
            <a:chExt cx="7937280" cy="1481400"/>
          </a:xfrm>
        </p:grpSpPr>
        <p:pic>
          <p:nvPicPr>
            <p:cNvPr id="1028" name="TextBox 10" descr=""/>
            <p:cNvPicPr/>
            <p:nvPr/>
          </p:nvPicPr>
          <p:blipFill>
            <a:blip r:embed="rId2"/>
            <a:stretch/>
          </p:blipFill>
          <p:spPr>
            <a:xfrm>
              <a:off x="530280" y="3925800"/>
              <a:ext cx="793728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608040" y="4005360"/>
              <a:ext cx="777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Растеж, основан на ефективна публична администрация и съдебна систем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административна реформа и електронно управ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	</a:t>
              </a:r>
              <a:r>
                <a:rPr b="1" lang="bg-BG" sz="2000" spc="-1" strike="noStrike">
                  <a:solidFill>
                    <a:srgbClr val="4e2929"/>
                  </a:solidFill>
                  <a:latin typeface="Calibri"/>
                </a:rPr>
                <a:t>качество на съдебната систем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468360" y="981000"/>
            <a:ext cx="820728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овни </a:t>
            </a:r>
            <a:r>
              <a:rPr b="1" lang="bg-BG" sz="2000" spc="-1" strike="noStrike">
                <a:solidFill>
                  <a:srgbClr val="ffffff"/>
                </a:solidFill>
                <a:latin typeface="Calibri"/>
              </a:rPr>
              <a:t> проблем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ълга продължителност на съдебнит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лабо прилагане на извънсъдебни форми за разрешаване на граждански и търговски спор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необходимост от последователни действия в управлението на човешките ресур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липса на електронно правосъдие за по-бърз правораздавателен процес и сигурност на информация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077b"/>
                </a:solidFill>
                <a:latin typeface="Calibri"/>
              </a:rPr>
              <a:t>Основни интерв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77b"/>
                </a:solidFill>
                <a:latin typeface="Calibri"/>
              </a:rPr>
              <a:t>ефективност и ефикасност на съдебната система</a:t>
            </a:r>
            <a:r>
              <a:rPr b="0" lang="en-US" sz="20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остъпна и достоверна съдебна статистика, функциониране на качествени системи за управление на човешките ресурси, обучения, вкл. международно сътрудничество, укрепване на капацитета на НИ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е-правосъдие – единна информационна система на прокуратура, следствие и съдилища, технологично обезпечаване на съдебната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1186920" y="2781000"/>
            <a:ext cx="723924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 fontScale="94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ОСНОВНИ ПРИОРИТЕТИ ЗА ФИНАНСИРАНЕ – ОСЪЩЕСТВЯВАНЕ И РЕЗУЛТАТИ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2" name=""/>
          <p:cNvGraphicFramePr/>
          <p:nvPr/>
        </p:nvGraphicFramePr>
        <p:xfrm>
          <a:off x="324000" y="447840"/>
          <a:ext cx="8785080" cy="6505560"/>
        </p:xfrm>
        <a:graphic>
          <a:graphicData uri="http://schemas.openxmlformats.org/drawingml/2006/table">
            <a:tbl>
              <a:tblPr/>
              <a:tblGrid>
                <a:gridCol w="1368360"/>
                <a:gridCol w="7416720"/>
              </a:tblGrid>
              <a:tr h="313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71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и дей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6717"/>
                    </a:solidFill>
                  </a:tcPr>
                </a:tc>
              </a:tr>
              <a:tr h="5842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Т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П. транспор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раструктура и подвижен съста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;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ътищ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истрали, пътища І-ви кл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метро (инфраструктура и подвижен състав); интермодален и мултимодален транспорт; управление на траф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4921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и (пречиствателни станции и ВиК); отпадъци (третиране на отпадъци, повторна преработка); Натура 2000 и биоразнообразие; управление на рискове и защита от бед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720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ергийна ефективност (публични и жилищни сгради); болници, училища, детски градини; градска среда (благоустрояване); опазване и развитие на културно-исторически паметници; регионална пътна инфраструктура - свързани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мрежат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градски 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4348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очени към бизнеса и предприятията: иновации; нови технологии; енергийна ефективност;  навлизане на международни пазар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7034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НО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науката; развитие на качествено образование на всички нива; намаляване на ранното отпадане от училище и образователна интеграция на малцинствени групи;  учене през целия жив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936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РЧ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ки за заетост (посреднически услуги, обучения, стажове, предприемачество); мерки за качествени социални и здравни услуги, деинституционализация на деца и възрастни; учене през целия живот; подкрепа за институциите и партньорите в сферата на пазара на труда, социалното включване и здравеопазване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9144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лексно административно обслужване и намаляване на административната тежест; Управление на човешките ресурси в администрацията и съдебната система; електронно управление (е-здравеопазване, е-образование, е-обществени поръчки, е-митници и е-идентификация, е-правосъд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  <a:tr h="7585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МД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крепа в сектора на аквакултурата, рибарството и свързаната с тях преработка; диверсификация; мерки за заетост; мерки за опазване на околната среда; иновации; контрол и събиране на дан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d958"/>
                    </a:solidFill>
                  </a:tcPr>
                </a:tc>
              </a:tr>
              <a:tr h="648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С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помагане на земеделските стопанства (МСП в селските райони); НИРД и иновации; образование; заетост; опазване на околната среда; диверсификация; инвестиции в публична инфраструктура; пазари на производителите; ИК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2c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Title 1" descr=""/>
          <p:cNvPicPr/>
          <p:nvPr/>
        </p:nvPicPr>
        <p:blipFill>
          <a:blip r:embed="rId1"/>
          <a:stretch/>
        </p:blipFill>
        <p:spPr>
          <a:xfrm>
            <a:off x="652320" y="133200"/>
            <a:ext cx="7053480" cy="860400"/>
          </a:xfrm>
          <a:prstGeom prst="rect">
            <a:avLst/>
          </a:prstGeom>
          <a:ln w="0">
            <a:noFill/>
          </a:ln>
        </p:spPr>
      </p:pic>
      <p:grpSp>
        <p:nvGrpSpPr>
          <p:cNvPr id="768" name="Group 4"/>
          <p:cNvGrpSpPr/>
          <p:nvPr/>
        </p:nvGrpSpPr>
        <p:grpSpPr>
          <a:xfrm>
            <a:off x="387360" y="1255320"/>
            <a:ext cx="8927640" cy="5602680"/>
            <a:chOff x="387360" y="1255320"/>
            <a:chExt cx="8927640" cy="5602680"/>
          </a:xfrm>
        </p:grpSpPr>
        <p:sp>
          <p:nvSpPr>
            <p:cNvPr id="769" name="AutoShape 5"/>
            <p:cNvSpPr/>
            <p:nvPr/>
          </p:nvSpPr>
          <p:spPr>
            <a:xfrm>
              <a:off x="623160" y="1255680"/>
              <a:ext cx="8691840" cy="56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6"/>
            <p:cNvSpPr/>
            <p:nvPr/>
          </p:nvSpPr>
          <p:spPr>
            <a:xfrm>
              <a:off x="387360" y="1941840"/>
              <a:ext cx="1374120" cy="12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Предложение за тематични цели, ОП, финансов ресурс и водещи ведом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7"/>
            <p:cNvSpPr/>
            <p:nvPr/>
          </p:nvSpPr>
          <p:spPr>
            <a:xfrm>
              <a:off x="5073840" y="2283480"/>
              <a:ext cx="2057760" cy="4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Съответствие на проектите на СП и ОП с НП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utoShape 8"/>
            <p:cNvSpPr/>
            <p:nvPr/>
          </p:nvSpPr>
          <p:spPr>
            <a:xfrm>
              <a:off x="4616640" y="1941840"/>
              <a:ext cx="277200" cy="792000"/>
            </a:xfrm>
            <a:prstGeom prst="upArrow">
              <a:avLst>
                <a:gd name="adj1" fmla="val 50111"/>
                <a:gd name="adj2" fmla="val 3254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9"/>
            <p:cNvSpPr/>
            <p:nvPr/>
          </p:nvSpPr>
          <p:spPr>
            <a:xfrm>
              <a:off x="8044920" y="1941840"/>
              <a:ext cx="1027800" cy="108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Внасяне на СП и ОП за одобре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10"/>
            <p:cNvSpPr/>
            <p:nvPr/>
          </p:nvSpPr>
          <p:spPr>
            <a:xfrm rot="10800000">
              <a:off x="6216840" y="1255320"/>
              <a:ext cx="1830240" cy="2122200"/>
            </a:xfrm>
            <a:custGeom>
              <a:avLst/>
              <a:gdLst>
                <a:gd name="textAreaLeft" fmla="*/ 245160 w 1830240"/>
                <a:gd name="textAreaRight" fmla="*/ 1585080 w 1830240"/>
                <a:gd name="textAreaTop" fmla="*/ 371160 h 2122200"/>
                <a:gd name="textAreaBottom" fmla="*/ 1538640 h 21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56" stAng="-5400000" swAng="-5400000"/>
                  <a:lnTo>
                    <a:pt x="0" y="11882"/>
                  </a:lnTo>
                  <a:arcTo wR="21600" hR="7556" stAng="10800000" swAng="-2681614"/>
                  <a:lnTo>
                    <a:pt x="14400" y="21168"/>
                  </a:lnTo>
                  <a:lnTo>
                    <a:pt x="21600" y="17274"/>
                  </a:lnTo>
                  <a:lnTo>
                    <a:pt x="14400" y="12516"/>
                  </a:lnTo>
                  <a:lnTo>
                    <a:pt x="14400" y="14679"/>
                  </a:lnTo>
                  <a:arcTo wR="21600" hR="7556" stAng="8118386" swAng="2323624"/>
                  <a:lnTo>
                    <a:pt x="904" y="9719"/>
                  </a:lnTo>
                  <a:arcTo wR="21600" hR="7556" stAng="-10442010" swAng="5042010"/>
                  <a:close/>
                </a:path>
                <a:path fill="darkenLess" w="21600" h="21600">
                  <a:moveTo>
                    <a:pt x="21600" y="0"/>
                  </a:moveTo>
                  <a:arcTo wR="21600" hR="7556" stAng="-5400000" swAng="-5400000"/>
                  <a:lnTo>
                    <a:pt x="0" y="7556"/>
                  </a:lnTo>
                  <a:arcTo wR="21600" hR="7556" stAng="10800000" swAng="-357990"/>
                  <a:lnTo>
                    <a:pt x="904" y="9719"/>
                  </a:lnTo>
                  <a:arcTo wR="21600" hR="7556" stAng="-10442010" swAng="504201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11"/>
            <p:cNvGrpSpPr/>
            <p:nvPr/>
          </p:nvGrpSpPr>
          <p:grpSpPr>
            <a:xfrm>
              <a:off x="3473280" y="5369760"/>
              <a:ext cx="2516040" cy="1485360"/>
              <a:chOff x="3473280" y="5369760"/>
              <a:chExt cx="2516040" cy="1485360"/>
            </a:xfrm>
          </p:grpSpPr>
          <p:sp>
            <p:nvSpPr>
              <p:cNvPr id="776" name="Oval 12"/>
              <p:cNvSpPr/>
              <p:nvPr/>
            </p:nvSpPr>
            <p:spPr>
              <a:xfrm>
                <a:off x="3473280" y="5369760"/>
                <a:ext cx="2516040" cy="14853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Text Box 13"/>
              <p:cNvSpPr/>
              <p:nvPr/>
            </p:nvSpPr>
            <p:spPr>
              <a:xfrm>
                <a:off x="3815640" y="5711040"/>
                <a:ext cx="1789200" cy="763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200" spc="-1" strike="noStrike">
                    <a:solidFill>
                      <a:srgbClr val="000000"/>
                    </a:solidFill>
                    <a:latin typeface="Times New Roman"/>
                  </a:rPr>
                  <a:t>РАБОТНА ГРУПА ЗА ИЗГОТВЯНЕ НА СПОРАЗУМЕНИЕТО ЗА ПАРТНЬОРСТВО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8" name="Text Box 14"/>
            <p:cNvSpPr/>
            <p:nvPr/>
          </p:nvSpPr>
          <p:spPr>
            <a:xfrm>
              <a:off x="3473280" y="2855520"/>
              <a:ext cx="2519640" cy="686160"/>
            </a:xfrm>
            <a:prstGeom prst="rect">
              <a:avLst/>
            </a:prstGeom>
            <a:solidFill>
              <a:srgbClr val="dacf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ЗАМЕСТНИК МИНИСТЪР-ПРЕДСЕДАТЕЛ И МИНИСТЪР НА ПРАВОСЪДИЕТ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9" name="Group 15"/>
            <p:cNvGrpSpPr/>
            <p:nvPr/>
          </p:nvGrpSpPr>
          <p:grpSpPr>
            <a:xfrm>
              <a:off x="6559560" y="5026320"/>
              <a:ext cx="2519640" cy="1828440"/>
              <a:chOff x="6559560" y="5026320"/>
              <a:chExt cx="2519640" cy="1828440"/>
            </a:xfrm>
          </p:grpSpPr>
          <p:grpSp>
            <p:nvGrpSpPr>
              <p:cNvPr id="780" name="Group 16"/>
              <p:cNvGrpSpPr/>
              <p:nvPr/>
            </p:nvGrpSpPr>
            <p:grpSpPr>
              <a:xfrm>
                <a:off x="6559560" y="5372280"/>
                <a:ext cx="2519640" cy="1482480"/>
                <a:chOff x="6559560" y="5372280"/>
                <a:chExt cx="2519640" cy="1482480"/>
              </a:xfrm>
            </p:grpSpPr>
            <p:sp>
              <p:nvSpPr>
                <p:cNvPr id="781" name="Oval 17"/>
                <p:cNvSpPr/>
                <p:nvPr/>
              </p:nvSpPr>
              <p:spPr>
                <a:xfrm>
                  <a:off x="6559560" y="5372280"/>
                  <a:ext cx="2519640" cy="14824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18"/>
                <p:cNvSpPr/>
                <p:nvPr/>
              </p:nvSpPr>
              <p:spPr>
                <a:xfrm>
                  <a:off x="6902280" y="5715720"/>
                  <a:ext cx="1829880" cy="9104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bg-BG" sz="1200" spc="-1" strike="noStrike">
                      <a:solidFill>
                        <a:srgbClr val="000000"/>
                      </a:solidFill>
                      <a:latin typeface="Times New Roman"/>
                    </a:rPr>
                    <a:t>ТЕМАТИЧНА РАБОТНА ГРУПА ЗА ИЗГОТВЯНЕ НА ОП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3" name="Text Box 19"/>
              <p:cNvSpPr/>
              <p:nvPr/>
            </p:nvSpPr>
            <p:spPr>
              <a:xfrm>
                <a:off x="6673320" y="5026320"/>
                <a:ext cx="2060640" cy="34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200" spc="-1" strike="noStrike">
                    <a:solidFill>
                      <a:srgbClr val="999999"/>
                    </a:solidFill>
                    <a:latin typeface="Times New Roman"/>
                  </a:rPr>
                  <a:t>ВОДЕЩО ВЕДОМСТВО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Text Box 20"/>
            <p:cNvSpPr/>
            <p:nvPr/>
          </p:nvSpPr>
          <p:spPr>
            <a:xfrm>
              <a:off x="3474360" y="1418760"/>
              <a:ext cx="2512440" cy="457200"/>
            </a:xfrm>
            <a:prstGeom prst="rect">
              <a:avLst/>
            </a:prstGeom>
            <a:solidFill>
              <a:srgbClr val="aab9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МИНИСТЕРСКИ СЪВ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5" name="Group 21"/>
            <p:cNvGrpSpPr/>
            <p:nvPr/>
          </p:nvGrpSpPr>
          <p:grpSpPr>
            <a:xfrm>
              <a:off x="4616640" y="3540960"/>
              <a:ext cx="229320" cy="346320"/>
              <a:chOff x="4616640" y="3540960"/>
              <a:chExt cx="229320" cy="346320"/>
            </a:xfrm>
          </p:grpSpPr>
          <p:sp>
            <p:nvSpPr>
              <p:cNvPr id="786" name="Line 22"/>
              <p:cNvSpPr/>
              <p:nvPr/>
            </p:nvSpPr>
            <p:spPr>
              <a:xfrm>
                <a:off x="4844880" y="3540960"/>
                <a:ext cx="10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3"/>
              <p:cNvSpPr/>
              <p:nvPr/>
            </p:nvSpPr>
            <p:spPr>
              <a:xfrm flipV="1">
                <a:off x="4616640" y="3540960"/>
                <a:ext cx="108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8" name="Text Box 24"/>
            <p:cNvSpPr/>
            <p:nvPr/>
          </p:nvSpPr>
          <p:spPr>
            <a:xfrm>
              <a:off x="5531040" y="3770640"/>
              <a:ext cx="1714320" cy="68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Times New Roman"/>
                </a:rPr>
                <a:t>Осигуряване на взаимна съгласуваност и съответствие с ОС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Text Box 25"/>
            <p:cNvSpPr/>
            <p:nvPr/>
          </p:nvSpPr>
          <p:spPr>
            <a:xfrm>
              <a:off x="4159440" y="3883680"/>
              <a:ext cx="1144080" cy="343080"/>
            </a:xfrm>
            <a:prstGeom prst="rect">
              <a:avLst/>
            </a:prstGeom>
            <a:solidFill>
              <a:srgbClr val="fece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СКУСЕ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0" name="Group 27"/>
            <p:cNvGrpSpPr/>
            <p:nvPr/>
          </p:nvGrpSpPr>
          <p:grpSpPr>
            <a:xfrm>
              <a:off x="387360" y="5026320"/>
              <a:ext cx="2520720" cy="1830960"/>
              <a:chOff x="387360" y="5026320"/>
              <a:chExt cx="2520720" cy="1830960"/>
            </a:xfrm>
          </p:grpSpPr>
          <p:grpSp>
            <p:nvGrpSpPr>
              <p:cNvPr id="791" name="Group 28"/>
              <p:cNvGrpSpPr/>
              <p:nvPr/>
            </p:nvGrpSpPr>
            <p:grpSpPr>
              <a:xfrm>
                <a:off x="387360" y="5372640"/>
                <a:ext cx="2520720" cy="1484640"/>
                <a:chOff x="387360" y="5372640"/>
                <a:chExt cx="2520720" cy="1484640"/>
              </a:xfrm>
            </p:grpSpPr>
            <p:sp>
              <p:nvSpPr>
                <p:cNvPr id="792" name="Oval 29"/>
                <p:cNvSpPr/>
                <p:nvPr/>
              </p:nvSpPr>
              <p:spPr>
                <a:xfrm>
                  <a:off x="387360" y="5372640"/>
                  <a:ext cx="2520720" cy="148464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cc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Text Box 30"/>
                <p:cNvSpPr/>
                <p:nvPr/>
              </p:nvSpPr>
              <p:spPr>
                <a:xfrm>
                  <a:off x="730440" y="5715360"/>
                  <a:ext cx="1833120" cy="9144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bg-BG" sz="1200" spc="-1" strike="noStrike">
                      <a:solidFill>
                        <a:srgbClr val="000000"/>
                      </a:solidFill>
                      <a:latin typeface="Times New Roman"/>
                    </a:rPr>
                    <a:t>ТЕМАТИЧНА РАБОТНА ГРУПА ЗА ИЗГОТВЯНЕ НА ОП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Text Box 31"/>
              <p:cNvSpPr/>
              <p:nvPr/>
            </p:nvSpPr>
            <p:spPr>
              <a:xfrm>
                <a:off x="616320" y="5026320"/>
                <a:ext cx="2058840" cy="34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1200" spc="-1" strike="noStrike">
                    <a:solidFill>
                      <a:srgbClr val="999999"/>
                    </a:solidFill>
                    <a:latin typeface="Times New Roman"/>
                  </a:rPr>
                  <a:t>ВОДЕЩО ВЕДОМСТВО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32"/>
            <p:cNvGrpSpPr/>
            <p:nvPr/>
          </p:nvGrpSpPr>
          <p:grpSpPr>
            <a:xfrm>
              <a:off x="2389320" y="4188600"/>
              <a:ext cx="1510560" cy="1366920"/>
              <a:chOff x="2389320" y="4188600"/>
              <a:chExt cx="1510560" cy="1366920"/>
            </a:xfrm>
          </p:grpSpPr>
          <p:sp>
            <p:nvSpPr>
              <p:cNvPr id="796" name="Line 33"/>
              <p:cNvSpPr/>
              <p:nvPr/>
            </p:nvSpPr>
            <p:spPr>
              <a:xfrm flipV="1">
                <a:off x="2389320" y="4188600"/>
                <a:ext cx="1508040" cy="122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34"/>
              <p:cNvSpPr/>
              <p:nvPr/>
            </p:nvSpPr>
            <p:spPr>
              <a:xfrm flipH="1">
                <a:off x="2391480" y="4327560"/>
                <a:ext cx="1508400" cy="122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35"/>
            <p:cNvGrpSpPr/>
            <p:nvPr/>
          </p:nvGrpSpPr>
          <p:grpSpPr>
            <a:xfrm>
              <a:off x="5402880" y="4244760"/>
              <a:ext cx="1638360" cy="1322640"/>
              <a:chOff x="5402880" y="4244760"/>
              <a:chExt cx="1638360" cy="1322640"/>
            </a:xfrm>
          </p:grpSpPr>
          <p:sp>
            <p:nvSpPr>
              <p:cNvPr id="799" name="Line 36"/>
              <p:cNvSpPr/>
              <p:nvPr/>
            </p:nvSpPr>
            <p:spPr>
              <a:xfrm flipH="1" flipV="1">
                <a:off x="5402880" y="4244760"/>
                <a:ext cx="1605600" cy="11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37"/>
              <p:cNvSpPr/>
              <p:nvPr/>
            </p:nvSpPr>
            <p:spPr>
              <a:xfrm>
                <a:off x="5435640" y="4412520"/>
                <a:ext cx="1605600" cy="115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1" name="Line 38"/>
            <p:cNvSpPr/>
            <p:nvPr/>
          </p:nvSpPr>
          <p:spPr>
            <a:xfrm flipV="1">
              <a:off x="4644720" y="4277520"/>
              <a:ext cx="2160" cy="1020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39"/>
            <p:cNvSpPr/>
            <p:nvPr/>
          </p:nvSpPr>
          <p:spPr>
            <a:xfrm flipH="1">
              <a:off x="4761720" y="4274280"/>
              <a:ext cx="5040" cy="102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40"/>
            <p:cNvSpPr/>
            <p:nvPr/>
          </p:nvSpPr>
          <p:spPr>
            <a:xfrm>
              <a:off x="2559960" y="4570200"/>
              <a:ext cx="4111920" cy="452520"/>
            </a:xfrm>
            <a:prstGeom prst="rect">
              <a:avLst/>
            </a:prstGeom>
            <a:solidFill>
              <a:srgbClr val="fff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00000"/>
                  </a:solidFill>
                  <a:latin typeface="Times New Roman"/>
                </a:rPr>
                <a:t>ЦЕНТРАЛНО КООРДИНАЦИОННО ЗВЕН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AutoShape 41"/>
            <p:cNvSpPr/>
            <p:nvPr/>
          </p:nvSpPr>
          <p:spPr>
            <a:xfrm rot="10800000">
              <a:off x="1646640" y="1255680"/>
              <a:ext cx="1597680" cy="2169360"/>
            </a:xfrm>
            <a:custGeom>
              <a:avLst/>
              <a:gdLst>
                <a:gd name="textAreaLeft" fmla="*/ 213840 w 1597680"/>
                <a:gd name="textAreaRight" fmla="*/ 1383840 w 1597680"/>
                <a:gd name="textAreaTop" fmla="*/ 379440 h 2169360"/>
                <a:gd name="textAreaBottom" fmla="*/ 1572840 h 21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1" stAng="-5400000" swAng="5400000"/>
                  <a:lnTo>
                    <a:pt x="21600" y="11881"/>
                  </a:lnTo>
                  <a:arcTo wR="21600" hR="7561" stAng="0" swAng="2682751"/>
                  <a:lnTo>
                    <a:pt x="7200" y="21168"/>
                  </a:lnTo>
                  <a:lnTo>
                    <a:pt x="0" y="17281"/>
                  </a:lnTo>
                  <a:lnTo>
                    <a:pt x="7200" y="12530"/>
                  </a:lnTo>
                  <a:lnTo>
                    <a:pt x="7200" y="14689"/>
                  </a:lnTo>
                  <a:arcTo wR="21600" hR="7561" stAng="2682751" swAng="-2325318"/>
                  <a:lnTo>
                    <a:pt x="20700" y="9721"/>
                  </a:lnTo>
                  <a:arcTo wR="21600" hR="7561" stAng="-357433" swAng="-5042567"/>
                  <a:close/>
                </a:path>
                <a:path fill="darkenLess" w="21600" h="21600">
                  <a:moveTo>
                    <a:pt x="0" y="0"/>
                  </a:moveTo>
                  <a:arcTo wR="21600" hR="7561" stAng="-5400000" swAng="5400000"/>
                  <a:lnTo>
                    <a:pt x="21600" y="11881"/>
                  </a:lnTo>
                  <a:arcTo wR="21600" hR="7561" stAng="0" swAng="-357433"/>
                  <a:lnTo>
                    <a:pt x="20700" y="9721"/>
                  </a:lnTo>
                  <a:arcTo wR="21600" hR="7561" stAng="-357433" swAng="-5042567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AutoShape 42"/>
            <p:cNvSpPr/>
            <p:nvPr/>
          </p:nvSpPr>
          <p:spPr>
            <a:xfrm>
              <a:off x="3016080" y="5941440"/>
              <a:ext cx="342000" cy="334440"/>
            </a:xfrm>
            <a:prstGeom prst="leftRightArrow">
              <a:avLst>
                <a:gd name="adj1" fmla="val 50000"/>
                <a:gd name="adj2" fmla="val 2037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AutoShape 43"/>
            <p:cNvSpPr/>
            <p:nvPr/>
          </p:nvSpPr>
          <p:spPr>
            <a:xfrm>
              <a:off x="6102000" y="5941440"/>
              <a:ext cx="342000" cy="334440"/>
            </a:xfrm>
            <a:prstGeom prst="leftRightArrow">
              <a:avLst>
                <a:gd name="adj1" fmla="val 50000"/>
                <a:gd name="adj2" fmla="val 2037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Title 1" descr=""/>
          <p:cNvPicPr/>
          <p:nvPr/>
        </p:nvPicPr>
        <p:blipFill>
          <a:blip r:embed="rId1"/>
          <a:stretch/>
        </p:blipFill>
        <p:spPr>
          <a:xfrm>
            <a:off x="407880" y="42840"/>
            <a:ext cx="85647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4" name=""/>
          <p:cNvGraphicFramePr/>
          <p:nvPr/>
        </p:nvGraphicFramePr>
        <p:xfrm>
          <a:off x="611280" y="1773360"/>
          <a:ext cx="8137440" cy="4781520"/>
        </p:xfrm>
        <a:graphic>
          <a:graphicData uri="http://schemas.openxmlformats.org/drawingml/2006/table">
            <a:tbl>
              <a:tblPr/>
              <a:tblGrid>
                <a:gridCol w="1439640"/>
                <a:gridCol w="2808360"/>
                <a:gridCol w="3889440"/>
              </a:tblGrid>
              <a:tr h="436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кт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9494"/>
                    </a:solidFill>
                  </a:tcPr>
                </a:tc>
              </a:tr>
              <a:tr h="22572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еопазва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естиции в човешкия капита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2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-здравеопазв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исшето образование в тази сфера, научно-изследователска  инфраструктура в медицин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376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сички нива на образованието, учене през целия живот, образование на маргинализирани и уязвими групи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е през целия живот; професионални обу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, професионално обуч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9080"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яване на иновации, внедряване на технологии и приложни изследвания от бизнеса в партньорство с научните орган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приложни и научни изследвания и науно-изследователск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селското стопан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акваквакултура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3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ни инов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Title 1" descr=""/>
          <p:cNvPicPr/>
          <p:nvPr/>
        </p:nvPicPr>
        <p:blipFill>
          <a:blip r:embed="rId1"/>
          <a:stretch/>
        </p:blipFill>
        <p:spPr>
          <a:xfrm>
            <a:off x="60480" y="189000"/>
            <a:ext cx="976608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6" name=""/>
          <p:cNvGraphicFramePr/>
          <p:nvPr/>
        </p:nvGraphicFramePr>
        <p:xfrm>
          <a:off x="324000" y="981000"/>
          <a:ext cx="8712000" cy="5499000"/>
        </p:xfrm>
        <a:graphic>
          <a:graphicData uri="http://schemas.openxmlformats.org/drawingml/2006/table">
            <a:tbl>
              <a:tblPr/>
              <a:tblGrid>
                <a:gridCol w="1368360"/>
                <a:gridCol w="2950920"/>
                <a:gridCol w="4392720"/>
              </a:tblGrid>
              <a:tr h="30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нефициен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b8b8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b8b8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b8b8"/>
                    </a:solidFill>
                  </a:tcPr>
                </a:tc>
              </a:tr>
              <a:tr h="396720">
                <a:tc rowSpan="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СП (бизне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, предприемачество, технологично развитие, енергийна ефективност, финансови инструмен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изследователска инфраструктура и изследвания, като партньори на научно-изследователските орган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тиране на бизнес, предприемачески учения, мерки за заетост и квалификация на работната сила, микрофинансир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еса в земеделието, хранително-вкусов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изнеса в сектора на аквакултури, преработвателн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улаторната и административна рамка, комплексно административно обслужване, е-правител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 row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дент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торан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пендии, студентски практики, участие в научни проекти и разработки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ъзможност за стартиране на предприемачество и бизнес, младежка заетост, микрокредитир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ове за стартиращо финансира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97080"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язвими груп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социални предприятия, социални услуги, заетост, социално включване, деинституционализ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, насочено към уязвими груп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етост, деинституционализация, развитие 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институционализация, специализирана и здравна инфраструк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323640" y="141300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СП 3 Свързаност и зелена икономика за устойчив растеж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яване на енергийната интензивност на икономиката с минимум 5 кг.н.е на 1000 евро/ БВП до 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ено крайно потребление от жилищни, публични и търговски сград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пътуванията с обществения градски транспор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предприятията с нисковъглеродни производства и увеличена енергийна ефективност в рибарските дейности, аквакултурите и преработк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ен риск от свлачища, наводнения и засушаван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изграден Национален център за управление на водите в реално вре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аване на броя жители с достъп до подобрено пречистване на отпадъчните води с 1 130 000 е.ж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аване на броя жители с достъп до подобрено водоснабдяване с 220 00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завършен конкурентноспособен туристически продукт, базиран на изведени приоритетни туристически обек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създадени условия за екологично устойчиво рибарство; прекратени изхвърляния; постигнат максимален устойчив улов и намалено негативно въздействие от дейности в сектор „Рибно стопанство” върху околната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подобрена свързаност на TEN-T мрежа с републиканската пътна мр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8" name="Title 1" descr=""/>
          <p:cNvPicPr/>
          <p:nvPr/>
        </p:nvPicPr>
        <p:blipFill>
          <a:blip r:embed="rId1"/>
          <a:stretch/>
        </p:blipFill>
        <p:spPr>
          <a:xfrm>
            <a:off x="390600" y="66600"/>
            <a:ext cx="842940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24000" y="148428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СП 2 Научни изследвания, иновации и инвестиции за интелигентен растеж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растване с 31.10% на предприятията, реализирали иновационна дейно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30% разходи за НИРД на предприятията, обхванати от програмата за бизн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селските райони с достъп до и използващи качествени И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ие на предприемаческата активност с 10.2% към 2023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ръст на производителността в аграрния сектор за удовлетворяване на вътрешното търсене на селскостопанска продук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а брутна добавена стойност от сектора „Рибарство и аквакултури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СП 4 Добро управление и достъп до качествени административни услуги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ено време за предоставяне на административни услуги с 50% спрямо 201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Увеличен дял на електронизираните регистри и увеличен обмен на данни между тях с 20% спрямо 201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Внедрени механизми за граждански контрол – 10 към 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Намаляване на средната продължителност на наказателен и граждански съдебен процес с 10% спрямо 201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800" spc="-1" strike="noStrike">
                <a:solidFill>
                  <a:srgbClr val="18077b"/>
                </a:solidFill>
                <a:latin typeface="Calibri"/>
              </a:rPr>
              <a:t>Доизграждане на системата за електронно правосъдие - дял на делата, заведени по електронен път 25% към 2023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0" name="Title 1" descr=""/>
          <p:cNvPicPr/>
          <p:nvPr/>
        </p:nvPicPr>
        <p:blipFill>
          <a:blip r:embed="rId1"/>
          <a:stretch/>
        </p:blipFill>
        <p:spPr>
          <a:xfrm>
            <a:off x="390600" y="133200"/>
            <a:ext cx="84294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324000" y="1197000"/>
            <a:ext cx="8712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18077b"/>
                </a:solidFill>
                <a:latin typeface="Calibri"/>
              </a:rPr>
              <a:t>СП 1 Образование , заетост, социално включване и здравеопазване за приобщаващ растеж</a:t>
            </a:r>
            <a:endParaRPr b="0" lang="en-US" sz="1600" spc="-1" strike="noStrike">
              <a:solidFill>
                <a:srgbClr val="2f5897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увеличена ефективна и устойчива заетост и повишена ефикасна производителност на труда, особено сред уязвимите групи и в районите със специфични особе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намален брой на хора в институции за социални гриж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увеличен брой на представителите на маргинализираните групи, включително роми с подобрени жилищни усл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увеличен дял на модернизираните здравни заведения; модернизирани центрове за спешна медицинска помощ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2 500 обхванати от процеса на включващо обучение деца и ученици със специални образователни потребности в системата на народната просвета, 100 образователни институции осигурили подкрепяща среда за включващо обуч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подобрено качеството на живот и достъпа до услуги на 1 900 хил. жители на селските райо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18077b"/>
                </a:solidFill>
                <a:latin typeface="Calibri"/>
              </a:rPr>
              <a:t>увеличен дял на модернизираните образователни институ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18077b"/>
                </a:solidFill>
                <a:latin typeface="Calibri"/>
              </a:rPr>
              <a:t>1</a:t>
            </a: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1% дял на преждевременно напусналите училище (ПНУ) от лицата на възраст между 18 и 24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39640" indent="-285480" algn="just"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600" spc="-1" strike="noStrike">
                <a:solidFill>
                  <a:srgbClr val="18077b"/>
                </a:solidFill>
                <a:latin typeface="Calibri"/>
              </a:rPr>
              <a:t>20 000 лица, валидирали знания и умения и компетен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2" name="Title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4297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1"/>
          <p:cNvSpPr/>
          <p:nvPr/>
        </p:nvSpPr>
        <p:spPr>
          <a:xfrm>
            <a:off x="826920" y="2708280"/>
            <a:ext cx="7848720" cy="21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18077b"/>
                </a:solidFill>
                <a:latin typeface="Calibri"/>
              </a:rPr>
              <a:t>ПРИНОС НА ПРОГРАМАТА ЗА РАЗВИТИЕ НА СЕЛСКИТЕ РАЙОНИ И ПРОГРАМАТА ЗА МОРСКО ДЕЛО И РИБАРС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324000" y="560520"/>
          <a:ext cx="8424720" cy="6270480"/>
        </p:xfrm>
        <a:graphic>
          <a:graphicData uri="http://schemas.openxmlformats.org/drawingml/2006/table">
            <a:tbl>
              <a:tblPr/>
              <a:tblGrid>
                <a:gridCol w="4730760"/>
                <a:gridCol w="1269720"/>
                <a:gridCol w="1128960"/>
                <a:gridCol w="1295280"/>
              </a:tblGrid>
              <a:tr h="2826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ЗФРС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МД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Засилване на научноизследователската дейност, технологичното развитие и иновациит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 805 9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8 008 3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492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Подобряване на достъпа до информационни и комуникационни технологии и на тяхното използване и каче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 639 6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 639 6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7030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Повишаване на конкурентоспособността на малките и средните предприятия и на селскостопанския сектор (за ЕЗФРСР), и на сектора на рибарството и аквакултурите (за ЕФМД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6 025 0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 545 5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9 438 8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Подкрепа за преминаването към нисковъглеродна икономика във всички секто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 403 3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031 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183 401 5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92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Насърчаване на адаптацията към изменението на климата и превенцията и управлението на ри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 211 7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 960 7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Съхраняване и опазване на околната среда и насърчаване на ресурсната ефективно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 315 7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 184 8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36 597 5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654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 Насърчаване на устойчивия транспорт и премахване на участъците с недостатъчен капацитет във всички ключови мрежови инфраструкту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387 979 7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4921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 Насърчаване на устойчивата и качествена заетост и подкрепа за мобилността на работната си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 292 4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 18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 510 6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654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 Насърчаване на социалното приобщаване и борба с бедността и дискриминация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9 571 8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240 232 1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49032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 Инвестиции в образование, обучение и в професионална квалификация за умения и учене през целия живо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 857 1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 720 5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54936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. Повишаване на институционалния капацитет на публичните органи и заинтересованите страни и ефективна публична администр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 473 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32724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хническа помо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 661 1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2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 490 1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32580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38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9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 066 6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 794 453 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  <p:sp>
        <p:nvSpPr>
          <p:cNvPr id="1045" name="Rectangle 5"/>
          <p:cNvSpPr/>
          <p:nvPr/>
        </p:nvSpPr>
        <p:spPr>
          <a:xfrm>
            <a:off x="507960" y="23760"/>
            <a:ext cx="640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18077b"/>
                </a:solidFill>
                <a:latin typeface="Calibri"/>
              </a:rPr>
              <a:t>Финансов принос на ПРСР и ПМД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 Box 2"/>
          <p:cNvSpPr/>
          <p:nvPr/>
        </p:nvSpPr>
        <p:spPr>
          <a:xfrm>
            <a:off x="444600" y="29700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3"/>
          <p:cNvSpPr/>
          <p:nvPr/>
        </p:nvSpPr>
        <p:spPr>
          <a:xfrm>
            <a:off x="108756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4"/>
          <p:cNvSpPr/>
          <p:nvPr/>
        </p:nvSpPr>
        <p:spPr>
          <a:xfrm>
            <a:off x="324000" y="115920"/>
            <a:ext cx="8820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700" spc="-1" strike="noStrike">
                <a:solidFill>
                  <a:srgbClr val="ffffff"/>
                </a:solidFill>
                <a:latin typeface="Calibri"/>
              </a:rPr>
              <a:t>Връзка между тематични цели и приоритети на ЕЗФРСР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Oval 5"/>
          <p:cNvSpPr/>
          <p:nvPr/>
        </p:nvSpPr>
        <p:spPr>
          <a:xfrm>
            <a:off x="5580000" y="1484280"/>
            <a:ext cx="1944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6"/>
          <p:cNvSpPr/>
          <p:nvPr/>
        </p:nvSpPr>
        <p:spPr>
          <a:xfrm flipH="1" flipV="1">
            <a:off x="4788000" y="162864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7"/>
          <p:cNvSpPr/>
          <p:nvPr/>
        </p:nvSpPr>
        <p:spPr>
          <a:xfrm flipH="1">
            <a:off x="4787640" y="1989000"/>
            <a:ext cx="863640" cy="352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Group 8"/>
          <p:cNvGrpSpPr/>
          <p:nvPr/>
        </p:nvGrpSpPr>
        <p:grpSpPr>
          <a:xfrm>
            <a:off x="1579680" y="1440000"/>
            <a:ext cx="6307560" cy="5182560"/>
            <a:chOff x="1579680" y="1440000"/>
            <a:chExt cx="6307560" cy="5182560"/>
          </a:xfrm>
        </p:grpSpPr>
        <p:grpSp>
          <p:nvGrpSpPr>
            <p:cNvPr id="1053" name="Group 9"/>
            <p:cNvGrpSpPr/>
            <p:nvPr/>
          </p:nvGrpSpPr>
          <p:grpSpPr>
            <a:xfrm>
              <a:off x="1579680" y="1440000"/>
              <a:ext cx="5869440" cy="5182560"/>
              <a:chOff x="1579680" y="1440000"/>
              <a:chExt cx="5869440" cy="5182560"/>
            </a:xfrm>
          </p:grpSpPr>
          <p:sp>
            <p:nvSpPr>
              <p:cNvPr id="1054" name="Line 13"/>
              <p:cNvSpPr/>
              <p:nvPr/>
            </p:nvSpPr>
            <p:spPr>
              <a:xfrm flipH="1">
                <a:off x="3945600" y="2879640"/>
                <a:ext cx="10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"/>
              <p:cNvSpPr/>
              <p:nvPr/>
            </p:nvSpPr>
            <p:spPr>
              <a:xfrm flipH="1" flipV="1">
                <a:off x="3945600" y="2950920"/>
                <a:ext cx="105048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"/>
              <p:cNvSpPr/>
              <p:nvPr/>
            </p:nvSpPr>
            <p:spPr>
              <a:xfrm flipH="1" flipV="1">
                <a:off x="3945600" y="3600360"/>
                <a:ext cx="105048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6"/>
              <p:cNvSpPr/>
              <p:nvPr/>
            </p:nvSpPr>
            <p:spPr>
              <a:xfrm flipH="1" flipV="1">
                <a:off x="3945600" y="4174920"/>
                <a:ext cx="1050480" cy="7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Text Box 17"/>
              <p:cNvSpPr/>
              <p:nvPr/>
            </p:nvSpPr>
            <p:spPr>
              <a:xfrm>
                <a:off x="4967640" y="1440000"/>
                <a:ext cx="2220840" cy="368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Приоритети на ЕС за развитието на селските райони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8"/>
              <p:cNvSpPr/>
              <p:nvPr/>
            </p:nvSpPr>
            <p:spPr>
              <a:xfrm>
                <a:off x="4996440" y="2735280"/>
                <a:ext cx="2220840" cy="50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2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Конкурентоспособност на всички видове земеделие и жизненост на стопанстват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9"/>
              <p:cNvSpPr/>
              <p:nvPr/>
            </p:nvSpPr>
            <p:spPr>
              <a:xfrm>
                <a:off x="4996440" y="3382920"/>
                <a:ext cx="22208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3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Организация на продоволствената  верига и управление на риск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Text Box 20"/>
              <p:cNvSpPr/>
              <p:nvPr/>
            </p:nvSpPr>
            <p:spPr>
              <a:xfrm>
                <a:off x="4996440" y="4679640"/>
                <a:ext cx="2220840" cy="50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5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Ефективност на ресурсите и преход към ниско въглеродна  и устойчива на климатичните изменения икономик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Text Box 21"/>
              <p:cNvSpPr/>
              <p:nvPr/>
            </p:nvSpPr>
            <p:spPr>
              <a:xfrm>
                <a:off x="4996440" y="4032000"/>
                <a:ext cx="22208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4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Възстановяване, запазване и укрепване на екосистемит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Text Box 22"/>
              <p:cNvSpPr/>
              <p:nvPr/>
            </p:nvSpPr>
            <p:spPr>
              <a:xfrm>
                <a:off x="4996440" y="5400360"/>
                <a:ext cx="22208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6.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Социално приобщаване, намаляване на бедността и икономическо развити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Rectangle 23"/>
              <p:cNvSpPr/>
              <p:nvPr/>
            </p:nvSpPr>
            <p:spPr>
              <a:xfrm>
                <a:off x="4996440" y="2087280"/>
                <a:ext cx="245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Хоризонтален приоритет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: </a:t>
                </a: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Насърчаване на трансфера на знания и иновации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Text Box 24"/>
              <p:cNvSpPr/>
              <p:nvPr/>
            </p:nvSpPr>
            <p:spPr>
              <a:xfrm>
                <a:off x="1931040" y="187164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зследвания,  иновации и технологично развити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1928880" y="230328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2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нформационни и комуникационни технологии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Text Box 26"/>
              <p:cNvSpPr/>
              <p:nvPr/>
            </p:nvSpPr>
            <p:spPr>
              <a:xfrm>
                <a:off x="1928880" y="273672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3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Конкурентоспособност на МСП, земеделие и рибарство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Text Box 27"/>
              <p:cNvSpPr/>
              <p:nvPr/>
            </p:nvSpPr>
            <p:spPr>
              <a:xfrm>
                <a:off x="1928880" y="316836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4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Ниско въглеродна 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               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кономик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Text Box 28"/>
              <p:cNvSpPr/>
              <p:nvPr/>
            </p:nvSpPr>
            <p:spPr>
              <a:xfrm>
                <a:off x="1931040" y="489564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8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Заетост и мобилност на работната сил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Text Box 29"/>
              <p:cNvSpPr/>
              <p:nvPr/>
            </p:nvSpPr>
            <p:spPr>
              <a:xfrm>
                <a:off x="1931040" y="403200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6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Околна среда и ефективност на ресурсите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Text Box 30"/>
              <p:cNvSpPr/>
              <p:nvPr/>
            </p:nvSpPr>
            <p:spPr>
              <a:xfrm>
                <a:off x="1931040" y="3456000"/>
                <a:ext cx="1985400" cy="505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5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Приспособяване към промяната на климата, превенция и управление на риска 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Text Box 31"/>
              <p:cNvSpPr/>
              <p:nvPr/>
            </p:nvSpPr>
            <p:spPr>
              <a:xfrm>
                <a:off x="1931040" y="446400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7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Устойчив транспорт и инфраструктур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Text Box 32"/>
              <p:cNvSpPr/>
              <p:nvPr/>
            </p:nvSpPr>
            <p:spPr>
              <a:xfrm>
                <a:off x="1931040" y="532764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9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Социално изключване и борба с бедностт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Text Box 33"/>
              <p:cNvSpPr/>
              <p:nvPr/>
            </p:nvSpPr>
            <p:spPr>
              <a:xfrm>
                <a:off x="1931040" y="619272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1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Институционален капацитет и ефикасна публична администрация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Text Box 34"/>
              <p:cNvSpPr/>
              <p:nvPr/>
            </p:nvSpPr>
            <p:spPr>
              <a:xfrm>
                <a:off x="1931040" y="5759280"/>
                <a:ext cx="1985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alibri"/>
                  </a:rPr>
                  <a:t>10. </a:t>
                </a:r>
                <a:r>
                  <a:rPr b="0" lang="bg-BG" sz="900" spc="-1" strike="noStrike">
                    <a:solidFill>
                      <a:srgbClr val="000000"/>
                    </a:solidFill>
                    <a:latin typeface="Calibri"/>
                  </a:rPr>
                  <a:t>Образование, умения и  обучение през целия живот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Text Box 35"/>
              <p:cNvSpPr/>
              <p:nvPr/>
            </p:nvSpPr>
            <p:spPr>
              <a:xfrm>
                <a:off x="1928880" y="1440000"/>
                <a:ext cx="1985400" cy="231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g-BG" sz="900" spc="-1" strike="noStrike">
                    <a:solidFill>
                      <a:srgbClr val="000000"/>
                    </a:solidFill>
                    <a:latin typeface="Calibri"/>
                  </a:rPr>
                  <a:t>Тематични цели на ОСР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AutoShape 36"/>
              <p:cNvSpPr/>
              <p:nvPr/>
            </p:nvSpPr>
            <p:spPr>
              <a:xfrm>
                <a:off x="1579680" y="2033280"/>
                <a:ext cx="349200" cy="4302000"/>
              </a:xfrm>
              <a:custGeom>
                <a:avLst/>
                <a:gdLst>
                  <a:gd name="textAreaLeft" fmla="*/ 223200 w 349200"/>
                  <a:gd name="textAreaRight" fmla="*/ 349560 w 349200"/>
                  <a:gd name="textAreaTop" fmla="*/ 111960 h 4302000"/>
                  <a:gd name="textAreaBottom" fmla="*/ 4190040 h 430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27"/>
                    </a:lnTo>
                    <a:cubicBezTo>
                      <a:pt x="10800" y="9927"/>
                      <a:pt x="5400" y="10827"/>
                      <a:pt x="0" y="10827"/>
                    </a:cubicBezTo>
                    <a:cubicBezTo>
                      <a:pt x="5400" y="10827"/>
                      <a:pt x="10800" y="11727"/>
                      <a:pt x="10800" y="12627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37"/>
              <p:cNvSpPr/>
              <p:nvPr/>
            </p:nvSpPr>
            <p:spPr>
              <a:xfrm flipH="1" flipV="1">
                <a:off x="3945600" y="3311280"/>
                <a:ext cx="1050480" cy="15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38"/>
              <p:cNvSpPr/>
              <p:nvPr/>
            </p:nvSpPr>
            <p:spPr>
              <a:xfrm flipH="1" flipV="1">
                <a:off x="3945600" y="3743280"/>
                <a:ext cx="1050480" cy="1152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39"/>
              <p:cNvSpPr/>
              <p:nvPr/>
            </p:nvSpPr>
            <p:spPr>
              <a:xfrm flipH="1" flipV="1">
                <a:off x="3945600" y="4248000"/>
                <a:ext cx="105048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40"/>
              <p:cNvSpPr/>
              <p:nvPr/>
            </p:nvSpPr>
            <p:spPr>
              <a:xfrm flipH="1" flipV="1">
                <a:off x="3945600" y="5111640"/>
                <a:ext cx="1050480" cy="43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41"/>
              <p:cNvSpPr/>
              <p:nvPr/>
            </p:nvSpPr>
            <p:spPr>
              <a:xfrm flipH="1">
                <a:off x="3945600" y="5543280"/>
                <a:ext cx="10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Oval 42"/>
              <p:cNvSpPr/>
              <p:nvPr/>
            </p:nvSpPr>
            <p:spPr>
              <a:xfrm>
                <a:off x="4996440" y="6119640"/>
                <a:ext cx="2365920" cy="50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bg-BG" sz="900" spc="-1" strike="noStrike">
                    <a:solidFill>
                      <a:srgbClr val="000000"/>
                    </a:solidFill>
                    <a:latin typeface="Calibri"/>
                  </a:rPr>
                  <a:t>Техническа помощ и 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bg-BG" sz="900" spc="-1" strike="noStrike">
                    <a:solidFill>
                      <a:srgbClr val="000000"/>
                    </a:solidFill>
                    <a:latin typeface="Calibri"/>
                  </a:rPr>
                  <a:t>предварителни условия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43"/>
              <p:cNvSpPr/>
              <p:nvPr/>
            </p:nvSpPr>
            <p:spPr>
              <a:xfrm flipH="1">
                <a:off x="3945600" y="6408720"/>
                <a:ext cx="105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44"/>
              <p:cNvSpPr/>
              <p:nvPr/>
            </p:nvSpPr>
            <p:spPr>
              <a:xfrm flipH="1" flipV="1">
                <a:off x="3945600" y="2447640"/>
                <a:ext cx="1050480" cy="30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6" name="AutoShape 45"/>
            <p:cNvSpPr/>
            <p:nvPr/>
          </p:nvSpPr>
          <p:spPr>
            <a:xfrm>
              <a:off x="7273800" y="2303280"/>
              <a:ext cx="612360" cy="3384360"/>
            </a:xfrm>
            <a:custGeom>
              <a:avLst/>
              <a:gdLst>
                <a:gd name="textAreaLeft" fmla="*/ 0 w 612360"/>
                <a:gd name="textAreaRight" fmla="*/ 429480 w 612360"/>
                <a:gd name="textAreaTop" fmla="*/ 140760 h 3384360"/>
                <a:gd name="textAreaBottom" fmla="*/ 324360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Line 46"/>
            <p:cNvSpPr/>
            <p:nvPr/>
          </p:nvSpPr>
          <p:spPr>
            <a:xfrm flipH="1">
              <a:off x="7273440" y="489564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47"/>
            <p:cNvSpPr/>
            <p:nvPr/>
          </p:nvSpPr>
          <p:spPr>
            <a:xfrm flipH="1">
              <a:off x="7273440" y="295092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48"/>
            <p:cNvSpPr/>
            <p:nvPr/>
          </p:nvSpPr>
          <p:spPr>
            <a:xfrm flipH="1">
              <a:off x="7273440" y="360036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Line 49"/>
            <p:cNvSpPr/>
            <p:nvPr/>
          </p:nvSpPr>
          <p:spPr>
            <a:xfrm flipH="1">
              <a:off x="7273440" y="4248000"/>
              <a:ext cx="61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Oval 50"/>
          <p:cNvSpPr/>
          <p:nvPr/>
        </p:nvSpPr>
        <p:spPr>
          <a:xfrm>
            <a:off x="5500800" y="4214880"/>
            <a:ext cx="201600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Oval 51"/>
          <p:cNvSpPr/>
          <p:nvPr/>
        </p:nvSpPr>
        <p:spPr>
          <a:xfrm>
            <a:off x="3059280" y="3573360"/>
            <a:ext cx="172872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Oval 52"/>
          <p:cNvSpPr/>
          <p:nvPr/>
        </p:nvSpPr>
        <p:spPr>
          <a:xfrm>
            <a:off x="3059280" y="2708280"/>
            <a:ext cx="172872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744120" y="1192320"/>
            <a:ext cx="7931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ринос на ПРСР </a:t>
            </a:r>
            <a:r>
              <a:rPr b="1" lang="en-US" sz="22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сформиране и функциониране на оперативни групи в рамките на Европейско партньорство за иновации</a:t>
            </a:r>
            <a:r>
              <a:rPr b="1" lang="en-US" sz="2000" spc="-1" strike="noStrike">
                <a:solidFill>
                  <a:srgbClr val="18077b"/>
                </a:solidFill>
                <a:latin typeface="Calibri"/>
              </a:rPr>
              <a:t>;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пилотни проекти и за развитие на нови продукти, практики, процеси и технологии</a:t>
            </a:r>
            <a:r>
              <a:rPr b="1" lang="en-US" sz="2000" spc="-1" strike="noStrike">
                <a:solidFill>
                  <a:srgbClr val="18077b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хоризонтално и вертикално сътрудничество между участниците във веригата на доставки за изграждането и развитието на къси вериги на доставки и местни пазари.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095" name="TextBox 3"/>
          <p:cNvGrpSpPr/>
          <p:nvPr/>
        </p:nvGrpSpPr>
        <p:grpSpPr>
          <a:xfrm>
            <a:off x="749160" y="1182600"/>
            <a:ext cx="7937640" cy="1822680"/>
            <a:chOff x="749160" y="1182600"/>
            <a:chExt cx="7937640" cy="1822680"/>
          </a:xfrm>
        </p:grpSpPr>
        <p:pic>
          <p:nvPicPr>
            <p:cNvPr id="1096" name="TextBox 3" descr=""/>
            <p:cNvPicPr/>
            <p:nvPr/>
          </p:nvPicPr>
          <p:blipFill>
            <a:blip r:embed="rId1"/>
            <a:stretch/>
          </p:blipFill>
          <p:spPr>
            <a:xfrm>
              <a:off x="749160" y="1182600"/>
              <a:ext cx="793764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843120" y="1274760"/>
              <a:ext cx="7745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1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Засилване на научноизследователската дейност, технологичното развитие и иновациит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715680" y="1273320"/>
            <a:ext cx="7931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ринос на ПРСР </a:t>
            </a:r>
            <a:r>
              <a:rPr b="1" lang="en-US" sz="22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инвестициите в широколентова мрежа </a:t>
            </a: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за достъп от следващо поколение в селските райони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099" name="TextBox 3"/>
          <p:cNvGrpSpPr/>
          <p:nvPr/>
        </p:nvGrpSpPr>
        <p:grpSpPr>
          <a:xfrm>
            <a:off x="731880" y="1298520"/>
            <a:ext cx="7942320" cy="1822680"/>
            <a:chOff x="731880" y="1298520"/>
            <a:chExt cx="7942320" cy="1822680"/>
          </a:xfrm>
        </p:grpSpPr>
        <p:pic>
          <p:nvPicPr>
            <p:cNvPr id="1100" name="TextBox 3" descr=""/>
            <p:cNvPicPr/>
            <p:nvPr/>
          </p:nvPicPr>
          <p:blipFill>
            <a:blip r:embed="rId1"/>
            <a:stretch/>
          </p:blipFill>
          <p:spPr>
            <a:xfrm>
              <a:off x="731880" y="1298520"/>
              <a:ext cx="7942320" cy="18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826920" y="1395360"/>
              <a:ext cx="77439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2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добряване на достъпа до информационни и комуникационни технологии и тяхното използване и каче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Title 1" descr=""/>
          <p:cNvPicPr/>
          <p:nvPr/>
        </p:nvPicPr>
        <p:blipFill>
          <a:blip r:embed="rId1"/>
          <a:stretch/>
        </p:blipFill>
        <p:spPr>
          <a:xfrm>
            <a:off x="244440" y="73080"/>
            <a:ext cx="8759880" cy="1317600"/>
          </a:xfrm>
          <a:prstGeom prst="rect">
            <a:avLst/>
          </a:prstGeom>
          <a:ln w="0">
            <a:noFill/>
          </a:ln>
        </p:spPr>
      </p:pic>
      <p:grpSp>
        <p:nvGrpSpPr>
          <p:cNvPr id="808" name="Lekerekített téglalap 22"/>
          <p:cNvGrpSpPr/>
          <p:nvPr/>
        </p:nvGrpSpPr>
        <p:grpSpPr>
          <a:xfrm>
            <a:off x="384120" y="1176480"/>
            <a:ext cx="871560" cy="5541840"/>
            <a:chOff x="384120" y="1176480"/>
            <a:chExt cx="871560" cy="5541840"/>
          </a:xfrm>
        </p:grpSpPr>
        <p:pic>
          <p:nvPicPr>
            <p:cNvPr id="809" name="Lekerekített téglalap 22" descr=""/>
            <p:cNvPicPr/>
            <p:nvPr/>
          </p:nvPicPr>
          <p:blipFill>
            <a:blip r:embed="rId2"/>
            <a:stretch/>
          </p:blipFill>
          <p:spPr>
            <a:xfrm>
              <a:off x="384120" y="1176480"/>
              <a:ext cx="871560" cy="55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 rot="16200000">
              <a:off x="-1893600" y="3631680"/>
              <a:ext cx="53658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Национална програма за развитие</a:t>
              </a:r>
              <a:r>
                <a:rPr b="1" lang="en-US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: </a:t>
              </a:r>
              <a:r>
                <a:rPr b="1" lang="bg-BG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България  </a:t>
              </a:r>
              <a:r>
                <a:rPr b="1" lang="en-US" sz="1800" spc="-1" strike="noStrike">
                  <a:solidFill>
                    <a:srgbClr val="277182"/>
                  </a:solidFill>
                  <a:latin typeface="Tahoma"/>
                  <a:ea typeface="Tahoma"/>
                </a:rPr>
                <a:t>20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1" name="Lekerekített téglalap 22"/>
          <p:cNvGrpSpPr/>
          <p:nvPr/>
        </p:nvGrpSpPr>
        <p:grpSpPr>
          <a:xfrm>
            <a:off x="8369280" y="871560"/>
            <a:ext cx="689040" cy="5662440"/>
            <a:chOff x="8369280" y="871560"/>
            <a:chExt cx="689040" cy="5662440"/>
          </a:xfrm>
        </p:grpSpPr>
        <p:pic>
          <p:nvPicPr>
            <p:cNvPr id="812" name="Lekerekített téglalap 22" descr=""/>
            <p:cNvPicPr/>
            <p:nvPr/>
          </p:nvPicPr>
          <p:blipFill>
            <a:blip r:embed="rId3"/>
            <a:stretch/>
          </p:blipFill>
          <p:spPr>
            <a:xfrm>
              <a:off x="8369280" y="871560"/>
              <a:ext cx="68904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 rot="5400000">
              <a:off x="5966640" y="3420360"/>
              <a:ext cx="5492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5400"/>
                  </a:solidFill>
                  <a:latin typeface="Tahoma"/>
                  <a:ea typeface="Tahoma"/>
                </a:rPr>
                <a:t>Споразумение за партньор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4" name="Lekerekített téglalap 10"/>
          <p:cNvGrpSpPr/>
          <p:nvPr/>
        </p:nvGrpSpPr>
        <p:grpSpPr>
          <a:xfrm>
            <a:off x="1127160" y="1073160"/>
            <a:ext cx="3835440" cy="888840"/>
            <a:chOff x="1127160" y="1073160"/>
            <a:chExt cx="3835440" cy="888840"/>
          </a:xfrm>
        </p:grpSpPr>
        <p:pic>
          <p:nvPicPr>
            <p:cNvPr id="815" name="Lekerekített téglalap 10" descr=""/>
            <p:cNvPicPr/>
            <p:nvPr/>
          </p:nvPicPr>
          <p:blipFill>
            <a:blip r:embed="rId4"/>
            <a:stretch/>
          </p:blipFill>
          <p:spPr>
            <a:xfrm>
              <a:off x="1127160" y="1073160"/>
              <a:ext cx="38354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1219320" y="1142640"/>
              <a:ext cx="364968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1.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Подобряване на достъпа и повишаване на качеството на образованието и обучението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7" name="Lekerekített téglalap 10"/>
          <p:cNvGrpSpPr/>
          <p:nvPr/>
        </p:nvGrpSpPr>
        <p:grpSpPr>
          <a:xfrm>
            <a:off x="1170000" y="1968480"/>
            <a:ext cx="3792600" cy="665280"/>
            <a:chOff x="1170000" y="1968480"/>
            <a:chExt cx="3792600" cy="665280"/>
          </a:xfrm>
        </p:grpSpPr>
        <p:pic>
          <p:nvPicPr>
            <p:cNvPr id="818" name="Lekerekített téglalap 10" descr=""/>
            <p:cNvPicPr/>
            <p:nvPr/>
          </p:nvPicPr>
          <p:blipFill>
            <a:blip r:embed="rId5"/>
            <a:stretch/>
          </p:blipFill>
          <p:spPr>
            <a:xfrm>
              <a:off x="1170000" y="1968480"/>
              <a:ext cx="37926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1270080" y="2025360"/>
              <a:ext cx="3548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2. </a:t>
              </a:r>
              <a:r>
                <a:rPr b="1" lang="ru-RU" sz="1300" spc="-1" strike="noStrike">
                  <a:solidFill>
                    <a:srgbClr val="00b050"/>
                  </a:solidFill>
                  <a:latin typeface="Tahoma"/>
                  <a:ea typeface="Tahoma"/>
                </a:rPr>
                <a:t>Намаляване на бедността и насърчаване на социалното включване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Right Arrow 45"/>
          <p:cNvSpPr/>
          <p:nvPr/>
        </p:nvSpPr>
        <p:spPr>
          <a:xfrm>
            <a:off x="5056200" y="1094040"/>
            <a:ext cx="3348000" cy="1728720"/>
          </a:xfrm>
          <a:prstGeom prst="rightArrow">
            <a:avLst>
              <a:gd name="adj1" fmla="val 50000"/>
              <a:gd name="adj2" fmla="val 48740"/>
            </a:avLst>
          </a:prstGeom>
          <a:solidFill>
            <a:srgbClr val="00b050"/>
          </a:solidFill>
          <a:ln cap="rnd"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1: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 Образование, заетост, социално включване и здравеопазване за приобщаващ растеж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Lekerekített téglalap 10"/>
          <p:cNvGrpSpPr/>
          <p:nvPr/>
        </p:nvGrpSpPr>
        <p:grpSpPr>
          <a:xfrm>
            <a:off x="1109520" y="2610000"/>
            <a:ext cx="3956040" cy="876240"/>
            <a:chOff x="1109520" y="2610000"/>
            <a:chExt cx="3956040" cy="876240"/>
          </a:xfrm>
        </p:grpSpPr>
        <p:pic>
          <p:nvPicPr>
            <p:cNvPr id="822" name="Lekerekített téglalap 10" descr=""/>
            <p:cNvPicPr/>
            <p:nvPr/>
          </p:nvPicPr>
          <p:blipFill>
            <a:blip r:embed="rId6"/>
            <a:stretch/>
          </p:blipFill>
          <p:spPr>
            <a:xfrm>
              <a:off x="1109520" y="2610000"/>
              <a:ext cx="39560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203480" y="2677320"/>
              <a:ext cx="374328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b5b925"/>
                  </a:solidFill>
                  <a:latin typeface="Tahoma"/>
                  <a:ea typeface="Tahoma"/>
                </a:rPr>
                <a:t>3.</a:t>
              </a:r>
              <a:r>
                <a:rPr b="1" lang="en-US" sz="1300" spc="-1" strike="noStrike">
                  <a:solidFill>
                    <a:srgbClr val="b5b925"/>
                  </a:solidFill>
                  <a:latin typeface="Tahoma"/>
                  <a:ea typeface="Tahoma"/>
                </a:rPr>
                <a:t> </a:t>
              </a:r>
              <a:r>
                <a:rPr b="1" lang="ru-RU" sz="1300" spc="-1" strike="noStrike">
                  <a:solidFill>
                    <a:srgbClr val="b5b925"/>
                  </a:solidFill>
                  <a:latin typeface="Tahoma"/>
                  <a:ea typeface="Tahoma"/>
                </a:rPr>
                <a:t>Иновационни и инвестиционни дейности за повишаване на конкурентоспособността на икономикат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Lekerekített téglalap 10"/>
          <p:cNvGrpSpPr/>
          <p:nvPr/>
        </p:nvGrpSpPr>
        <p:grpSpPr>
          <a:xfrm>
            <a:off x="1206360" y="3402000"/>
            <a:ext cx="3706920" cy="663480"/>
            <a:chOff x="1206360" y="3402000"/>
            <a:chExt cx="3706920" cy="663480"/>
          </a:xfrm>
        </p:grpSpPr>
        <p:pic>
          <p:nvPicPr>
            <p:cNvPr id="825" name="Lekerekített téglalap 10" descr=""/>
            <p:cNvPicPr/>
            <p:nvPr/>
          </p:nvPicPr>
          <p:blipFill>
            <a:blip r:embed="rId7"/>
            <a:stretch/>
          </p:blipFill>
          <p:spPr>
            <a:xfrm>
              <a:off x="1206360" y="3402000"/>
              <a:ext cx="3706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1285920" y="3456000"/>
              <a:ext cx="3548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4. </a:t>
              </a:r>
              <a:r>
                <a:rPr b="1" lang="ru-RU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Енергийна сигурност и повишаване на ресурсната ефективност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Lekerekített téglalap 10"/>
          <p:cNvGrpSpPr/>
          <p:nvPr/>
        </p:nvGrpSpPr>
        <p:grpSpPr>
          <a:xfrm>
            <a:off x="1206360" y="4048200"/>
            <a:ext cx="3706920" cy="663480"/>
            <a:chOff x="1206360" y="4048200"/>
            <a:chExt cx="3706920" cy="663480"/>
          </a:xfrm>
        </p:grpSpPr>
        <p:pic>
          <p:nvPicPr>
            <p:cNvPr id="828" name="Lekerekített téglalap 10" descr=""/>
            <p:cNvPicPr/>
            <p:nvPr/>
          </p:nvPicPr>
          <p:blipFill>
            <a:blip r:embed="rId8"/>
            <a:stretch/>
          </p:blipFill>
          <p:spPr>
            <a:xfrm>
              <a:off x="1206360" y="4048200"/>
              <a:ext cx="3706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1285920" y="4104360"/>
              <a:ext cx="3548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5.</a:t>
              </a:r>
              <a:r>
                <a:rPr b="1" lang="en-US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 </a:t>
              </a:r>
              <a:r>
                <a:rPr b="1" lang="ru-RU" sz="1300" spc="-1" strike="noStrike">
                  <a:solidFill>
                    <a:srgbClr val="953735"/>
                  </a:solidFill>
                  <a:latin typeface="Tahoma"/>
                  <a:ea typeface="Tahoma"/>
                </a:rPr>
                <a:t>Подобряване на транспортната свързаност и достъпа до пазари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Lekerekített téglalap 10"/>
          <p:cNvGrpSpPr/>
          <p:nvPr/>
        </p:nvGrpSpPr>
        <p:grpSpPr>
          <a:xfrm>
            <a:off x="1255680" y="4632480"/>
            <a:ext cx="3657600" cy="877680"/>
            <a:chOff x="1255680" y="4632480"/>
            <a:chExt cx="3657600" cy="877680"/>
          </a:xfrm>
        </p:grpSpPr>
        <p:pic>
          <p:nvPicPr>
            <p:cNvPr id="831" name="Lekerekített téglalap 10" descr=""/>
            <p:cNvPicPr/>
            <p:nvPr/>
          </p:nvPicPr>
          <p:blipFill>
            <a:blip r:embed="rId9"/>
            <a:stretch/>
          </p:blipFill>
          <p:spPr>
            <a:xfrm>
              <a:off x="1255680" y="4632480"/>
              <a:ext cx="365760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1347840" y="4703040"/>
              <a:ext cx="347652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6.</a:t>
              </a:r>
              <a:r>
                <a:rPr b="1" lang="en-US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 </a:t>
              </a:r>
              <a:r>
                <a:rPr b="1" lang="bg-BG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П</a:t>
              </a:r>
              <a:r>
                <a:rPr b="1" lang="ru-RU" sz="1300" spc="-1" strike="noStrike">
                  <a:solidFill>
                    <a:srgbClr val="376092"/>
                  </a:solidFill>
                  <a:latin typeface="Tahoma"/>
                  <a:ea typeface="Tahoma"/>
                </a:rPr>
                <a:t>о-висока ефективност на публичните услуги за гражданите и бизнеса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Lekerekített téglalap 10"/>
          <p:cNvGrpSpPr/>
          <p:nvPr/>
        </p:nvGrpSpPr>
        <p:grpSpPr>
          <a:xfrm>
            <a:off x="1200240" y="5450040"/>
            <a:ext cx="3792600" cy="664920"/>
            <a:chOff x="1200240" y="5450040"/>
            <a:chExt cx="3792600" cy="664920"/>
          </a:xfrm>
        </p:grpSpPr>
        <p:pic>
          <p:nvPicPr>
            <p:cNvPr id="834" name="Lekerekített téglalap 10" descr=""/>
            <p:cNvPicPr/>
            <p:nvPr/>
          </p:nvPicPr>
          <p:blipFill>
            <a:blip r:embed="rId10"/>
            <a:stretch/>
          </p:blipFill>
          <p:spPr>
            <a:xfrm>
              <a:off x="1200240" y="5450040"/>
              <a:ext cx="379260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1314360" y="5506200"/>
              <a:ext cx="35197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7.</a:t>
              </a:r>
              <a:r>
                <a:rPr b="1" lang="en-US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 </a:t>
              </a:r>
              <a:r>
                <a:rPr b="1" lang="ru-RU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Постигане на устойчиво интегрирано регионално развит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Right Arrow 51"/>
          <p:cNvSpPr/>
          <p:nvPr/>
        </p:nvSpPr>
        <p:spPr>
          <a:xfrm>
            <a:off x="5056200" y="2378160"/>
            <a:ext cx="3348000" cy="1332720"/>
          </a:xfrm>
          <a:prstGeom prst="rightArrow">
            <a:avLst>
              <a:gd name="adj1" fmla="val 50000"/>
              <a:gd name="adj2" fmla="val 48743"/>
            </a:avLst>
          </a:prstGeom>
          <a:solidFill>
            <a:srgbClr val="b5b925"/>
          </a:solidFill>
          <a:ln cap="rnd" w="25560">
            <a:solidFill>
              <a:srgbClr val="b5b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2: Научни изследвания, иновации и инвестиции за интелигентен растеж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Right Arrow 52"/>
          <p:cNvSpPr/>
          <p:nvPr/>
        </p:nvSpPr>
        <p:spPr>
          <a:xfrm>
            <a:off x="5076720" y="3661920"/>
            <a:ext cx="3327480" cy="936360"/>
          </a:xfrm>
          <a:prstGeom prst="rightArrow">
            <a:avLst>
              <a:gd name="adj1" fmla="val 50000"/>
              <a:gd name="adj2" fmla="val 67223"/>
            </a:avLst>
          </a:prstGeom>
          <a:solidFill>
            <a:srgbClr val="953735"/>
          </a:solidFill>
          <a:ln cap="rnd"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3: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вързаност и зелена икономика за устойчив растеж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Right Arrow 53"/>
          <p:cNvSpPr/>
          <p:nvPr/>
        </p:nvSpPr>
        <p:spPr>
          <a:xfrm>
            <a:off x="5056200" y="4480200"/>
            <a:ext cx="3348000" cy="1332720"/>
          </a:xfrm>
          <a:prstGeom prst="rightArrow">
            <a:avLst>
              <a:gd name="adj1" fmla="val 50000"/>
              <a:gd name="adj2" fmla="val 48743"/>
            </a:avLst>
          </a:prstGeom>
          <a:solidFill>
            <a:srgbClr val="376092"/>
          </a:solidFill>
          <a:ln cap="rnd"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ffff"/>
                </a:solidFill>
                <a:latin typeface="Tahoma"/>
                <a:ea typeface="Tahoma"/>
              </a:rPr>
              <a:t>СП 4: Добро управление и достъп до качествени административни услу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Lekerekített téglalap 10"/>
          <p:cNvGrpSpPr/>
          <p:nvPr/>
        </p:nvGrpSpPr>
        <p:grpSpPr>
          <a:xfrm>
            <a:off x="1219320" y="6035760"/>
            <a:ext cx="3681360" cy="457200"/>
            <a:chOff x="1219320" y="6035760"/>
            <a:chExt cx="3681360" cy="457200"/>
          </a:xfrm>
        </p:grpSpPr>
        <p:pic>
          <p:nvPicPr>
            <p:cNvPr id="840" name="Lekerekített téglalap 10" descr=""/>
            <p:cNvPicPr/>
            <p:nvPr/>
          </p:nvPicPr>
          <p:blipFill>
            <a:blip r:embed="rId11"/>
            <a:stretch/>
          </p:blipFill>
          <p:spPr>
            <a:xfrm>
              <a:off x="1219320" y="6035760"/>
              <a:ext cx="3681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1289160" y="6080400"/>
              <a:ext cx="35416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8.</a:t>
              </a:r>
              <a:r>
                <a:rPr b="1" lang="en-US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 </a:t>
              </a:r>
              <a:r>
                <a:rPr b="1" lang="bg-BG" sz="1300" spc="-1" strike="noStrike">
                  <a:solidFill>
                    <a:srgbClr val="cc6600"/>
                  </a:solidFill>
                  <a:latin typeface="Tahoma"/>
                  <a:ea typeface="Tahoma"/>
                </a:rPr>
                <a:t>Развитие на аграрния отрасъл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42" name="Elbow Connector 40"/>
          <p:cNvCxnSpPr/>
          <p:nvPr/>
        </p:nvCxnSpPr>
        <p:spPr>
          <a:xfrm flipV="1">
            <a:off x="6776640" y="5478120"/>
            <a:ext cx="5400" cy="72144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3" name="Elbow Connector 40"/>
          <p:cNvCxnSpPr/>
          <p:nvPr/>
        </p:nvCxnSpPr>
        <p:spPr>
          <a:xfrm flipV="1">
            <a:off x="6749640" y="2495160"/>
            <a:ext cx="1080" cy="28440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4" name="Elbow Connector 40"/>
          <p:cNvCxnSpPr/>
          <p:nvPr/>
        </p:nvCxnSpPr>
        <p:spPr>
          <a:xfrm flipV="1">
            <a:off x="6749640" y="4488840"/>
            <a:ext cx="1080" cy="27684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5" name="Elbow Connector 40"/>
          <p:cNvCxnSpPr/>
          <p:nvPr/>
        </p:nvCxnSpPr>
        <p:spPr>
          <a:xfrm flipV="1">
            <a:off x="6778440" y="3429720"/>
            <a:ext cx="1080" cy="283320"/>
          </a:xfrm>
          <a:prstGeom prst="straightConnector1">
            <a:avLst/>
          </a:prstGeom>
          <a:ln w="28440">
            <a:solidFill>
              <a:srgbClr val="ffcc99"/>
            </a:solidFill>
            <a:miter/>
            <a:tailEnd len="med" type="arrow" w="med"/>
          </a:ln>
        </p:spPr>
      </p:cxnSp>
      <p:cxnSp>
        <p:nvCxnSpPr>
          <p:cNvPr id="846" name="Elbow Connector 40"/>
          <p:cNvCxnSpPr/>
          <p:nvPr/>
        </p:nvCxnSpPr>
        <p:spPr>
          <a:xfrm>
            <a:off x="5076720" y="5800320"/>
            <a:ext cx="1705680" cy="1080"/>
          </a:xfrm>
          <a:prstGeom prst="straightConnector1">
            <a:avLst/>
          </a:prstGeom>
          <a:ln w="28440">
            <a:solidFill>
              <a:srgbClr val="ffcc99"/>
            </a:solidFill>
            <a:miter/>
          </a:ln>
        </p:spPr>
      </p:cxnSp>
      <p:cxnSp>
        <p:nvCxnSpPr>
          <p:cNvPr id="847" name="Elbow Connector 40"/>
          <p:cNvCxnSpPr/>
          <p:nvPr/>
        </p:nvCxnSpPr>
        <p:spPr>
          <a:xfrm>
            <a:off x="5076360" y="6216120"/>
            <a:ext cx="1740600" cy="1080"/>
          </a:xfrm>
          <a:prstGeom prst="straightConnector1">
            <a:avLst/>
          </a:prstGeom>
          <a:ln w="28440">
            <a:solidFill>
              <a:srgbClr val="ffcc99"/>
            </a:solidFill>
            <a:miter/>
          </a:ln>
        </p:spPr>
      </p:cxn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738360" y="809280"/>
            <a:ext cx="793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ринос на ПРСР </a:t>
            </a:r>
            <a:r>
              <a:rPr b="1" lang="en-US" sz="19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одкрепа за разнообразяване на икономическите дейности, продукти и услуги на МСП в селските райони и земеделските стопанства;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реструктуриране в областта на земеделието чрез развитие на малките стопанства, младите фермери и подсекторите животновъдство, плодове и зеленчуци, биологично производство, етерично-маслени и медицински култури;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създаване на групи производители, къси вериги на доставка, развитие на пазари на местно ниво, както и за управлението на риска;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18077b"/>
                </a:solidFill>
                <a:latin typeface="Calibri"/>
              </a:rPr>
              <a:t>подкрепа за напояване с цел подобряване конкурентоспособността на стопанствата и отводняването.</a:t>
            </a:r>
            <a:endParaRPr b="0" lang="en-US" sz="19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03" name="TextBox 3"/>
          <p:cNvGrpSpPr/>
          <p:nvPr/>
        </p:nvGrpSpPr>
        <p:grpSpPr>
          <a:xfrm>
            <a:off x="749160" y="396720"/>
            <a:ext cx="7937640" cy="2163960"/>
            <a:chOff x="749160" y="396720"/>
            <a:chExt cx="7937640" cy="2163960"/>
          </a:xfrm>
        </p:grpSpPr>
        <p:pic>
          <p:nvPicPr>
            <p:cNvPr id="1104" name="TextBox 3" descr=""/>
            <p:cNvPicPr/>
            <p:nvPr/>
          </p:nvPicPr>
          <p:blipFill>
            <a:blip r:embed="rId1"/>
            <a:stretch/>
          </p:blipFill>
          <p:spPr>
            <a:xfrm>
              <a:off x="749160" y="396720"/>
              <a:ext cx="79376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"/>
            <p:cNvSpPr/>
            <p:nvPr/>
          </p:nvSpPr>
          <p:spPr>
            <a:xfrm>
              <a:off x="860400" y="509760"/>
              <a:ext cx="7712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3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вишаване на конкурентоспособността на малките и средни предприятия и на селскостопанския сектор (за ЕЗФРСР), и на сектора на рибарството и аквакултурите (за ЕФМДР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 txBox="1"/>
          <p:nvPr/>
        </p:nvSpPr>
        <p:spPr>
          <a:xfrm>
            <a:off x="539640" y="98064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ринос на ПМДР </a:t>
            </a:r>
            <a:r>
              <a:rPr b="1" lang="en-US" sz="18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00"/>
              </a:spcBef>
              <a:buClr>
                <a:srgbClr val="7097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за решаване на структурния проблем с българския риболовен флот- подпомагането на окончателното преустановяване на риболовни дейности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на допустими инвестиции за модернизация на риболовните кораби, които не водят до увеличаване на риболовния капацитет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насърчаване на иновациите, целящи разработването или въвеждането на нови или значително подобрени продукти на риболова, нови или подобрени процеси и техники, както и на нови или подобрени системи за управление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инвестиции, които добавят стойност към продуктите на риболова, по-специално като позволяват на рибарите да извършват преработване, предлагане на пазара и пряка продажба на собствения улов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реминаване към нови дейности, различни от търговския риболов, дейности по преквалификация и допълнителни инвестиции на борда за предоставяне на екологични услуги, образователни дейности, туризъм и други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07" name="TextBox 3"/>
          <p:cNvGrpSpPr/>
          <p:nvPr/>
        </p:nvGrpSpPr>
        <p:grpSpPr>
          <a:xfrm>
            <a:off x="731880" y="755640"/>
            <a:ext cx="7942320" cy="1994040"/>
            <a:chOff x="731880" y="755640"/>
            <a:chExt cx="7942320" cy="1994040"/>
          </a:xfrm>
        </p:grpSpPr>
        <p:pic>
          <p:nvPicPr>
            <p:cNvPr id="1108" name="TextBox 3" descr=""/>
            <p:cNvPicPr/>
            <p:nvPr/>
          </p:nvPicPr>
          <p:blipFill>
            <a:blip r:embed="rId1"/>
            <a:stretch/>
          </p:blipFill>
          <p:spPr>
            <a:xfrm>
              <a:off x="731880" y="755640"/>
              <a:ext cx="7942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835200" y="860400"/>
              <a:ext cx="772776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3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вишаване на конкурентоспособността на малките и средни предприятия и на селскостопанския сектор (за ЕЗФРСР), и на сектора на рибарството и аквакултурите (за ЕФМДР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468000" y="188640"/>
            <a:ext cx="84963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ринос на ПМДР </a:t>
            </a:r>
            <a:r>
              <a:rPr b="1" lang="en-US" sz="1800" spc="-1" strike="noStrike">
                <a:solidFill>
                  <a:srgbClr val="18077b"/>
                </a:solidFill>
                <a:latin typeface="Calibri"/>
              </a:rPr>
              <a:t>- </a:t>
            </a: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финансирани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за решаване на структурния проблем с българския риболовен флот - по отношение на аквакултурата, подпомагане на  инвестиции за разширяване и модернизиране на съществуващи стопанства и за диверсификация на производството на нови видове, като ще бъдат подпомагани редица дейности, свързани с подобряването на производствената ефективност – добавяне на стойност към продукцията, оползотворяване на отпадъците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крепа за стартиращи МСП в областта на сладководната и соленоводната аквакултура  в съответствие с Многогодишния национален стратегически план за аквакултурите (2014-2020). Подкрепа за биотехнологии; подкрепата за преработване на продуктите от аквакултурите и предоставянето на възможност за застраховане на запасите от аквакултури; диверсификация на дейностите;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развитие на "синята икономика" основно чрез подкрепа в сектора на аквакултурата, рибарството и свързаната с тях преработка, подкрепа за  развитието на сините биотехнологии; 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8077b"/>
                </a:solidFill>
                <a:latin typeface="Calibri"/>
              </a:rPr>
              <a:t>подпомагане създаването на организации на производителите в риболовството и аквакултурите.</a:t>
            </a:r>
            <a:endParaRPr b="0" lang="en-US" sz="18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11" name="TextBox 3"/>
          <p:cNvGrpSpPr/>
          <p:nvPr/>
        </p:nvGrpSpPr>
        <p:grpSpPr>
          <a:xfrm>
            <a:off x="712800" y="103320"/>
            <a:ext cx="7937640" cy="1993680"/>
            <a:chOff x="712800" y="103320"/>
            <a:chExt cx="7937640" cy="1993680"/>
          </a:xfrm>
        </p:grpSpPr>
        <p:pic>
          <p:nvPicPr>
            <p:cNvPr id="1112" name="TextBox 3" descr=""/>
            <p:cNvPicPr/>
            <p:nvPr/>
          </p:nvPicPr>
          <p:blipFill>
            <a:blip r:embed="rId1"/>
            <a:stretch/>
          </p:blipFill>
          <p:spPr>
            <a:xfrm>
              <a:off x="712800" y="103320"/>
              <a:ext cx="793764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816120" y="204840"/>
              <a:ext cx="772776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Тематична цел 3:</a:t>
              </a:r>
              <a:r>
                <a:rPr b="1" lang="en-US" sz="2000" spc="-1" strike="noStrike">
                  <a:solidFill>
                    <a:srgbClr val="77420d"/>
                  </a:solidFill>
                  <a:latin typeface="Calibri"/>
                </a:rPr>
                <a:t> 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Повишаване на конкурентоспособността на малките и средни предприятия и на селскостопанския сектор (за ЕЗФРСР), и на сектора на рибарството и аквакултурите (за ЕФМДР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Стратегически приоритет 2: Научни изследвания, иновации и инвестиции за интелигентен растеж</a:t>
              </a:r>
              <a:r>
                <a:rPr b="1" lang="bg-BG" sz="2000" spc="-1" strike="noStrike">
                  <a:solidFill>
                    <a:srgbClr val="77420d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480600" y="549360"/>
            <a:ext cx="842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енергийно-ефективни сгради и оборудване в селското стопанство и преработвателната промишленост, както и производството на енергия от ВИ за собствено потребление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използването на остатъчни продукти от земеделието (растителни и животински отпадъци) и обработката на отпадъчна дървесина за енергийни цели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помагане за залесяване и съхранение на горския фонд и превенция срещу горските пожари ще допринася за намаляване на вредните емисии от въглерод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и в селското стопанство включват и инвестиции за намаляване и/или оптимизиране на емисиите от парникови газове от сектор селско стопанство.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15" name="TextBox 3"/>
          <p:cNvGrpSpPr/>
          <p:nvPr/>
        </p:nvGrpSpPr>
        <p:grpSpPr>
          <a:xfrm>
            <a:off x="603360" y="828720"/>
            <a:ext cx="8229600" cy="1652400"/>
            <a:chOff x="603360" y="828720"/>
            <a:chExt cx="8229600" cy="1652400"/>
          </a:xfrm>
        </p:grpSpPr>
        <p:pic>
          <p:nvPicPr>
            <p:cNvPr id="1116" name="TextBox 3" descr=""/>
            <p:cNvPicPr/>
            <p:nvPr/>
          </p:nvPicPr>
          <p:blipFill>
            <a:blip r:embed="rId1"/>
            <a:stretch/>
          </p:blipFill>
          <p:spPr>
            <a:xfrm>
              <a:off x="603360" y="828720"/>
              <a:ext cx="822960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690480" y="915840"/>
              <a:ext cx="805032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Тематична цел 4: Подкрепа за преминаването към нисковъглеродна икономика във всички сектор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39528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МД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енергийната ефективност в рибарство и аквакул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дпомагане на окончателното преустановяване на риболовна дейнос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овации, насочени към разработването и внедряването на по-добри риболовни техники и по-висока избирателност на риболовните уред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и в оборудване за подобряване на избирателността на риболовните уреди, ограничаване на въздействието на риболова, намаляване на нежелания улов, защита на риболовните уреди от защитени бозайници и птиц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модернизиране на флота, включително повишаване на ефективността на корабите без  да се увеличава капацитета 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TextBox 3"/>
          <p:cNvGrpSpPr/>
          <p:nvPr/>
        </p:nvGrpSpPr>
        <p:grpSpPr>
          <a:xfrm>
            <a:off x="506520" y="828720"/>
            <a:ext cx="8229600" cy="1652400"/>
            <a:chOff x="506520" y="828720"/>
            <a:chExt cx="8229600" cy="1652400"/>
          </a:xfrm>
        </p:grpSpPr>
        <p:pic>
          <p:nvPicPr>
            <p:cNvPr id="1120" name="TextBox 3" descr=""/>
            <p:cNvPicPr/>
            <p:nvPr/>
          </p:nvPicPr>
          <p:blipFill>
            <a:blip r:embed="rId1"/>
            <a:stretch/>
          </p:blipFill>
          <p:spPr>
            <a:xfrm>
              <a:off x="506520" y="828720"/>
              <a:ext cx="822960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593640" y="915840"/>
              <a:ext cx="804888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Тематична цел 4: Подкрепа за преминаването към нисковъглеродна икономика във всички сектор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9528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 въвеждане на по–добри технологии / практики за обработване на почвите, създаване и поддържане на буферни зони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насърчаване на по-малкото използване на азотни торове и пестициди, подобряване на практиките за управление на животновъдството с оглед третиране на животинските отпадъци, както и подпомагане редуването на културите в зависимост от климата; инвестиране в органично земеделие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управление и подобряване на качеството на почвите, включително и чрез използване на по-малко интензивни земеделски практики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зграждане на съоръжения за оползотворяване на отделения биогаз;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поддържане и опазване на горските ресурси и управление на горите чрез създаване и управление на защитни горски пояси срещу ерозия и пожар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grpSp>
        <p:nvGrpSpPr>
          <p:cNvPr id="1123" name="TextBox 3"/>
          <p:cNvGrpSpPr/>
          <p:nvPr/>
        </p:nvGrpSpPr>
        <p:grpSpPr>
          <a:xfrm>
            <a:off x="506520" y="182520"/>
            <a:ext cx="8229600" cy="1652760"/>
            <a:chOff x="506520" y="182520"/>
            <a:chExt cx="8229600" cy="1652760"/>
          </a:xfrm>
        </p:grpSpPr>
        <p:pic>
          <p:nvPicPr>
            <p:cNvPr id="1124" name="TextBox 3" descr=""/>
            <p:cNvPicPr/>
            <p:nvPr/>
          </p:nvPicPr>
          <p:blipFill>
            <a:blip r:embed="rId1"/>
            <a:stretch/>
          </p:blipFill>
          <p:spPr>
            <a:xfrm>
              <a:off x="506520" y="182520"/>
              <a:ext cx="82296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593640" y="268200"/>
              <a:ext cx="804888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Тематична цел 5: Насърчаване на адаптацията към изменението на климата и превенцията и управлението на рис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355320" y="115560"/>
            <a:ext cx="8569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5897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инвестиции в управлението на водите, в агломерации с под 2 000 е.ж. там, където пречистването на отпадъчните води е крайно необходимо като допълваща мярка за постигане на добро състояние на водите, съобразно ПУРБ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подкрепа за намаляване употребата на вода за напояване чрез рехабилитация на напоителни съоръжения с цел намаляване на водните течове от първичната и вторична напоителна мрежа. Инвестициите в напояване ще бъдат в съответствие с идентифицираните нужди и приоритетите, които ще бъдат посочени в стратегията за хидромелиораци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мерки за  опазване на природното богатство - биологично разнообразие и НАТУРА 2000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поддържане на ландшафта и извършване на земеделска дейност в необлагодетелстваните район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помощ за поддържане на традиционните екстензивни земеделски практики, предотвратяване на ерозионни процеси в почвата и опазване на почвеното плодородие.; непродуктивни инвестиции и инвестиции за изграждане на съоръжения за съхранение на оборски тор и правилното му оползотворяване съобразно Нитратната директи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залесяване и устойчиво управление на горските ресурси , превенция на горите от пожари, опазването на биоразнообразието при спазване на изискванията на НАТУРА 2000 за гор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18077b"/>
                </a:solidFill>
                <a:latin typeface="Calibri"/>
              </a:rPr>
              <a:t>финансиране на пилотни и демонстрационни проекти, свързани с прилагането на земеделски дейности, целящи опазването на околната сред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TextBox 3"/>
          <p:cNvGrpSpPr/>
          <p:nvPr/>
        </p:nvGrpSpPr>
        <p:grpSpPr>
          <a:xfrm>
            <a:off x="317520" y="109440"/>
            <a:ext cx="8839080" cy="1262160"/>
            <a:chOff x="317520" y="109440"/>
            <a:chExt cx="8839080" cy="1262160"/>
          </a:xfrm>
        </p:grpSpPr>
        <p:pic>
          <p:nvPicPr>
            <p:cNvPr id="1128" name="TextBox 3" descr=""/>
            <p:cNvPicPr/>
            <p:nvPr/>
          </p:nvPicPr>
          <p:blipFill>
            <a:blip r:embed="rId1"/>
            <a:stretch/>
          </p:blipFill>
          <p:spPr>
            <a:xfrm>
              <a:off x="317520" y="109440"/>
              <a:ext cx="8839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384120" y="177840"/>
              <a:ext cx="869940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Тематична цел 6: Съхраняване и опазване на околната среда и насърчаване на ресурсната ефективност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449280" y="1267920"/>
            <a:ext cx="8569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МД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f5897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25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защита на биоразнообразието и природните ресурс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мерки за насърчаване на опазването, рационалното и отговорно използване на ресурс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помагане събирането на отпадъци; изграждането и модернизацията на съоръжения за опазване на морската флора и фау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готовка на планове за опазване по отношение на обекти по „Натура 2000“, повишаването на осведомеността по въпросите на околната среда и друг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1" name="TextBox 3"/>
          <p:cNvGrpSpPr/>
          <p:nvPr/>
        </p:nvGrpSpPr>
        <p:grpSpPr>
          <a:xfrm>
            <a:off x="317520" y="828720"/>
            <a:ext cx="8839080" cy="1262160"/>
            <a:chOff x="317520" y="828720"/>
            <a:chExt cx="8839080" cy="1262160"/>
          </a:xfrm>
        </p:grpSpPr>
        <p:pic>
          <p:nvPicPr>
            <p:cNvPr id="1132" name="TextBox 3" descr=""/>
            <p:cNvPicPr/>
            <p:nvPr/>
          </p:nvPicPr>
          <p:blipFill>
            <a:blip r:embed="rId1"/>
            <a:stretch/>
          </p:blipFill>
          <p:spPr>
            <a:xfrm>
              <a:off x="317520" y="828720"/>
              <a:ext cx="8839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84120" y="896760"/>
              <a:ext cx="869940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Тематична цел 6: Съхраняване и опазване на околната среда и насърчаване на ресурсната ефективност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900" spc="-1" strike="noStrike">
                  <a:solidFill>
                    <a:srgbClr val="314510"/>
                  </a:solidFill>
                  <a:latin typeface="Calibri"/>
                </a:rPr>
                <a:t>Стратегически приоритет 3: Свързаност и зелена икономика за устойчив растеж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60360" y="620280"/>
            <a:ext cx="842328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Мерки за насърчаване на заетост в земеделието и селските райони: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онна подкрепа както за подпомагане на устойчиви структури на млади земеделски стопани и малки земеделски стопанства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, така и за развитие на селскостопански сектори с традиции и потенциал за осигуряване на  работни места – животновъдство, зеленчукопроизводство, овощарство и лозарство, етерично-маслени култур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диверсификация на икономиката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селските райони чрез подкрепа за стартиране и развитие на неземеделски бизнес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5" name="TextBox 4"/>
          <p:cNvGrpSpPr/>
          <p:nvPr/>
        </p:nvGrpSpPr>
        <p:grpSpPr>
          <a:xfrm>
            <a:off x="603360" y="901800"/>
            <a:ext cx="7943760" cy="1652400"/>
            <a:chOff x="603360" y="901800"/>
            <a:chExt cx="7943760" cy="1652400"/>
          </a:xfrm>
        </p:grpSpPr>
        <p:pic>
          <p:nvPicPr>
            <p:cNvPr id="1136" name="TextBox 4" descr=""/>
            <p:cNvPicPr/>
            <p:nvPr/>
          </p:nvPicPr>
          <p:blipFill>
            <a:blip r:embed="rId1"/>
            <a:stretch/>
          </p:blipFill>
          <p:spPr>
            <a:xfrm>
              <a:off x="603360" y="901800"/>
              <a:ext cx="794376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690480" y="988920"/>
              <a:ext cx="776304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Тематична цел 8: Насърчаване на устойчивата и качествена заетост и подкрепа за мобилността на работната си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250920" y="170028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МД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областта на 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рибното стопанство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– подкрепа за увеличаване на видовото разнообразие и създаване на нови аквакултурни стопанства и разширяване на съществуващи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обавяне на стойност към първичните производства и стимулиране преработката 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9" name="TextBox 4"/>
          <p:cNvGrpSpPr/>
          <p:nvPr/>
        </p:nvGrpSpPr>
        <p:grpSpPr>
          <a:xfrm>
            <a:off x="566640" y="2054160"/>
            <a:ext cx="7937640" cy="1652760"/>
            <a:chOff x="566640" y="2054160"/>
            <a:chExt cx="7937640" cy="1652760"/>
          </a:xfrm>
        </p:grpSpPr>
        <p:pic>
          <p:nvPicPr>
            <p:cNvPr id="1140" name="TextBox 4" descr=""/>
            <p:cNvPicPr/>
            <p:nvPr/>
          </p:nvPicPr>
          <p:blipFill>
            <a:blip r:embed="rId1"/>
            <a:stretch/>
          </p:blipFill>
          <p:spPr>
            <a:xfrm>
              <a:off x="566640" y="2054160"/>
              <a:ext cx="793764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650880" y="2139840"/>
              <a:ext cx="776124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Тематична цел 8: Насърчаване на устойчивата и качествена заетост и подкрепа за мобилността на работната си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23120" cy="108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9" name=""/>
          <p:cNvGraphicFramePr/>
          <p:nvPr/>
        </p:nvGraphicFramePr>
        <p:xfrm>
          <a:off x="574560" y="1052640"/>
          <a:ext cx="8101080" cy="5051160"/>
        </p:xfrm>
        <a:graphic>
          <a:graphicData uri="http://schemas.openxmlformats.org/drawingml/2006/table">
            <a:tbl>
              <a:tblPr/>
              <a:tblGrid>
                <a:gridCol w="5040360"/>
                <a:gridCol w="3060720"/>
              </a:tblGrid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н. евро (текущи цен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вропейско финансира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те оперативни програми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 сума по С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8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 за европейско подпомагане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й-нуждаещите се лиц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ни плащания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зъм за свързване на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132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йско териториално сътрудни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 за Българи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 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159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Включва и специалната алокация по Инициативата за младежка заетост в размер на </a:t>
                      </a:r>
                      <a:r>
                        <a:rPr b="0" lang="bg-BG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5</a:t>
                      </a: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bg-BG" sz="1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.19 евр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ата за 2014 г. е съгласно таблица 2, параграф 4 от Приложение ІІ на Регламент (ЕС) 1310/2013, а за периода 2015-2020 е съгласно приложение ІІ  от Регламент (ЕС) 1307/20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468360" y="836640"/>
            <a:ext cx="8207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Принос на ПРСР </a:t>
            </a:r>
            <a:r>
              <a:rPr b="1" lang="en-US" sz="2000" spc="-1" strike="noStrike">
                <a:solidFill>
                  <a:srgbClr val="0b0189"/>
                </a:solidFill>
                <a:latin typeface="Calibri"/>
              </a:rPr>
              <a:t>- </a:t>
            </a: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финансирани дейност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и в инфраструктура в селските райони, с оглед постигане на растеж и заетост, икономическо съживяване на селските райони и борба с обезлюдяването. Те ще бъдат концентрирани в населени места, които имат потенциал да предоставят необходимите базови услуги за околните периферни и отдалечени от центровете населени места и с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новни услуги за хората -  здравеопазване, образ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ублична инфраструктура – пътища, Ви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нвестиции  в селските райони в качествени социални услуг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ОМР ще се използва за покриване на местните нужди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TextBox 4"/>
          <p:cNvGrpSpPr/>
          <p:nvPr/>
        </p:nvGrpSpPr>
        <p:grpSpPr>
          <a:xfrm>
            <a:off x="603360" y="974880"/>
            <a:ext cx="7943760" cy="1652400"/>
            <a:chOff x="603360" y="974880"/>
            <a:chExt cx="7943760" cy="1652400"/>
          </a:xfrm>
        </p:grpSpPr>
        <p:pic>
          <p:nvPicPr>
            <p:cNvPr id="1144" name="TextBox 4" descr=""/>
            <p:cNvPicPr/>
            <p:nvPr/>
          </p:nvPicPr>
          <p:blipFill>
            <a:blip r:embed="rId1"/>
            <a:stretch/>
          </p:blipFill>
          <p:spPr>
            <a:xfrm>
              <a:off x="603360" y="974880"/>
              <a:ext cx="794376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690480" y="1060560"/>
              <a:ext cx="7763040" cy="14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Тематична цел 9: Н</a:t>
              </a:r>
              <a:r>
                <a:rPr b="1" lang="ru-RU" sz="2000" spc="-1" strike="noStrike">
                  <a:solidFill>
                    <a:srgbClr val="234271"/>
                  </a:solidFill>
                  <a:latin typeface="Calibri"/>
                </a:rPr>
                <a:t>асърчаване на социалното приобщаване, борба с бедността и всяка форма на дискриминац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Стратегически приоритет 1: Образование, заетост, социално включване и здравеопазване за приобщаващ растеж</a:t>
              </a:r>
              <a:r>
                <a:rPr b="1" lang="bg-BG" sz="2000" spc="-1" strike="noStrike">
                  <a:solidFill>
                    <a:srgbClr val="234271"/>
                  </a:solidFill>
                  <a:latin typeface="Calibri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Title 1" descr=""/>
          <p:cNvPicPr/>
          <p:nvPr/>
        </p:nvPicPr>
        <p:blipFill>
          <a:blip r:embed="rId1"/>
          <a:stretch/>
        </p:blipFill>
        <p:spPr>
          <a:xfrm>
            <a:off x="-396720" y="139680"/>
            <a:ext cx="5114880" cy="153684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 txBox="1"/>
          <p:nvPr/>
        </p:nvSpPr>
        <p:spPr>
          <a:xfrm>
            <a:off x="3240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Развитие на селските райони, земеделие, горско и рибно стопанство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0189"/>
                </a:solidFill>
                <a:latin typeface="Calibri"/>
              </a:rPr>
              <a:t>Основни интервенции 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развитие на аквакултурата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чрез инвестиции за разширяване и модернизиране на съществуващи стопанства и за диверсификация на производството на нови видове, добавяне на стойност към продукцията, оползотворяване на отпадъците, подобряване условията на труд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подкрепа за стартиращи МСП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областта на сладководната и соленоводната аквакултура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развитие на "синята икономика" 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новно чрез подкрепа в сектора на аквакултурата, рибарството и свързаната с тях преработка</a:t>
            </a: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b0189"/>
                </a:solidFill>
                <a:latin typeface="Calibri"/>
              </a:rPr>
              <a:t>Основно предизвикателство: Приемане на Многогодишния национален стратегически план за аквакултурите (2014-2020)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1116000" y="2781000"/>
            <a:ext cx="723888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ДРУГИ ЕЛЕМЕНТИ НА СПОРАЗУМЕНИЕТО ЗА ПАРТНЬОРСТВО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1187280" y="692280"/>
            <a:ext cx="74678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100" spc="-1" strike="noStrike">
                <a:solidFill>
                  <a:srgbClr val="ffffff"/>
                </a:solidFill>
                <a:latin typeface="Calibri"/>
              </a:rPr>
              <a:t>Раздел І</a:t>
            </a: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400" spc="-1" strike="noStrike">
                <a:solidFill>
                  <a:srgbClr val="18077b"/>
                </a:solidFill>
                <a:latin typeface="Calibri"/>
              </a:rPr>
              <a:t>Резюме на предварителната оценка</a:t>
            </a:r>
            <a:endParaRPr b="0" lang="en-US" sz="2400" spc="-1" strike="noStrike">
              <a:solidFill>
                <a:srgbClr val="2f5897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400" spc="-1" strike="noStrike">
                <a:solidFill>
                  <a:srgbClr val="18077b"/>
                </a:solidFill>
                <a:latin typeface="Calibri"/>
              </a:rPr>
              <a:t>Хоризонтални принципи:</a:t>
            </a:r>
            <a:endParaRPr b="0" lang="en-US" sz="24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Партньор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Равенство между мъжете и жените, недопускане на дискриминация и достъпнос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Устойчиво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Content Placeholder 2" descr=""/>
          <p:cNvPicPr/>
          <p:nvPr/>
        </p:nvPicPr>
        <p:blipFill>
          <a:blip r:embed="rId1"/>
          <a:stretch/>
        </p:blipFill>
        <p:spPr>
          <a:xfrm>
            <a:off x="554040" y="298440"/>
            <a:ext cx="816912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 txBox="1"/>
          <p:nvPr/>
        </p:nvSpPr>
        <p:spPr>
          <a:xfrm>
            <a:off x="468360" y="170028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създаване на стабилна и предсказуема среда за изпълнение на програмите, съфинансирани от ЕСИ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въвеждане на максимална електронизация на комуникацията между бенефициентите и У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оптимизиране на административните процедур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8077b"/>
                </a:solidFill>
                <a:latin typeface="Calibri"/>
              </a:rPr>
              <a:t>премахване на ненужните задължения за бенефициентите и унифициране на правил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176040" y="109440"/>
            <a:ext cx="4469040" cy="1774800"/>
          </a:xfrm>
          <a:prstGeom prst="rect">
            <a:avLst/>
          </a:prstGeom>
          <a:ln w="0">
            <a:noFill/>
          </a:ln>
        </p:spPr>
      </p:pic>
      <p:sp>
        <p:nvSpPr>
          <p:cNvPr id="1153" name="TextBox 5"/>
          <p:cNvSpPr/>
          <p:nvPr/>
        </p:nvSpPr>
        <p:spPr>
          <a:xfrm>
            <a:off x="8136000" y="57848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4" name="Picture 4" descr=""/>
          <p:cNvPicPr/>
          <p:nvPr/>
        </p:nvPicPr>
        <p:blipFill>
          <a:blip r:embed="rId2"/>
          <a:stretch/>
        </p:blipFill>
        <p:spPr>
          <a:xfrm>
            <a:off x="5364000" y="4437000"/>
            <a:ext cx="378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95280" y="1557360"/>
            <a:ext cx="8352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Документи и документообор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ъвеждане на типизирани формуляри за кандидатстване и отчит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птимизиране на документооборота – електронно подаване и отчитане; еднократно подаване на едни и същи докуме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одготовка на проектни предлож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пецифициране на изискванията според размера на финансирането и сложността на проекта, чрез определяне на стойностен пра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игуряване на възможност за разработване на интегрирани проектни предложения– един формуляр за кандидатстване, една оценка от обща оценителна коми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Оценка на проектни предложения, предоставяне на БФП и изпълнение на проек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минимални изисквания по отношение на качеството на проек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разширяване на възможностите за обезпечаване на авансовите плащания при нисък риск от неизпълнение н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простяване на процедурата за директно предоставя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6" name="Title 1" descr=""/>
          <p:cNvPicPr/>
          <p:nvPr/>
        </p:nvPicPr>
        <p:blipFill>
          <a:blip r:embed="rId1"/>
          <a:stretch/>
        </p:blipFill>
        <p:spPr>
          <a:xfrm>
            <a:off x="189000" y="122400"/>
            <a:ext cx="502920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 txBox="1"/>
          <p:nvPr/>
        </p:nvSpPr>
        <p:spPr>
          <a:xfrm>
            <a:off x="324000" y="1773360"/>
            <a:ext cx="8207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Процедури за избор на изпълните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ясна регламентация на избора на изпълнител, която изключва възможността за нейното по-рестриктивно интерпретиране от страна на УО и контролни орг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илагане на опростен ред за избор на изпълнител, съгласно нормативните изиск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Верификация и плащ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илагането на правилата за отчитане на опростените разходи, включително по всички програми, съфинансирани от ЕСИ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унифициране на процедурите по верификация и възстановяване на разходите по отделните програми в максимално възможната степ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Контр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сигуряване на координация на становищата на отделните контролни органи и проверките, извършвани от тях с оглед избягване припокриван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Title 1" descr=""/>
          <p:cNvPicPr/>
          <p:nvPr/>
        </p:nvPicPr>
        <p:blipFill>
          <a:blip r:embed="rId1"/>
          <a:stretch/>
        </p:blipFill>
        <p:spPr>
          <a:xfrm>
            <a:off x="189000" y="122400"/>
            <a:ext cx="5102280" cy="1699920"/>
          </a:xfrm>
          <a:prstGeom prst="rect">
            <a:avLst/>
          </a:prstGeom>
          <a:ln w="0">
            <a:noFill/>
          </a:ln>
        </p:spPr>
      </p:pic>
      <p:sp>
        <p:nvSpPr>
          <p:cNvPr id="1159" name="TextBox 5"/>
          <p:cNvSpPr/>
          <p:nvPr/>
        </p:nvSpPr>
        <p:spPr>
          <a:xfrm>
            <a:off x="8136000" y="5784840"/>
            <a:ext cx="5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1332000" y="3212640"/>
            <a:ext cx="723888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ИНТЕГРИРАН ПОДХОД ЗА ТЕРИТОРИАЛНО РАЗВИТИЕ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684000" y="1628640"/>
            <a:ext cx="80787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18077b"/>
                </a:solidFill>
                <a:latin typeface="Calibri"/>
              </a:rPr>
              <a:t>Прилагане на Водено от общността местно развитие, включително с многофондово финансиране, чрез програмиране и прилагане на иновативни интегрирани многосекторни стратегии за местно развит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18077b"/>
                </a:solidFill>
                <a:latin typeface="Calibri"/>
              </a:rPr>
              <a:t>Продължаващи инвестиции за стимулиране на устойчиво традско развитие въз основа на интегрирани планове за градско възстановяване и за развитие на дефинирани опорни центрове за расте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Продължаване прилагането на европейско териториално сътрудничеств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Title 1" descr=""/>
          <p:cNvPicPr/>
          <p:nvPr/>
        </p:nvPicPr>
        <p:blipFill>
          <a:blip r:embed="rId1"/>
          <a:stretch/>
        </p:blipFill>
        <p:spPr>
          <a:xfrm>
            <a:off x="390600" y="133200"/>
            <a:ext cx="7894440" cy="86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1" name=""/>
          <p:cNvGraphicFramePr/>
          <p:nvPr/>
        </p:nvGraphicFramePr>
        <p:xfrm>
          <a:off x="468360" y="981000"/>
          <a:ext cx="8207280" cy="5399280"/>
        </p:xfrm>
        <a:graphic>
          <a:graphicData uri="http://schemas.openxmlformats.org/drawingml/2006/table">
            <a:tbl>
              <a:tblPr/>
              <a:tblGrid>
                <a:gridCol w="4581360"/>
                <a:gridCol w="1812960"/>
                <a:gridCol w="1812960"/>
              </a:tblGrid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Програ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Фон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бща су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Региони в рас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311.70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68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Развитие на човешките ресур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С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883.48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ИМ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55.19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32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Наука и образование за интелигентен раст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С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352.62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243.38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5907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Иновации и конкурентоспособно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181.62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68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Транспорт и транспортна инфраструк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К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144.69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459.76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0240">
                <a:tc row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Околна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К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1 133.62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Р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371.20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П Добро управ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С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285.53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5918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ФМД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  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88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5907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ЕЗФРС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0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2 338.78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cb"/>
                    </a:solidFill>
                  </a:tcPr>
                </a:tc>
              </a:tr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Общ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400" spc="-1" strike="noStrike">
                          <a:solidFill>
                            <a:srgbClr val="040470"/>
                          </a:solidFill>
                          <a:latin typeface="Calibri"/>
                        </a:rPr>
                        <a:t>9 849.64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Title 1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643960" cy="96984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 txBox="1"/>
          <p:nvPr/>
        </p:nvSpPr>
        <p:spPr>
          <a:xfrm>
            <a:off x="250920" y="1506600"/>
            <a:ext cx="8640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Прилагане </a:t>
            </a: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отдолу – нагор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Ще се прилага на територията на селските райони, рибарските райони и териториите със специфични характеристики (съгласно НКПР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Финансиране от всички ЕСИФ без Кохезионен фон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Финансов ресурс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 – до 5% от ПРСР, ОПИК, ОПРЧР, ОПНОИР, ОПОС и до 17% от ПМД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4" name="Group 8"/>
          <p:cNvGrpSpPr/>
          <p:nvPr/>
        </p:nvGrpSpPr>
        <p:grpSpPr>
          <a:xfrm>
            <a:off x="2050920" y="3573360"/>
            <a:ext cx="6442200" cy="2924280"/>
            <a:chOff x="2050920" y="3573360"/>
            <a:chExt cx="6442200" cy="2924280"/>
          </a:xfrm>
        </p:grpSpPr>
        <p:sp>
          <p:nvSpPr>
            <p:cNvPr id="1165" name="AutoShape 7"/>
            <p:cNvSpPr/>
            <p:nvPr/>
          </p:nvSpPr>
          <p:spPr>
            <a:xfrm>
              <a:off x="2050920" y="3573360"/>
              <a:ext cx="6442200" cy="29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Rectangle 9"/>
            <p:cNvSpPr/>
            <p:nvPr/>
          </p:nvSpPr>
          <p:spPr>
            <a:xfrm>
              <a:off x="2976480" y="5926320"/>
              <a:ext cx="3689280" cy="213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Freeform 10"/>
            <p:cNvSpPr/>
            <p:nvPr/>
          </p:nvSpPr>
          <p:spPr>
            <a:xfrm>
              <a:off x="2973960" y="5923800"/>
              <a:ext cx="3695040" cy="217800"/>
            </a:xfrm>
            <a:custGeom>
              <a:avLst/>
              <a:gdLst>
                <a:gd name="textAreaLeft" fmla="*/ 0 w 3695040"/>
                <a:gd name="textAreaRight" fmla="*/ 3695400 w 36950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3325" h="196">
                  <a:moveTo>
                    <a:pt x="0" y="0"/>
                  </a:moveTo>
                  <a:lnTo>
                    <a:pt x="3325" y="0"/>
                  </a:lnTo>
                  <a:lnTo>
                    <a:pt x="3325" y="196"/>
                  </a:lnTo>
                  <a:lnTo>
                    <a:pt x="0" y="196"/>
                  </a:lnTo>
                  <a:lnTo>
                    <a:pt x="0" y="0"/>
                  </a:lnTo>
                  <a:close/>
                  <a:moveTo>
                    <a:pt x="5" y="194"/>
                  </a:moveTo>
                  <a:lnTo>
                    <a:pt x="2" y="192"/>
                  </a:lnTo>
                  <a:lnTo>
                    <a:pt x="3322" y="192"/>
                  </a:lnTo>
                  <a:lnTo>
                    <a:pt x="3319" y="194"/>
                  </a:lnTo>
                  <a:lnTo>
                    <a:pt x="3319" y="2"/>
                  </a:lnTo>
                  <a:lnTo>
                    <a:pt x="3322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Rectangle 11"/>
            <p:cNvSpPr/>
            <p:nvPr/>
          </p:nvSpPr>
          <p:spPr>
            <a:xfrm>
              <a:off x="3755880" y="5955120"/>
              <a:ext cx="2230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НА ИНИЦИАТИВНА ГРУП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Freeform 12"/>
            <p:cNvSpPr/>
            <p:nvPr/>
          </p:nvSpPr>
          <p:spPr>
            <a:xfrm>
              <a:off x="2194200" y="4926960"/>
              <a:ext cx="1118880" cy="35532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8728" h="3520">
                  <a:moveTo>
                    <a:pt x="0" y="587"/>
                  </a:moveTo>
                  <a:cubicBezTo>
                    <a:pt x="0" y="263"/>
                    <a:pt x="263" y="0"/>
                    <a:pt x="587" y="0"/>
                  </a:cubicBezTo>
                  <a:lnTo>
                    <a:pt x="8142" y="0"/>
                  </a:lnTo>
                  <a:cubicBezTo>
                    <a:pt x="8466" y="0"/>
                    <a:pt x="8728" y="263"/>
                    <a:pt x="8728" y="587"/>
                  </a:cubicBezTo>
                  <a:lnTo>
                    <a:pt x="8728" y="2934"/>
                  </a:lnTo>
                  <a:cubicBezTo>
                    <a:pt x="8728" y="3258"/>
                    <a:pt x="8466" y="3520"/>
                    <a:pt x="8142" y="3520"/>
                  </a:cubicBezTo>
                  <a:lnTo>
                    <a:pt x="587" y="3520"/>
                  </a:lnTo>
                  <a:cubicBezTo>
                    <a:pt x="263" y="3520"/>
                    <a:pt x="0" y="3258"/>
                    <a:pt x="0" y="2934"/>
                  </a:cubicBezTo>
                  <a:lnTo>
                    <a:pt x="0" y="587"/>
                  </a:lnTo>
                  <a:close/>
                </a:path>
              </a:pathLst>
            </a:custGeom>
            <a:solidFill>
              <a:srgbClr val="c794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Freeform 13"/>
            <p:cNvSpPr/>
            <p:nvPr/>
          </p:nvSpPr>
          <p:spPr>
            <a:xfrm>
              <a:off x="2190600" y="4925880"/>
              <a:ext cx="1124640" cy="36144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012" h="325">
                  <a:moveTo>
                    <a:pt x="0" y="56"/>
                  </a:moveTo>
                  <a:lnTo>
                    <a:pt x="0" y="50"/>
                  </a:lnTo>
                  <a:lnTo>
                    <a:pt x="2" y="45"/>
                  </a:lnTo>
                  <a:lnTo>
                    <a:pt x="3" y="39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2" y="25"/>
                  </a:lnTo>
                  <a:lnTo>
                    <a:pt x="16" y="21"/>
                  </a:lnTo>
                  <a:lnTo>
                    <a:pt x="21" y="17"/>
                  </a:lnTo>
                  <a:lnTo>
                    <a:pt x="26" y="13"/>
                  </a:lnTo>
                  <a:lnTo>
                    <a:pt x="31" y="10"/>
                  </a:lnTo>
                  <a:lnTo>
                    <a:pt x="37" y="7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941" y="0"/>
                  </a:lnTo>
                  <a:lnTo>
                    <a:pt x="948" y="0"/>
                  </a:lnTo>
                  <a:lnTo>
                    <a:pt x="955" y="1"/>
                  </a:lnTo>
                  <a:lnTo>
                    <a:pt x="962" y="3"/>
                  </a:lnTo>
                  <a:lnTo>
                    <a:pt x="969" y="5"/>
                  </a:lnTo>
                  <a:lnTo>
                    <a:pt x="975" y="7"/>
                  </a:lnTo>
                  <a:lnTo>
                    <a:pt x="981" y="10"/>
                  </a:lnTo>
                  <a:lnTo>
                    <a:pt x="986" y="13"/>
                  </a:lnTo>
                  <a:lnTo>
                    <a:pt x="991" y="16"/>
                  </a:lnTo>
                  <a:lnTo>
                    <a:pt x="996" y="20"/>
                  </a:lnTo>
                  <a:lnTo>
                    <a:pt x="1000" y="25"/>
                  </a:lnTo>
                  <a:lnTo>
                    <a:pt x="1003" y="29"/>
                  </a:lnTo>
                  <a:lnTo>
                    <a:pt x="1006" y="34"/>
                  </a:lnTo>
                  <a:lnTo>
                    <a:pt x="1009" y="39"/>
                  </a:lnTo>
                  <a:lnTo>
                    <a:pt x="1010" y="45"/>
                  </a:lnTo>
                  <a:lnTo>
                    <a:pt x="1011" y="50"/>
                  </a:lnTo>
                  <a:lnTo>
                    <a:pt x="1012" y="56"/>
                  </a:lnTo>
                  <a:lnTo>
                    <a:pt x="1012" y="269"/>
                  </a:lnTo>
                  <a:lnTo>
                    <a:pt x="1011" y="275"/>
                  </a:lnTo>
                  <a:lnTo>
                    <a:pt x="1010" y="280"/>
                  </a:lnTo>
                  <a:lnTo>
                    <a:pt x="1009" y="286"/>
                  </a:lnTo>
                  <a:lnTo>
                    <a:pt x="1006" y="291"/>
                  </a:lnTo>
                  <a:lnTo>
                    <a:pt x="1003" y="296"/>
                  </a:lnTo>
                  <a:lnTo>
                    <a:pt x="1000" y="300"/>
                  </a:lnTo>
                  <a:lnTo>
                    <a:pt x="996" y="305"/>
                  </a:lnTo>
                  <a:lnTo>
                    <a:pt x="991" y="309"/>
                  </a:lnTo>
                  <a:lnTo>
                    <a:pt x="986" y="312"/>
                  </a:lnTo>
                  <a:lnTo>
                    <a:pt x="981" y="315"/>
                  </a:lnTo>
                  <a:lnTo>
                    <a:pt x="975" y="318"/>
                  </a:lnTo>
                  <a:lnTo>
                    <a:pt x="969" y="320"/>
                  </a:lnTo>
                  <a:lnTo>
                    <a:pt x="962" y="322"/>
                  </a:lnTo>
                  <a:lnTo>
                    <a:pt x="956" y="324"/>
                  </a:lnTo>
                  <a:lnTo>
                    <a:pt x="949" y="325"/>
                  </a:lnTo>
                  <a:lnTo>
                    <a:pt x="941" y="325"/>
                  </a:lnTo>
                  <a:lnTo>
                    <a:pt x="70" y="325"/>
                  </a:lnTo>
                  <a:lnTo>
                    <a:pt x="63" y="325"/>
                  </a:lnTo>
                  <a:lnTo>
                    <a:pt x="57" y="324"/>
                  </a:lnTo>
                  <a:lnTo>
                    <a:pt x="50" y="322"/>
                  </a:lnTo>
                  <a:lnTo>
                    <a:pt x="43" y="321"/>
                  </a:lnTo>
                  <a:lnTo>
                    <a:pt x="37" y="318"/>
                  </a:lnTo>
                  <a:lnTo>
                    <a:pt x="31" y="315"/>
                  </a:lnTo>
                  <a:lnTo>
                    <a:pt x="26" y="312"/>
                  </a:lnTo>
                  <a:lnTo>
                    <a:pt x="21" y="309"/>
                  </a:lnTo>
                  <a:lnTo>
                    <a:pt x="16" y="305"/>
                  </a:lnTo>
                  <a:lnTo>
                    <a:pt x="12" y="300"/>
                  </a:lnTo>
                  <a:lnTo>
                    <a:pt x="9" y="296"/>
                  </a:lnTo>
                  <a:lnTo>
                    <a:pt x="6" y="291"/>
                  </a:lnTo>
                  <a:lnTo>
                    <a:pt x="3" y="286"/>
                  </a:lnTo>
                  <a:lnTo>
                    <a:pt x="2" y="281"/>
                  </a:lnTo>
                  <a:lnTo>
                    <a:pt x="1" y="275"/>
                  </a:lnTo>
                  <a:lnTo>
                    <a:pt x="0" y="269"/>
                  </a:lnTo>
                  <a:lnTo>
                    <a:pt x="0" y="56"/>
                  </a:lnTo>
                  <a:close/>
                  <a:moveTo>
                    <a:pt x="6" y="269"/>
                  </a:moveTo>
                  <a:lnTo>
                    <a:pt x="6" y="274"/>
                  </a:lnTo>
                  <a:lnTo>
                    <a:pt x="7" y="280"/>
                  </a:lnTo>
                  <a:lnTo>
                    <a:pt x="9" y="284"/>
                  </a:lnTo>
                  <a:lnTo>
                    <a:pt x="11" y="289"/>
                  </a:lnTo>
                  <a:lnTo>
                    <a:pt x="13" y="294"/>
                  </a:lnTo>
                  <a:lnTo>
                    <a:pt x="17" y="298"/>
                  </a:lnTo>
                  <a:lnTo>
                    <a:pt x="20" y="302"/>
                  </a:lnTo>
                  <a:lnTo>
                    <a:pt x="25" y="305"/>
                  </a:lnTo>
                  <a:lnTo>
                    <a:pt x="29" y="309"/>
                  </a:lnTo>
                  <a:lnTo>
                    <a:pt x="34" y="312"/>
                  </a:lnTo>
                  <a:lnTo>
                    <a:pt x="40" y="314"/>
                  </a:lnTo>
                  <a:lnTo>
                    <a:pt x="45" y="316"/>
                  </a:lnTo>
                  <a:lnTo>
                    <a:pt x="51" y="318"/>
                  </a:lnTo>
                  <a:lnTo>
                    <a:pt x="57" y="319"/>
                  </a:lnTo>
                  <a:lnTo>
                    <a:pt x="64" y="320"/>
                  </a:lnTo>
                  <a:lnTo>
                    <a:pt x="70" y="320"/>
                  </a:lnTo>
                  <a:lnTo>
                    <a:pt x="941" y="320"/>
                  </a:lnTo>
                  <a:lnTo>
                    <a:pt x="948" y="320"/>
                  </a:lnTo>
                  <a:lnTo>
                    <a:pt x="954" y="319"/>
                  </a:lnTo>
                  <a:lnTo>
                    <a:pt x="960" y="318"/>
                  </a:lnTo>
                  <a:lnTo>
                    <a:pt x="966" y="317"/>
                  </a:lnTo>
                  <a:lnTo>
                    <a:pt x="972" y="314"/>
                  </a:lnTo>
                  <a:lnTo>
                    <a:pt x="977" y="312"/>
                  </a:lnTo>
                  <a:lnTo>
                    <a:pt x="982" y="309"/>
                  </a:lnTo>
                  <a:lnTo>
                    <a:pt x="987" y="306"/>
                  </a:lnTo>
                  <a:lnTo>
                    <a:pt x="991" y="302"/>
                  </a:lnTo>
                  <a:lnTo>
                    <a:pt x="995" y="298"/>
                  </a:lnTo>
                  <a:lnTo>
                    <a:pt x="998" y="294"/>
                  </a:lnTo>
                  <a:lnTo>
                    <a:pt x="1001" y="289"/>
                  </a:lnTo>
                  <a:lnTo>
                    <a:pt x="1003" y="285"/>
                  </a:lnTo>
                  <a:lnTo>
                    <a:pt x="1005" y="280"/>
                  </a:lnTo>
                  <a:lnTo>
                    <a:pt x="1006" y="275"/>
                  </a:lnTo>
                  <a:lnTo>
                    <a:pt x="1006" y="269"/>
                  </a:lnTo>
                  <a:lnTo>
                    <a:pt x="1006" y="56"/>
                  </a:lnTo>
                  <a:lnTo>
                    <a:pt x="1006" y="51"/>
                  </a:lnTo>
                  <a:lnTo>
                    <a:pt x="1005" y="46"/>
                  </a:lnTo>
                  <a:lnTo>
                    <a:pt x="1003" y="41"/>
                  </a:lnTo>
                  <a:lnTo>
                    <a:pt x="1001" y="36"/>
                  </a:lnTo>
                  <a:lnTo>
                    <a:pt x="998" y="32"/>
                  </a:lnTo>
                  <a:lnTo>
                    <a:pt x="995" y="27"/>
                  </a:lnTo>
                  <a:lnTo>
                    <a:pt x="991" y="23"/>
                  </a:lnTo>
                  <a:lnTo>
                    <a:pt x="987" y="20"/>
                  </a:lnTo>
                  <a:lnTo>
                    <a:pt x="983" y="16"/>
                  </a:lnTo>
                  <a:lnTo>
                    <a:pt x="978" y="13"/>
                  </a:lnTo>
                  <a:lnTo>
                    <a:pt x="972" y="11"/>
                  </a:lnTo>
                  <a:lnTo>
                    <a:pt x="967" y="9"/>
                  </a:lnTo>
                  <a:lnTo>
                    <a:pt x="961" y="7"/>
                  </a:lnTo>
                  <a:lnTo>
                    <a:pt x="954" y="6"/>
                  </a:lnTo>
                  <a:lnTo>
                    <a:pt x="948" y="5"/>
                  </a:lnTo>
                  <a:lnTo>
                    <a:pt x="941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6"/>
                  </a:lnTo>
                  <a:lnTo>
                    <a:pt x="51" y="7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5" y="20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1" y="36"/>
                  </a:lnTo>
                  <a:lnTo>
                    <a:pt x="9" y="41"/>
                  </a:lnTo>
                  <a:lnTo>
                    <a:pt x="7" y="45"/>
                  </a:lnTo>
                  <a:lnTo>
                    <a:pt x="6" y="51"/>
                  </a:lnTo>
                  <a:lnTo>
                    <a:pt x="6" y="56"/>
                  </a:lnTo>
                  <a:lnTo>
                    <a:pt x="6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Rectangle 14"/>
            <p:cNvSpPr/>
            <p:nvPr/>
          </p:nvSpPr>
          <p:spPr>
            <a:xfrm>
              <a:off x="2593080" y="4975920"/>
              <a:ext cx="39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Р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Freeform 15"/>
            <p:cNvSpPr/>
            <p:nvPr/>
          </p:nvSpPr>
          <p:spPr>
            <a:xfrm>
              <a:off x="2194200" y="4287600"/>
              <a:ext cx="1118880" cy="28440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7456" h="5632">
                  <a:moveTo>
                    <a:pt x="0" y="939"/>
                  </a:moveTo>
                  <a:cubicBezTo>
                    <a:pt x="0" y="421"/>
                    <a:pt x="421" y="0"/>
                    <a:pt x="939" y="0"/>
                  </a:cubicBezTo>
                  <a:lnTo>
                    <a:pt x="16518" y="0"/>
                  </a:lnTo>
                  <a:cubicBezTo>
                    <a:pt x="17036" y="0"/>
                    <a:pt x="17456" y="421"/>
                    <a:pt x="17456" y="939"/>
                  </a:cubicBezTo>
                  <a:lnTo>
                    <a:pt x="17456" y="4694"/>
                  </a:lnTo>
                  <a:cubicBezTo>
                    <a:pt x="17456" y="5212"/>
                    <a:pt x="17036" y="5632"/>
                    <a:pt x="16518" y="5632"/>
                  </a:cubicBezTo>
                  <a:lnTo>
                    <a:pt x="939" y="5632"/>
                  </a:lnTo>
                  <a:cubicBezTo>
                    <a:pt x="421" y="5632"/>
                    <a:pt x="0" y="5212"/>
                    <a:pt x="0" y="4694"/>
                  </a:cubicBezTo>
                  <a:lnTo>
                    <a:pt x="0" y="939"/>
                  </a:lnTo>
                  <a:close/>
                </a:path>
              </a:pathLst>
            </a:custGeom>
            <a:solidFill>
              <a:srgbClr val="4a6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Freeform 16"/>
            <p:cNvSpPr/>
            <p:nvPr/>
          </p:nvSpPr>
          <p:spPr>
            <a:xfrm>
              <a:off x="2190600" y="4285440"/>
              <a:ext cx="1124640" cy="289080"/>
            </a:xfrm>
            <a:custGeom>
              <a:avLst/>
              <a:gdLst>
                <a:gd name="textAreaLeft" fmla="*/ 0 w 1124640"/>
                <a:gd name="textAreaRight" fmla="*/ 1125000 w 1124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012" h="260">
                  <a:moveTo>
                    <a:pt x="0" y="45"/>
                  </a:moveTo>
                  <a:lnTo>
                    <a:pt x="0" y="40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10" y="20"/>
                  </a:lnTo>
                  <a:lnTo>
                    <a:pt x="13" y="16"/>
                  </a:lnTo>
                  <a:lnTo>
                    <a:pt x="17" y="13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30" y="5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955" y="0"/>
                  </a:lnTo>
                  <a:lnTo>
                    <a:pt x="961" y="0"/>
                  </a:lnTo>
                  <a:lnTo>
                    <a:pt x="966" y="1"/>
                  </a:lnTo>
                  <a:lnTo>
                    <a:pt x="972" y="2"/>
                  </a:lnTo>
                  <a:lnTo>
                    <a:pt x="977" y="3"/>
                  </a:lnTo>
                  <a:lnTo>
                    <a:pt x="982" y="5"/>
                  </a:lnTo>
                  <a:lnTo>
                    <a:pt x="987" y="7"/>
                  </a:lnTo>
                  <a:lnTo>
                    <a:pt x="991" y="10"/>
                  </a:lnTo>
                  <a:lnTo>
                    <a:pt x="995" y="13"/>
                  </a:lnTo>
                  <a:lnTo>
                    <a:pt x="999" y="16"/>
                  </a:lnTo>
                  <a:lnTo>
                    <a:pt x="1002" y="20"/>
                  </a:lnTo>
                  <a:lnTo>
                    <a:pt x="1005" y="23"/>
                  </a:lnTo>
                  <a:lnTo>
                    <a:pt x="1007" y="27"/>
                  </a:lnTo>
                  <a:lnTo>
                    <a:pt x="1009" y="31"/>
                  </a:lnTo>
                  <a:lnTo>
                    <a:pt x="1010" y="36"/>
                  </a:lnTo>
                  <a:lnTo>
                    <a:pt x="1011" y="40"/>
                  </a:lnTo>
                  <a:lnTo>
                    <a:pt x="1012" y="45"/>
                  </a:lnTo>
                  <a:lnTo>
                    <a:pt x="1012" y="216"/>
                  </a:lnTo>
                  <a:lnTo>
                    <a:pt x="1011" y="220"/>
                  </a:lnTo>
                  <a:lnTo>
                    <a:pt x="1011" y="224"/>
                  </a:lnTo>
                  <a:lnTo>
                    <a:pt x="1009" y="229"/>
                  </a:lnTo>
                  <a:lnTo>
                    <a:pt x="1007" y="233"/>
                  </a:lnTo>
                  <a:lnTo>
                    <a:pt x="1005" y="237"/>
                  </a:lnTo>
                  <a:lnTo>
                    <a:pt x="1002" y="240"/>
                  </a:lnTo>
                  <a:lnTo>
                    <a:pt x="999" y="244"/>
                  </a:lnTo>
                  <a:lnTo>
                    <a:pt x="995" y="247"/>
                  </a:lnTo>
                  <a:lnTo>
                    <a:pt x="991" y="250"/>
                  </a:lnTo>
                  <a:lnTo>
                    <a:pt x="987" y="253"/>
                  </a:lnTo>
                  <a:lnTo>
                    <a:pt x="982" y="255"/>
                  </a:lnTo>
                  <a:lnTo>
                    <a:pt x="977" y="257"/>
                  </a:lnTo>
                  <a:lnTo>
                    <a:pt x="972" y="258"/>
                  </a:lnTo>
                  <a:lnTo>
                    <a:pt x="966" y="259"/>
                  </a:lnTo>
                  <a:lnTo>
                    <a:pt x="961" y="260"/>
                  </a:lnTo>
                  <a:lnTo>
                    <a:pt x="955" y="260"/>
                  </a:lnTo>
                  <a:lnTo>
                    <a:pt x="57" y="260"/>
                  </a:lnTo>
                  <a:lnTo>
                    <a:pt x="51" y="260"/>
                  </a:lnTo>
                  <a:lnTo>
                    <a:pt x="46" y="259"/>
                  </a:lnTo>
                  <a:lnTo>
                    <a:pt x="40" y="258"/>
                  </a:lnTo>
                  <a:lnTo>
                    <a:pt x="35" y="257"/>
                  </a:lnTo>
                  <a:lnTo>
                    <a:pt x="30" y="255"/>
                  </a:lnTo>
                  <a:lnTo>
                    <a:pt x="25" y="253"/>
                  </a:lnTo>
                  <a:lnTo>
                    <a:pt x="21" y="250"/>
                  </a:lnTo>
                  <a:lnTo>
                    <a:pt x="17" y="247"/>
                  </a:lnTo>
                  <a:lnTo>
                    <a:pt x="13" y="244"/>
                  </a:lnTo>
                  <a:lnTo>
                    <a:pt x="10" y="241"/>
                  </a:lnTo>
                  <a:lnTo>
                    <a:pt x="7" y="237"/>
                  </a:lnTo>
                  <a:lnTo>
                    <a:pt x="5" y="233"/>
                  </a:lnTo>
                  <a:lnTo>
                    <a:pt x="3" y="229"/>
                  </a:lnTo>
                  <a:lnTo>
                    <a:pt x="1" y="225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0" y="45"/>
                  </a:lnTo>
                  <a:close/>
                  <a:moveTo>
                    <a:pt x="6" y="215"/>
                  </a:moveTo>
                  <a:lnTo>
                    <a:pt x="6" y="220"/>
                  </a:lnTo>
                  <a:lnTo>
                    <a:pt x="7" y="224"/>
                  </a:lnTo>
                  <a:lnTo>
                    <a:pt x="8" y="227"/>
                  </a:lnTo>
                  <a:lnTo>
                    <a:pt x="10" y="231"/>
                  </a:lnTo>
                  <a:lnTo>
                    <a:pt x="12" y="235"/>
                  </a:lnTo>
                  <a:lnTo>
                    <a:pt x="14" y="238"/>
                  </a:lnTo>
                  <a:lnTo>
                    <a:pt x="17" y="241"/>
                  </a:lnTo>
                  <a:lnTo>
                    <a:pt x="21" y="244"/>
                  </a:lnTo>
                  <a:lnTo>
                    <a:pt x="24" y="247"/>
                  </a:lnTo>
                  <a:lnTo>
                    <a:pt x="28" y="249"/>
                  </a:lnTo>
                  <a:lnTo>
                    <a:pt x="32" y="251"/>
                  </a:lnTo>
                  <a:lnTo>
                    <a:pt x="37" y="253"/>
                  </a:lnTo>
                  <a:lnTo>
                    <a:pt x="42" y="254"/>
                  </a:lnTo>
                  <a:lnTo>
                    <a:pt x="47" y="255"/>
                  </a:lnTo>
                  <a:lnTo>
                    <a:pt x="52" y="256"/>
                  </a:lnTo>
                  <a:lnTo>
                    <a:pt x="57" y="256"/>
                  </a:lnTo>
                  <a:lnTo>
                    <a:pt x="955" y="256"/>
                  </a:lnTo>
                  <a:lnTo>
                    <a:pt x="960" y="256"/>
                  </a:lnTo>
                  <a:lnTo>
                    <a:pt x="965" y="255"/>
                  </a:lnTo>
                  <a:lnTo>
                    <a:pt x="970" y="254"/>
                  </a:lnTo>
                  <a:lnTo>
                    <a:pt x="975" y="253"/>
                  </a:lnTo>
                  <a:lnTo>
                    <a:pt x="979" y="251"/>
                  </a:lnTo>
                  <a:lnTo>
                    <a:pt x="983" y="249"/>
                  </a:lnTo>
                  <a:lnTo>
                    <a:pt x="987" y="247"/>
                  </a:lnTo>
                  <a:lnTo>
                    <a:pt x="991" y="244"/>
                  </a:lnTo>
                  <a:lnTo>
                    <a:pt x="994" y="241"/>
                  </a:lnTo>
                  <a:lnTo>
                    <a:pt x="997" y="238"/>
                  </a:lnTo>
                  <a:lnTo>
                    <a:pt x="1000" y="235"/>
                  </a:lnTo>
                  <a:lnTo>
                    <a:pt x="1002" y="231"/>
                  </a:lnTo>
                  <a:lnTo>
                    <a:pt x="1004" y="228"/>
                  </a:lnTo>
                  <a:lnTo>
                    <a:pt x="1005" y="224"/>
                  </a:lnTo>
                  <a:lnTo>
                    <a:pt x="1006" y="220"/>
                  </a:lnTo>
                  <a:lnTo>
                    <a:pt x="1006" y="216"/>
                  </a:lnTo>
                  <a:lnTo>
                    <a:pt x="1006" y="45"/>
                  </a:lnTo>
                  <a:lnTo>
                    <a:pt x="1006" y="41"/>
                  </a:lnTo>
                  <a:lnTo>
                    <a:pt x="1005" y="37"/>
                  </a:lnTo>
                  <a:lnTo>
                    <a:pt x="1004" y="33"/>
                  </a:lnTo>
                  <a:lnTo>
                    <a:pt x="1002" y="29"/>
                  </a:lnTo>
                  <a:lnTo>
                    <a:pt x="1000" y="26"/>
                  </a:lnTo>
                  <a:lnTo>
                    <a:pt x="997" y="22"/>
                  </a:lnTo>
                  <a:lnTo>
                    <a:pt x="995" y="19"/>
                  </a:lnTo>
                  <a:lnTo>
                    <a:pt x="991" y="16"/>
                  </a:lnTo>
                  <a:lnTo>
                    <a:pt x="988" y="14"/>
                  </a:lnTo>
                  <a:lnTo>
                    <a:pt x="984" y="11"/>
                  </a:lnTo>
                  <a:lnTo>
                    <a:pt x="979" y="9"/>
                  </a:lnTo>
                  <a:lnTo>
                    <a:pt x="975" y="7"/>
                  </a:lnTo>
                  <a:lnTo>
                    <a:pt x="970" y="6"/>
                  </a:lnTo>
                  <a:lnTo>
                    <a:pt x="965" y="5"/>
                  </a:lnTo>
                  <a:lnTo>
                    <a:pt x="960" y="4"/>
                  </a:lnTo>
                  <a:lnTo>
                    <a:pt x="955" y="4"/>
                  </a:lnTo>
                  <a:lnTo>
                    <a:pt x="57" y="4"/>
                  </a:lnTo>
                  <a:lnTo>
                    <a:pt x="52" y="4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5"/>
                  </a:lnTo>
                  <a:lnTo>
                    <a:pt x="10" y="29"/>
                  </a:lnTo>
                  <a:lnTo>
                    <a:pt x="8" y="33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6" y="45"/>
                  </a:lnTo>
                  <a:lnTo>
                    <a:pt x="6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Rectangle 17"/>
            <p:cNvSpPr/>
            <p:nvPr/>
          </p:nvSpPr>
          <p:spPr>
            <a:xfrm>
              <a:off x="2638800" y="4332240"/>
              <a:ext cx="31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Ф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Freeform 18"/>
            <p:cNvSpPr/>
            <p:nvPr/>
          </p:nvSpPr>
          <p:spPr>
            <a:xfrm>
              <a:off x="6554880" y="4287600"/>
              <a:ext cx="1117800" cy="28440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4364" h="1408">
                  <a:moveTo>
                    <a:pt x="0" y="235"/>
                  </a:moveTo>
                  <a:cubicBezTo>
                    <a:pt x="0" y="106"/>
                    <a:pt x="106" y="0"/>
                    <a:pt x="235" y="0"/>
                  </a:cubicBezTo>
                  <a:lnTo>
                    <a:pt x="4130" y="0"/>
                  </a:lnTo>
                  <a:cubicBezTo>
                    <a:pt x="4259" y="0"/>
                    <a:pt x="4364" y="106"/>
                    <a:pt x="4364" y="235"/>
                  </a:cubicBezTo>
                  <a:lnTo>
                    <a:pt x="4364" y="1174"/>
                  </a:lnTo>
                  <a:cubicBezTo>
                    <a:pt x="4364" y="1303"/>
                    <a:pt x="4259" y="1408"/>
                    <a:pt x="4130" y="1408"/>
                  </a:cubicBezTo>
                  <a:lnTo>
                    <a:pt x="235" y="1408"/>
                  </a:lnTo>
                  <a:cubicBezTo>
                    <a:pt x="106" y="1408"/>
                    <a:pt x="0" y="1303"/>
                    <a:pt x="0" y="1174"/>
                  </a:cubicBezTo>
                  <a:lnTo>
                    <a:pt x="0" y="235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Freeform 19"/>
            <p:cNvSpPr/>
            <p:nvPr/>
          </p:nvSpPr>
          <p:spPr>
            <a:xfrm>
              <a:off x="6551640" y="4285440"/>
              <a:ext cx="1123200" cy="28908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011" h="260">
                  <a:moveTo>
                    <a:pt x="0" y="45"/>
                  </a:move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2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30" y="5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955" y="0"/>
                  </a:lnTo>
                  <a:lnTo>
                    <a:pt x="960" y="0"/>
                  </a:lnTo>
                  <a:lnTo>
                    <a:pt x="966" y="1"/>
                  </a:lnTo>
                  <a:lnTo>
                    <a:pt x="972" y="2"/>
                  </a:lnTo>
                  <a:lnTo>
                    <a:pt x="977" y="3"/>
                  </a:lnTo>
                  <a:lnTo>
                    <a:pt x="982" y="5"/>
                  </a:lnTo>
                  <a:lnTo>
                    <a:pt x="986" y="8"/>
                  </a:lnTo>
                  <a:lnTo>
                    <a:pt x="991" y="10"/>
                  </a:lnTo>
                  <a:lnTo>
                    <a:pt x="995" y="13"/>
                  </a:lnTo>
                  <a:lnTo>
                    <a:pt x="998" y="16"/>
                  </a:lnTo>
                  <a:lnTo>
                    <a:pt x="1002" y="20"/>
                  </a:lnTo>
                  <a:lnTo>
                    <a:pt x="1004" y="23"/>
                  </a:lnTo>
                  <a:lnTo>
                    <a:pt x="1007" y="27"/>
                  </a:lnTo>
                  <a:lnTo>
                    <a:pt x="1009" y="31"/>
                  </a:lnTo>
                  <a:lnTo>
                    <a:pt x="1010" y="36"/>
                  </a:lnTo>
                  <a:lnTo>
                    <a:pt x="1011" y="40"/>
                  </a:lnTo>
                  <a:lnTo>
                    <a:pt x="1011" y="45"/>
                  </a:lnTo>
                  <a:lnTo>
                    <a:pt x="1011" y="216"/>
                  </a:lnTo>
                  <a:lnTo>
                    <a:pt x="1011" y="220"/>
                  </a:lnTo>
                  <a:lnTo>
                    <a:pt x="1010" y="225"/>
                  </a:lnTo>
                  <a:lnTo>
                    <a:pt x="1009" y="229"/>
                  </a:lnTo>
                  <a:lnTo>
                    <a:pt x="1007" y="233"/>
                  </a:lnTo>
                  <a:lnTo>
                    <a:pt x="1005" y="237"/>
                  </a:lnTo>
                  <a:lnTo>
                    <a:pt x="1002" y="241"/>
                  </a:lnTo>
                  <a:lnTo>
                    <a:pt x="999" y="244"/>
                  </a:lnTo>
                  <a:lnTo>
                    <a:pt x="995" y="247"/>
                  </a:lnTo>
                  <a:lnTo>
                    <a:pt x="991" y="250"/>
                  </a:lnTo>
                  <a:lnTo>
                    <a:pt x="986" y="253"/>
                  </a:lnTo>
                  <a:lnTo>
                    <a:pt x="982" y="255"/>
                  </a:lnTo>
                  <a:lnTo>
                    <a:pt x="977" y="257"/>
                  </a:lnTo>
                  <a:lnTo>
                    <a:pt x="972" y="258"/>
                  </a:lnTo>
                  <a:lnTo>
                    <a:pt x="966" y="259"/>
                  </a:lnTo>
                  <a:lnTo>
                    <a:pt x="961" y="260"/>
                  </a:lnTo>
                  <a:lnTo>
                    <a:pt x="955" y="260"/>
                  </a:lnTo>
                  <a:lnTo>
                    <a:pt x="57" y="260"/>
                  </a:lnTo>
                  <a:lnTo>
                    <a:pt x="51" y="260"/>
                  </a:lnTo>
                  <a:lnTo>
                    <a:pt x="45" y="260"/>
                  </a:lnTo>
                  <a:lnTo>
                    <a:pt x="40" y="259"/>
                  </a:lnTo>
                  <a:lnTo>
                    <a:pt x="35" y="257"/>
                  </a:lnTo>
                  <a:lnTo>
                    <a:pt x="30" y="255"/>
                  </a:lnTo>
                  <a:lnTo>
                    <a:pt x="25" y="253"/>
                  </a:lnTo>
                  <a:lnTo>
                    <a:pt x="21" y="250"/>
                  </a:lnTo>
                  <a:lnTo>
                    <a:pt x="17" y="247"/>
                  </a:lnTo>
                  <a:lnTo>
                    <a:pt x="13" y="244"/>
                  </a:lnTo>
                  <a:lnTo>
                    <a:pt x="10" y="241"/>
                  </a:lnTo>
                  <a:lnTo>
                    <a:pt x="7" y="237"/>
                  </a:lnTo>
                  <a:lnTo>
                    <a:pt x="4" y="233"/>
                  </a:lnTo>
                  <a:lnTo>
                    <a:pt x="3" y="229"/>
                  </a:lnTo>
                  <a:lnTo>
                    <a:pt x="1" y="225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0" y="45"/>
                  </a:lnTo>
                  <a:close/>
                  <a:moveTo>
                    <a:pt x="5" y="215"/>
                  </a:moveTo>
                  <a:lnTo>
                    <a:pt x="6" y="220"/>
                  </a:lnTo>
                  <a:lnTo>
                    <a:pt x="6" y="224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2" y="235"/>
                  </a:lnTo>
                  <a:lnTo>
                    <a:pt x="14" y="238"/>
                  </a:lnTo>
                  <a:lnTo>
                    <a:pt x="17" y="241"/>
                  </a:lnTo>
                  <a:lnTo>
                    <a:pt x="20" y="244"/>
                  </a:lnTo>
                  <a:lnTo>
                    <a:pt x="24" y="247"/>
                  </a:lnTo>
                  <a:lnTo>
                    <a:pt x="28" y="249"/>
                  </a:lnTo>
                  <a:lnTo>
                    <a:pt x="32" y="251"/>
                  </a:lnTo>
                  <a:lnTo>
                    <a:pt x="37" y="253"/>
                  </a:lnTo>
                  <a:lnTo>
                    <a:pt x="41" y="254"/>
                  </a:lnTo>
                  <a:lnTo>
                    <a:pt x="46" y="255"/>
                  </a:lnTo>
                  <a:lnTo>
                    <a:pt x="51" y="256"/>
                  </a:lnTo>
                  <a:lnTo>
                    <a:pt x="57" y="256"/>
                  </a:lnTo>
                  <a:lnTo>
                    <a:pt x="954" y="256"/>
                  </a:lnTo>
                  <a:lnTo>
                    <a:pt x="960" y="256"/>
                  </a:lnTo>
                  <a:lnTo>
                    <a:pt x="965" y="255"/>
                  </a:lnTo>
                  <a:lnTo>
                    <a:pt x="970" y="254"/>
                  </a:lnTo>
                  <a:lnTo>
                    <a:pt x="975" y="253"/>
                  </a:lnTo>
                  <a:lnTo>
                    <a:pt x="979" y="251"/>
                  </a:lnTo>
                  <a:lnTo>
                    <a:pt x="983" y="249"/>
                  </a:lnTo>
                  <a:lnTo>
                    <a:pt x="987" y="247"/>
                  </a:lnTo>
                  <a:lnTo>
                    <a:pt x="991" y="244"/>
                  </a:lnTo>
                  <a:lnTo>
                    <a:pt x="994" y="241"/>
                  </a:lnTo>
                  <a:lnTo>
                    <a:pt x="997" y="238"/>
                  </a:lnTo>
                  <a:lnTo>
                    <a:pt x="1000" y="235"/>
                  </a:lnTo>
                  <a:lnTo>
                    <a:pt x="1002" y="231"/>
                  </a:lnTo>
                  <a:lnTo>
                    <a:pt x="1004" y="228"/>
                  </a:lnTo>
                  <a:lnTo>
                    <a:pt x="1005" y="224"/>
                  </a:lnTo>
                  <a:lnTo>
                    <a:pt x="1006" y="220"/>
                  </a:lnTo>
                  <a:lnTo>
                    <a:pt x="1006" y="216"/>
                  </a:lnTo>
                  <a:lnTo>
                    <a:pt x="1006" y="45"/>
                  </a:lnTo>
                  <a:lnTo>
                    <a:pt x="1006" y="41"/>
                  </a:lnTo>
                  <a:lnTo>
                    <a:pt x="1005" y="37"/>
                  </a:lnTo>
                  <a:lnTo>
                    <a:pt x="1004" y="33"/>
                  </a:lnTo>
                  <a:lnTo>
                    <a:pt x="1002" y="29"/>
                  </a:lnTo>
                  <a:lnTo>
                    <a:pt x="1000" y="26"/>
                  </a:lnTo>
                  <a:lnTo>
                    <a:pt x="997" y="22"/>
                  </a:lnTo>
                  <a:lnTo>
                    <a:pt x="994" y="19"/>
                  </a:lnTo>
                  <a:lnTo>
                    <a:pt x="991" y="16"/>
                  </a:lnTo>
                  <a:lnTo>
                    <a:pt x="987" y="14"/>
                  </a:lnTo>
                  <a:lnTo>
                    <a:pt x="984" y="11"/>
                  </a:lnTo>
                  <a:lnTo>
                    <a:pt x="979" y="9"/>
                  </a:lnTo>
                  <a:lnTo>
                    <a:pt x="975" y="7"/>
                  </a:lnTo>
                  <a:lnTo>
                    <a:pt x="970" y="6"/>
                  </a:lnTo>
                  <a:lnTo>
                    <a:pt x="965" y="5"/>
                  </a:lnTo>
                  <a:lnTo>
                    <a:pt x="960" y="5"/>
                  </a:lnTo>
                  <a:lnTo>
                    <a:pt x="955" y="4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5" y="4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Rectangle 20"/>
            <p:cNvSpPr/>
            <p:nvPr/>
          </p:nvSpPr>
          <p:spPr>
            <a:xfrm>
              <a:off x="6912000" y="4332240"/>
              <a:ext cx="58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ЗФРС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Freeform 21"/>
            <p:cNvSpPr/>
            <p:nvPr/>
          </p:nvSpPr>
          <p:spPr>
            <a:xfrm>
              <a:off x="6554880" y="4928040"/>
              <a:ext cx="1117800" cy="28548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4364" h="1408">
                  <a:moveTo>
                    <a:pt x="0" y="235"/>
                  </a:moveTo>
                  <a:cubicBezTo>
                    <a:pt x="0" y="106"/>
                    <a:pt x="106" y="0"/>
                    <a:pt x="235" y="0"/>
                  </a:cubicBezTo>
                  <a:lnTo>
                    <a:pt x="4130" y="0"/>
                  </a:lnTo>
                  <a:cubicBezTo>
                    <a:pt x="4259" y="0"/>
                    <a:pt x="4364" y="106"/>
                    <a:pt x="4364" y="235"/>
                  </a:cubicBezTo>
                  <a:lnTo>
                    <a:pt x="4364" y="1174"/>
                  </a:lnTo>
                  <a:cubicBezTo>
                    <a:pt x="4364" y="1303"/>
                    <a:pt x="4259" y="1408"/>
                    <a:pt x="4130" y="1408"/>
                  </a:cubicBezTo>
                  <a:lnTo>
                    <a:pt x="235" y="1408"/>
                  </a:lnTo>
                  <a:cubicBezTo>
                    <a:pt x="106" y="1408"/>
                    <a:pt x="0" y="1303"/>
                    <a:pt x="0" y="1174"/>
                  </a:cubicBezTo>
                  <a:lnTo>
                    <a:pt x="0" y="235"/>
                  </a:lnTo>
                  <a:close/>
                </a:path>
              </a:pathLst>
            </a:custGeom>
            <a:solidFill>
              <a:srgbClr val="00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Freeform 22"/>
            <p:cNvSpPr/>
            <p:nvPr/>
          </p:nvSpPr>
          <p:spPr>
            <a:xfrm>
              <a:off x="6551640" y="4925880"/>
              <a:ext cx="1123200" cy="28980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1011" h="261">
                  <a:moveTo>
                    <a:pt x="0" y="45"/>
                  </a:moveTo>
                  <a:lnTo>
                    <a:pt x="0" y="41"/>
                  </a:lnTo>
                  <a:lnTo>
                    <a:pt x="1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9" y="20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21" y="11"/>
                  </a:lnTo>
                  <a:lnTo>
                    <a:pt x="25" y="8"/>
                  </a:lnTo>
                  <a:lnTo>
                    <a:pt x="30" y="6"/>
                  </a:lnTo>
                  <a:lnTo>
                    <a:pt x="35" y="4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955" y="0"/>
                  </a:lnTo>
                  <a:lnTo>
                    <a:pt x="960" y="1"/>
                  </a:lnTo>
                  <a:lnTo>
                    <a:pt x="966" y="1"/>
                  </a:lnTo>
                  <a:lnTo>
                    <a:pt x="972" y="2"/>
                  </a:lnTo>
                  <a:lnTo>
                    <a:pt x="977" y="4"/>
                  </a:lnTo>
                  <a:lnTo>
                    <a:pt x="982" y="6"/>
                  </a:lnTo>
                  <a:lnTo>
                    <a:pt x="986" y="8"/>
                  </a:lnTo>
                  <a:lnTo>
                    <a:pt x="991" y="11"/>
                  </a:lnTo>
                  <a:lnTo>
                    <a:pt x="995" y="13"/>
                  </a:lnTo>
                  <a:lnTo>
                    <a:pt x="998" y="17"/>
                  </a:lnTo>
                  <a:lnTo>
                    <a:pt x="1002" y="20"/>
                  </a:lnTo>
                  <a:lnTo>
                    <a:pt x="1004" y="24"/>
                  </a:lnTo>
                  <a:lnTo>
                    <a:pt x="1007" y="28"/>
                  </a:lnTo>
                  <a:lnTo>
                    <a:pt x="1009" y="32"/>
                  </a:lnTo>
                  <a:lnTo>
                    <a:pt x="1010" y="36"/>
                  </a:lnTo>
                  <a:lnTo>
                    <a:pt x="1011" y="40"/>
                  </a:lnTo>
                  <a:lnTo>
                    <a:pt x="1011" y="45"/>
                  </a:lnTo>
                  <a:lnTo>
                    <a:pt x="1011" y="216"/>
                  </a:lnTo>
                  <a:lnTo>
                    <a:pt x="1011" y="221"/>
                  </a:lnTo>
                  <a:lnTo>
                    <a:pt x="1010" y="225"/>
                  </a:lnTo>
                  <a:lnTo>
                    <a:pt x="1009" y="229"/>
                  </a:lnTo>
                  <a:lnTo>
                    <a:pt x="1007" y="233"/>
                  </a:lnTo>
                  <a:lnTo>
                    <a:pt x="1005" y="237"/>
                  </a:lnTo>
                  <a:lnTo>
                    <a:pt x="1002" y="241"/>
                  </a:lnTo>
                  <a:lnTo>
                    <a:pt x="999" y="244"/>
                  </a:lnTo>
                  <a:lnTo>
                    <a:pt x="995" y="248"/>
                  </a:lnTo>
                  <a:lnTo>
                    <a:pt x="991" y="251"/>
                  </a:lnTo>
                  <a:lnTo>
                    <a:pt x="986" y="253"/>
                  </a:lnTo>
                  <a:lnTo>
                    <a:pt x="982" y="255"/>
                  </a:lnTo>
                  <a:lnTo>
                    <a:pt x="977" y="257"/>
                  </a:lnTo>
                  <a:lnTo>
                    <a:pt x="972" y="259"/>
                  </a:lnTo>
                  <a:lnTo>
                    <a:pt x="966" y="260"/>
                  </a:lnTo>
                  <a:lnTo>
                    <a:pt x="961" y="261"/>
                  </a:lnTo>
                  <a:lnTo>
                    <a:pt x="955" y="261"/>
                  </a:lnTo>
                  <a:lnTo>
                    <a:pt x="57" y="261"/>
                  </a:lnTo>
                  <a:lnTo>
                    <a:pt x="51" y="261"/>
                  </a:lnTo>
                  <a:lnTo>
                    <a:pt x="45" y="260"/>
                  </a:lnTo>
                  <a:lnTo>
                    <a:pt x="40" y="259"/>
                  </a:lnTo>
                  <a:lnTo>
                    <a:pt x="35" y="257"/>
                  </a:lnTo>
                  <a:lnTo>
                    <a:pt x="30" y="255"/>
                  </a:lnTo>
                  <a:lnTo>
                    <a:pt x="25" y="253"/>
                  </a:lnTo>
                  <a:lnTo>
                    <a:pt x="21" y="251"/>
                  </a:lnTo>
                  <a:lnTo>
                    <a:pt x="17" y="248"/>
                  </a:lnTo>
                  <a:lnTo>
                    <a:pt x="13" y="245"/>
                  </a:lnTo>
                  <a:lnTo>
                    <a:pt x="10" y="241"/>
                  </a:lnTo>
                  <a:lnTo>
                    <a:pt x="7" y="237"/>
                  </a:lnTo>
                  <a:lnTo>
                    <a:pt x="4" y="233"/>
                  </a:lnTo>
                  <a:lnTo>
                    <a:pt x="3" y="229"/>
                  </a:lnTo>
                  <a:lnTo>
                    <a:pt x="1" y="225"/>
                  </a:lnTo>
                  <a:lnTo>
                    <a:pt x="0" y="221"/>
                  </a:lnTo>
                  <a:lnTo>
                    <a:pt x="0" y="216"/>
                  </a:lnTo>
                  <a:lnTo>
                    <a:pt x="0" y="45"/>
                  </a:lnTo>
                  <a:close/>
                  <a:moveTo>
                    <a:pt x="5" y="216"/>
                  </a:moveTo>
                  <a:lnTo>
                    <a:pt x="6" y="220"/>
                  </a:lnTo>
                  <a:lnTo>
                    <a:pt x="6" y="224"/>
                  </a:lnTo>
                  <a:lnTo>
                    <a:pt x="8" y="228"/>
                  </a:lnTo>
                  <a:lnTo>
                    <a:pt x="9" y="232"/>
                  </a:lnTo>
                  <a:lnTo>
                    <a:pt x="12" y="235"/>
                  </a:lnTo>
                  <a:lnTo>
                    <a:pt x="14" y="239"/>
                  </a:lnTo>
                  <a:lnTo>
                    <a:pt x="17" y="242"/>
                  </a:lnTo>
                  <a:lnTo>
                    <a:pt x="20" y="245"/>
                  </a:lnTo>
                  <a:lnTo>
                    <a:pt x="24" y="247"/>
                  </a:lnTo>
                  <a:lnTo>
                    <a:pt x="28" y="249"/>
                  </a:lnTo>
                  <a:lnTo>
                    <a:pt x="32" y="251"/>
                  </a:lnTo>
                  <a:lnTo>
                    <a:pt x="37" y="253"/>
                  </a:lnTo>
                  <a:lnTo>
                    <a:pt x="41" y="255"/>
                  </a:lnTo>
                  <a:lnTo>
                    <a:pt x="46" y="256"/>
                  </a:lnTo>
                  <a:lnTo>
                    <a:pt x="51" y="256"/>
                  </a:lnTo>
                  <a:lnTo>
                    <a:pt x="57" y="256"/>
                  </a:lnTo>
                  <a:lnTo>
                    <a:pt x="954" y="256"/>
                  </a:lnTo>
                  <a:lnTo>
                    <a:pt x="960" y="256"/>
                  </a:lnTo>
                  <a:lnTo>
                    <a:pt x="965" y="256"/>
                  </a:lnTo>
                  <a:lnTo>
                    <a:pt x="970" y="255"/>
                  </a:lnTo>
                  <a:lnTo>
                    <a:pt x="975" y="253"/>
                  </a:lnTo>
                  <a:lnTo>
                    <a:pt x="979" y="252"/>
                  </a:lnTo>
                  <a:lnTo>
                    <a:pt x="983" y="250"/>
                  </a:lnTo>
                  <a:lnTo>
                    <a:pt x="987" y="247"/>
                  </a:lnTo>
                  <a:lnTo>
                    <a:pt x="991" y="245"/>
                  </a:lnTo>
                  <a:lnTo>
                    <a:pt x="994" y="242"/>
                  </a:lnTo>
                  <a:lnTo>
                    <a:pt x="997" y="239"/>
                  </a:lnTo>
                  <a:lnTo>
                    <a:pt x="1000" y="235"/>
                  </a:lnTo>
                  <a:lnTo>
                    <a:pt x="1002" y="232"/>
                  </a:lnTo>
                  <a:lnTo>
                    <a:pt x="1004" y="228"/>
                  </a:lnTo>
                  <a:lnTo>
                    <a:pt x="1005" y="224"/>
                  </a:lnTo>
                  <a:lnTo>
                    <a:pt x="1006" y="220"/>
                  </a:lnTo>
                  <a:lnTo>
                    <a:pt x="1006" y="216"/>
                  </a:lnTo>
                  <a:lnTo>
                    <a:pt x="1006" y="45"/>
                  </a:lnTo>
                  <a:lnTo>
                    <a:pt x="1006" y="41"/>
                  </a:lnTo>
                  <a:lnTo>
                    <a:pt x="1005" y="37"/>
                  </a:lnTo>
                  <a:lnTo>
                    <a:pt x="1004" y="33"/>
                  </a:lnTo>
                  <a:lnTo>
                    <a:pt x="1002" y="30"/>
                  </a:lnTo>
                  <a:lnTo>
                    <a:pt x="1000" y="26"/>
                  </a:lnTo>
                  <a:lnTo>
                    <a:pt x="997" y="23"/>
                  </a:lnTo>
                  <a:lnTo>
                    <a:pt x="994" y="20"/>
                  </a:lnTo>
                  <a:lnTo>
                    <a:pt x="991" y="17"/>
                  </a:lnTo>
                  <a:lnTo>
                    <a:pt x="987" y="14"/>
                  </a:lnTo>
                  <a:lnTo>
                    <a:pt x="984" y="12"/>
                  </a:lnTo>
                  <a:lnTo>
                    <a:pt x="979" y="10"/>
                  </a:lnTo>
                  <a:lnTo>
                    <a:pt x="975" y="8"/>
                  </a:lnTo>
                  <a:lnTo>
                    <a:pt x="970" y="7"/>
                  </a:lnTo>
                  <a:lnTo>
                    <a:pt x="965" y="5"/>
                  </a:lnTo>
                  <a:lnTo>
                    <a:pt x="960" y="5"/>
                  </a:lnTo>
                  <a:lnTo>
                    <a:pt x="955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3" y="9"/>
                  </a:lnTo>
                  <a:lnTo>
                    <a:pt x="28" y="11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5" y="45"/>
                  </a:lnTo>
                  <a:lnTo>
                    <a:pt x="5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Rectangle 23"/>
            <p:cNvSpPr/>
            <p:nvPr/>
          </p:nvSpPr>
          <p:spPr>
            <a:xfrm>
              <a:off x="6951960" y="4971240"/>
              <a:ext cx="52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ЕФМД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Rectangle 24"/>
            <p:cNvSpPr/>
            <p:nvPr/>
          </p:nvSpPr>
          <p:spPr>
            <a:xfrm>
              <a:off x="2081880" y="6210720"/>
              <a:ext cx="1676880" cy="28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Freeform 25"/>
            <p:cNvSpPr/>
            <p:nvPr/>
          </p:nvSpPr>
          <p:spPr>
            <a:xfrm>
              <a:off x="2079360" y="6208560"/>
              <a:ext cx="1682640" cy="28908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14" h="260">
                  <a:moveTo>
                    <a:pt x="0" y="0"/>
                  </a:moveTo>
                  <a:lnTo>
                    <a:pt x="1514" y="0"/>
                  </a:lnTo>
                  <a:lnTo>
                    <a:pt x="1514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5" y="258"/>
                  </a:moveTo>
                  <a:lnTo>
                    <a:pt x="2" y="256"/>
                  </a:lnTo>
                  <a:lnTo>
                    <a:pt x="1511" y="256"/>
                  </a:lnTo>
                  <a:lnTo>
                    <a:pt x="1508" y="258"/>
                  </a:lnTo>
                  <a:lnTo>
                    <a:pt x="1508" y="2"/>
                  </a:lnTo>
                  <a:lnTo>
                    <a:pt x="1511" y="4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Rectangle 26"/>
            <p:cNvSpPr/>
            <p:nvPr/>
          </p:nvSpPr>
          <p:spPr>
            <a:xfrm>
              <a:off x="2375280" y="6239880"/>
              <a:ext cx="102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ни власти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Rectangle 27"/>
            <p:cNvSpPr/>
            <p:nvPr/>
          </p:nvSpPr>
          <p:spPr>
            <a:xfrm>
              <a:off x="3758760" y="6210720"/>
              <a:ext cx="2124720" cy="28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Freeform 28"/>
            <p:cNvSpPr/>
            <p:nvPr/>
          </p:nvSpPr>
          <p:spPr>
            <a:xfrm>
              <a:off x="3755520" y="6208560"/>
              <a:ext cx="2130480" cy="289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917" h="260">
                  <a:moveTo>
                    <a:pt x="0" y="0"/>
                  </a:moveTo>
                  <a:lnTo>
                    <a:pt x="1917" y="0"/>
                  </a:lnTo>
                  <a:lnTo>
                    <a:pt x="1917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6" y="258"/>
                  </a:moveTo>
                  <a:lnTo>
                    <a:pt x="3" y="256"/>
                  </a:lnTo>
                  <a:lnTo>
                    <a:pt x="1915" y="256"/>
                  </a:lnTo>
                  <a:lnTo>
                    <a:pt x="1912" y="258"/>
                  </a:lnTo>
                  <a:lnTo>
                    <a:pt x="1912" y="2"/>
                  </a:lnTo>
                  <a:lnTo>
                    <a:pt x="1915" y="4"/>
                  </a:lnTo>
                  <a:lnTo>
                    <a:pt x="3" y="4"/>
                  </a:lnTo>
                  <a:lnTo>
                    <a:pt x="6" y="2"/>
                  </a:lnTo>
                  <a:lnTo>
                    <a:pt x="6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Rectangle 29"/>
            <p:cNvSpPr/>
            <p:nvPr/>
          </p:nvSpPr>
          <p:spPr>
            <a:xfrm>
              <a:off x="4247640" y="6239880"/>
              <a:ext cx="1015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ен бизнес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Rectangle 30"/>
            <p:cNvSpPr/>
            <p:nvPr/>
          </p:nvSpPr>
          <p:spPr>
            <a:xfrm>
              <a:off x="5883840" y="6210720"/>
              <a:ext cx="2609280" cy="28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Freeform 31"/>
            <p:cNvSpPr/>
            <p:nvPr/>
          </p:nvSpPr>
          <p:spPr>
            <a:xfrm>
              <a:off x="5880240" y="6208560"/>
              <a:ext cx="2612520" cy="289080"/>
            </a:xfrm>
            <a:custGeom>
              <a:avLst/>
              <a:gdLst>
                <a:gd name="textAreaLeft" fmla="*/ 0 w 2612520"/>
                <a:gd name="textAreaRight" fmla="*/ 2612880 w 26125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15" h="260">
                  <a:moveTo>
                    <a:pt x="0" y="0"/>
                  </a:moveTo>
                  <a:lnTo>
                    <a:pt x="1615" y="0"/>
                  </a:lnTo>
                  <a:lnTo>
                    <a:pt x="1615" y="260"/>
                  </a:lnTo>
                  <a:lnTo>
                    <a:pt x="0" y="260"/>
                  </a:lnTo>
                  <a:lnTo>
                    <a:pt x="0" y="0"/>
                  </a:lnTo>
                  <a:close/>
                  <a:moveTo>
                    <a:pt x="5" y="258"/>
                  </a:moveTo>
                  <a:lnTo>
                    <a:pt x="3" y="256"/>
                  </a:lnTo>
                  <a:lnTo>
                    <a:pt x="1613" y="256"/>
                  </a:lnTo>
                  <a:lnTo>
                    <a:pt x="1610" y="258"/>
                  </a:lnTo>
                  <a:lnTo>
                    <a:pt x="1610" y="2"/>
                  </a:lnTo>
                  <a:lnTo>
                    <a:pt x="161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Rectangle 32"/>
            <p:cNvSpPr/>
            <p:nvPr/>
          </p:nvSpPr>
          <p:spPr>
            <a:xfrm>
              <a:off x="5893920" y="6268320"/>
              <a:ext cx="2548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местни НПО и гражданско общество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Oval 33"/>
            <p:cNvSpPr/>
            <p:nvPr/>
          </p:nvSpPr>
          <p:spPr>
            <a:xfrm>
              <a:off x="3312000" y="4572360"/>
              <a:ext cx="3019320" cy="426960"/>
            </a:xfrm>
            <a:prstGeom prst="ellipse">
              <a:avLst/>
            </a:prstGeom>
            <a:solidFill>
              <a:srgbClr val="99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Freeform 34"/>
            <p:cNvSpPr/>
            <p:nvPr/>
          </p:nvSpPr>
          <p:spPr>
            <a:xfrm>
              <a:off x="3308400" y="4570200"/>
              <a:ext cx="3026160" cy="432360"/>
            </a:xfrm>
            <a:custGeom>
              <a:avLst/>
              <a:gdLst>
                <a:gd name="textAreaLeft" fmla="*/ 0 w 3026160"/>
                <a:gd name="textAreaRight" fmla="*/ 3026520 w 30261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1809" h="2136">
                  <a:moveTo>
                    <a:pt x="1" y="1070"/>
                  </a:moveTo>
                  <a:cubicBezTo>
                    <a:pt x="0" y="1069"/>
                    <a:pt x="0" y="1068"/>
                    <a:pt x="1" y="1067"/>
                  </a:cubicBezTo>
                  <a:lnTo>
                    <a:pt x="8" y="1013"/>
                  </a:lnTo>
                  <a:cubicBezTo>
                    <a:pt x="8" y="1011"/>
                    <a:pt x="9" y="1010"/>
                    <a:pt x="9" y="1010"/>
                  </a:cubicBezTo>
                  <a:lnTo>
                    <a:pt x="32" y="956"/>
                  </a:lnTo>
                  <a:cubicBezTo>
                    <a:pt x="32" y="955"/>
                    <a:pt x="33" y="954"/>
                    <a:pt x="33" y="954"/>
                  </a:cubicBezTo>
                  <a:lnTo>
                    <a:pt x="71" y="901"/>
                  </a:lnTo>
                  <a:cubicBezTo>
                    <a:pt x="71" y="900"/>
                    <a:pt x="71" y="900"/>
                    <a:pt x="72" y="899"/>
                  </a:cubicBezTo>
                  <a:lnTo>
                    <a:pt x="124" y="847"/>
                  </a:lnTo>
                  <a:lnTo>
                    <a:pt x="191" y="795"/>
                  </a:lnTo>
                  <a:lnTo>
                    <a:pt x="271" y="744"/>
                  </a:lnTo>
                  <a:lnTo>
                    <a:pt x="364" y="695"/>
                  </a:lnTo>
                  <a:lnTo>
                    <a:pt x="470" y="647"/>
                  </a:lnTo>
                  <a:lnTo>
                    <a:pt x="589" y="600"/>
                  </a:lnTo>
                  <a:lnTo>
                    <a:pt x="720" y="554"/>
                  </a:lnTo>
                  <a:lnTo>
                    <a:pt x="862" y="510"/>
                  </a:lnTo>
                  <a:lnTo>
                    <a:pt x="1015" y="467"/>
                  </a:lnTo>
                  <a:lnTo>
                    <a:pt x="1180" y="425"/>
                  </a:lnTo>
                  <a:lnTo>
                    <a:pt x="1355" y="385"/>
                  </a:lnTo>
                  <a:lnTo>
                    <a:pt x="1541" y="347"/>
                  </a:lnTo>
                  <a:lnTo>
                    <a:pt x="1736" y="310"/>
                  </a:lnTo>
                  <a:lnTo>
                    <a:pt x="1941" y="275"/>
                  </a:lnTo>
                  <a:lnTo>
                    <a:pt x="2155" y="242"/>
                  </a:lnTo>
                  <a:lnTo>
                    <a:pt x="2378" y="210"/>
                  </a:lnTo>
                  <a:lnTo>
                    <a:pt x="2609" y="181"/>
                  </a:lnTo>
                  <a:lnTo>
                    <a:pt x="2848" y="154"/>
                  </a:lnTo>
                  <a:lnTo>
                    <a:pt x="3095" y="128"/>
                  </a:lnTo>
                  <a:lnTo>
                    <a:pt x="3349" y="105"/>
                  </a:lnTo>
                  <a:lnTo>
                    <a:pt x="3610" y="84"/>
                  </a:lnTo>
                  <a:lnTo>
                    <a:pt x="3878" y="64"/>
                  </a:lnTo>
                  <a:lnTo>
                    <a:pt x="4152" y="48"/>
                  </a:lnTo>
                  <a:lnTo>
                    <a:pt x="4431" y="34"/>
                  </a:lnTo>
                  <a:lnTo>
                    <a:pt x="4716" y="22"/>
                  </a:lnTo>
                  <a:lnTo>
                    <a:pt x="5007" y="13"/>
                  </a:lnTo>
                  <a:lnTo>
                    <a:pt x="5302" y="6"/>
                  </a:lnTo>
                  <a:lnTo>
                    <a:pt x="5601" y="2"/>
                  </a:lnTo>
                  <a:lnTo>
                    <a:pt x="5904" y="0"/>
                  </a:lnTo>
                  <a:lnTo>
                    <a:pt x="6208" y="2"/>
                  </a:lnTo>
                  <a:lnTo>
                    <a:pt x="6507" y="6"/>
                  </a:lnTo>
                  <a:lnTo>
                    <a:pt x="6802" y="13"/>
                  </a:lnTo>
                  <a:lnTo>
                    <a:pt x="7092" y="22"/>
                  </a:lnTo>
                  <a:lnTo>
                    <a:pt x="7377" y="34"/>
                  </a:lnTo>
                  <a:lnTo>
                    <a:pt x="7657" y="48"/>
                  </a:lnTo>
                  <a:lnTo>
                    <a:pt x="7931" y="64"/>
                  </a:lnTo>
                  <a:lnTo>
                    <a:pt x="8199" y="83"/>
                  </a:lnTo>
                  <a:lnTo>
                    <a:pt x="8460" y="105"/>
                  </a:lnTo>
                  <a:lnTo>
                    <a:pt x="8714" y="128"/>
                  </a:lnTo>
                  <a:lnTo>
                    <a:pt x="8961" y="154"/>
                  </a:lnTo>
                  <a:lnTo>
                    <a:pt x="9200" y="181"/>
                  </a:lnTo>
                  <a:lnTo>
                    <a:pt x="9431" y="210"/>
                  </a:lnTo>
                  <a:lnTo>
                    <a:pt x="9654" y="242"/>
                  </a:lnTo>
                  <a:lnTo>
                    <a:pt x="9868" y="275"/>
                  </a:lnTo>
                  <a:lnTo>
                    <a:pt x="10073" y="310"/>
                  </a:lnTo>
                  <a:lnTo>
                    <a:pt x="10268" y="347"/>
                  </a:lnTo>
                  <a:lnTo>
                    <a:pt x="10453" y="385"/>
                  </a:lnTo>
                  <a:lnTo>
                    <a:pt x="10629" y="425"/>
                  </a:lnTo>
                  <a:lnTo>
                    <a:pt x="10793" y="467"/>
                  </a:lnTo>
                  <a:lnTo>
                    <a:pt x="10947" y="509"/>
                  </a:lnTo>
                  <a:lnTo>
                    <a:pt x="11089" y="554"/>
                  </a:lnTo>
                  <a:lnTo>
                    <a:pt x="11219" y="599"/>
                  </a:lnTo>
                  <a:lnTo>
                    <a:pt x="11338" y="646"/>
                  </a:lnTo>
                  <a:lnTo>
                    <a:pt x="11444" y="695"/>
                  </a:lnTo>
                  <a:lnTo>
                    <a:pt x="11537" y="744"/>
                  </a:lnTo>
                  <a:lnTo>
                    <a:pt x="11617" y="795"/>
                  </a:lnTo>
                  <a:lnTo>
                    <a:pt x="11684" y="846"/>
                  </a:lnTo>
                  <a:lnTo>
                    <a:pt x="11737" y="899"/>
                  </a:lnTo>
                  <a:cubicBezTo>
                    <a:pt x="11737" y="900"/>
                    <a:pt x="11738" y="900"/>
                    <a:pt x="11738" y="901"/>
                  </a:cubicBezTo>
                  <a:lnTo>
                    <a:pt x="11776" y="954"/>
                  </a:lnTo>
                  <a:cubicBezTo>
                    <a:pt x="11776" y="954"/>
                    <a:pt x="11777" y="955"/>
                    <a:pt x="11777" y="956"/>
                  </a:cubicBezTo>
                  <a:lnTo>
                    <a:pt x="11800" y="1010"/>
                  </a:lnTo>
                  <a:cubicBezTo>
                    <a:pt x="11800" y="1010"/>
                    <a:pt x="11800" y="1011"/>
                    <a:pt x="11801" y="1013"/>
                  </a:cubicBezTo>
                  <a:lnTo>
                    <a:pt x="11808" y="1067"/>
                  </a:lnTo>
                  <a:cubicBezTo>
                    <a:pt x="11809" y="1068"/>
                    <a:pt x="11809" y="1069"/>
                    <a:pt x="11808" y="1070"/>
                  </a:cubicBezTo>
                  <a:lnTo>
                    <a:pt x="11801" y="1124"/>
                  </a:lnTo>
                  <a:cubicBezTo>
                    <a:pt x="11800" y="1125"/>
                    <a:pt x="11800" y="1126"/>
                    <a:pt x="11800" y="1127"/>
                  </a:cubicBezTo>
                  <a:lnTo>
                    <a:pt x="11777" y="1181"/>
                  </a:lnTo>
                  <a:cubicBezTo>
                    <a:pt x="11777" y="1182"/>
                    <a:pt x="11776" y="1183"/>
                    <a:pt x="11776" y="1183"/>
                  </a:cubicBezTo>
                  <a:lnTo>
                    <a:pt x="11738" y="1236"/>
                  </a:lnTo>
                  <a:cubicBezTo>
                    <a:pt x="11738" y="1237"/>
                    <a:pt x="11737" y="1237"/>
                    <a:pt x="11737" y="1238"/>
                  </a:cubicBezTo>
                  <a:lnTo>
                    <a:pt x="11685" y="1290"/>
                  </a:lnTo>
                  <a:lnTo>
                    <a:pt x="11618" y="1342"/>
                  </a:lnTo>
                  <a:lnTo>
                    <a:pt x="11538" y="1393"/>
                  </a:lnTo>
                  <a:lnTo>
                    <a:pt x="11445" y="1442"/>
                  </a:lnTo>
                  <a:lnTo>
                    <a:pt x="11338" y="1490"/>
                  </a:lnTo>
                  <a:lnTo>
                    <a:pt x="11220" y="1537"/>
                  </a:lnTo>
                  <a:lnTo>
                    <a:pt x="11089" y="1583"/>
                  </a:lnTo>
                  <a:lnTo>
                    <a:pt x="10947" y="1627"/>
                  </a:lnTo>
                  <a:lnTo>
                    <a:pt x="10793" y="1671"/>
                  </a:lnTo>
                  <a:lnTo>
                    <a:pt x="10629" y="1712"/>
                  </a:lnTo>
                  <a:lnTo>
                    <a:pt x="10454" y="1752"/>
                  </a:lnTo>
                  <a:lnTo>
                    <a:pt x="10268" y="1790"/>
                  </a:lnTo>
                  <a:lnTo>
                    <a:pt x="10073" y="1827"/>
                  </a:lnTo>
                  <a:lnTo>
                    <a:pt x="9868" y="1862"/>
                  </a:lnTo>
                  <a:lnTo>
                    <a:pt x="9654" y="1895"/>
                  </a:lnTo>
                  <a:lnTo>
                    <a:pt x="9431" y="1927"/>
                  </a:lnTo>
                  <a:lnTo>
                    <a:pt x="9200" y="1956"/>
                  </a:lnTo>
                  <a:lnTo>
                    <a:pt x="8961" y="1984"/>
                  </a:lnTo>
                  <a:lnTo>
                    <a:pt x="8714" y="2009"/>
                  </a:lnTo>
                  <a:lnTo>
                    <a:pt x="8460" y="2032"/>
                  </a:lnTo>
                  <a:lnTo>
                    <a:pt x="8199" y="2053"/>
                  </a:lnTo>
                  <a:lnTo>
                    <a:pt x="7931" y="2072"/>
                  </a:lnTo>
                  <a:lnTo>
                    <a:pt x="7657" y="2089"/>
                  </a:lnTo>
                  <a:lnTo>
                    <a:pt x="7378" y="2103"/>
                  </a:lnTo>
                  <a:lnTo>
                    <a:pt x="7092" y="2115"/>
                  </a:lnTo>
                  <a:lnTo>
                    <a:pt x="6802" y="2124"/>
                  </a:lnTo>
                  <a:lnTo>
                    <a:pt x="6507" y="2131"/>
                  </a:lnTo>
                  <a:lnTo>
                    <a:pt x="6208" y="2135"/>
                  </a:lnTo>
                  <a:lnTo>
                    <a:pt x="5905" y="2136"/>
                  </a:lnTo>
                  <a:lnTo>
                    <a:pt x="5601" y="2135"/>
                  </a:lnTo>
                  <a:lnTo>
                    <a:pt x="5302" y="2131"/>
                  </a:lnTo>
                  <a:lnTo>
                    <a:pt x="5007" y="2124"/>
                  </a:lnTo>
                  <a:lnTo>
                    <a:pt x="4717" y="2115"/>
                  </a:lnTo>
                  <a:lnTo>
                    <a:pt x="4431" y="2103"/>
                  </a:lnTo>
                  <a:lnTo>
                    <a:pt x="4152" y="2089"/>
                  </a:lnTo>
                  <a:lnTo>
                    <a:pt x="3878" y="2072"/>
                  </a:lnTo>
                  <a:lnTo>
                    <a:pt x="3610" y="2053"/>
                  </a:lnTo>
                  <a:lnTo>
                    <a:pt x="3349" y="2032"/>
                  </a:lnTo>
                  <a:lnTo>
                    <a:pt x="3095" y="2009"/>
                  </a:lnTo>
                  <a:lnTo>
                    <a:pt x="2848" y="1984"/>
                  </a:lnTo>
                  <a:lnTo>
                    <a:pt x="2609" y="1956"/>
                  </a:lnTo>
                  <a:lnTo>
                    <a:pt x="2378" y="1927"/>
                  </a:lnTo>
                  <a:lnTo>
                    <a:pt x="2155" y="1895"/>
                  </a:lnTo>
                  <a:lnTo>
                    <a:pt x="1941" y="1862"/>
                  </a:lnTo>
                  <a:lnTo>
                    <a:pt x="1736" y="1827"/>
                  </a:lnTo>
                  <a:lnTo>
                    <a:pt x="1541" y="1790"/>
                  </a:lnTo>
                  <a:lnTo>
                    <a:pt x="1356" y="1752"/>
                  </a:lnTo>
                  <a:lnTo>
                    <a:pt x="1180" y="1712"/>
                  </a:lnTo>
                  <a:lnTo>
                    <a:pt x="1016" y="1671"/>
                  </a:lnTo>
                  <a:lnTo>
                    <a:pt x="862" y="1628"/>
                  </a:lnTo>
                  <a:lnTo>
                    <a:pt x="720" y="1583"/>
                  </a:lnTo>
                  <a:lnTo>
                    <a:pt x="590" y="1538"/>
                  </a:lnTo>
                  <a:lnTo>
                    <a:pt x="471" y="1491"/>
                  </a:lnTo>
                  <a:lnTo>
                    <a:pt x="365" y="1442"/>
                  </a:lnTo>
                  <a:lnTo>
                    <a:pt x="272" y="1393"/>
                  </a:lnTo>
                  <a:lnTo>
                    <a:pt x="192" y="1343"/>
                  </a:lnTo>
                  <a:lnTo>
                    <a:pt x="125" y="1291"/>
                  </a:lnTo>
                  <a:lnTo>
                    <a:pt x="72" y="1238"/>
                  </a:lnTo>
                  <a:cubicBezTo>
                    <a:pt x="71" y="1237"/>
                    <a:pt x="71" y="1237"/>
                    <a:pt x="71" y="1236"/>
                  </a:cubicBezTo>
                  <a:lnTo>
                    <a:pt x="33" y="1183"/>
                  </a:lnTo>
                  <a:cubicBezTo>
                    <a:pt x="33" y="1183"/>
                    <a:pt x="32" y="1182"/>
                    <a:pt x="32" y="1181"/>
                  </a:cubicBezTo>
                  <a:lnTo>
                    <a:pt x="9" y="1127"/>
                  </a:lnTo>
                  <a:cubicBezTo>
                    <a:pt x="9" y="1126"/>
                    <a:pt x="8" y="1125"/>
                    <a:pt x="8" y="1124"/>
                  </a:cubicBezTo>
                  <a:lnTo>
                    <a:pt x="1" y="1070"/>
                  </a:lnTo>
                  <a:close/>
                  <a:moveTo>
                    <a:pt x="32" y="1121"/>
                  </a:moveTo>
                  <a:lnTo>
                    <a:pt x="31" y="1118"/>
                  </a:lnTo>
                  <a:lnTo>
                    <a:pt x="54" y="1172"/>
                  </a:lnTo>
                  <a:lnTo>
                    <a:pt x="53" y="1170"/>
                  </a:lnTo>
                  <a:lnTo>
                    <a:pt x="90" y="1222"/>
                  </a:lnTo>
                  <a:lnTo>
                    <a:pt x="89" y="1221"/>
                  </a:lnTo>
                  <a:lnTo>
                    <a:pt x="140" y="1272"/>
                  </a:lnTo>
                  <a:lnTo>
                    <a:pt x="204" y="1322"/>
                  </a:lnTo>
                  <a:lnTo>
                    <a:pt x="283" y="1372"/>
                  </a:lnTo>
                  <a:lnTo>
                    <a:pt x="375" y="1421"/>
                  </a:lnTo>
                  <a:lnTo>
                    <a:pt x="480" y="1468"/>
                  </a:lnTo>
                  <a:lnTo>
                    <a:pt x="597" y="1515"/>
                  </a:lnTo>
                  <a:lnTo>
                    <a:pt x="727" y="1560"/>
                  </a:lnTo>
                  <a:lnTo>
                    <a:pt x="869" y="1604"/>
                  </a:lnTo>
                  <a:lnTo>
                    <a:pt x="1022" y="1647"/>
                  </a:lnTo>
                  <a:lnTo>
                    <a:pt x="1186" y="1689"/>
                  </a:lnTo>
                  <a:lnTo>
                    <a:pt x="1360" y="1728"/>
                  </a:lnTo>
                  <a:lnTo>
                    <a:pt x="1545" y="1767"/>
                  </a:lnTo>
                  <a:lnTo>
                    <a:pt x="1740" y="1803"/>
                  </a:lnTo>
                  <a:lnTo>
                    <a:pt x="1945" y="1838"/>
                  </a:lnTo>
                  <a:lnTo>
                    <a:pt x="2158" y="1871"/>
                  </a:lnTo>
                  <a:lnTo>
                    <a:pt x="2381" y="1903"/>
                  </a:lnTo>
                  <a:lnTo>
                    <a:pt x="2612" y="1932"/>
                  </a:lnTo>
                  <a:lnTo>
                    <a:pt x="2850" y="1960"/>
                  </a:lnTo>
                  <a:lnTo>
                    <a:pt x="3097" y="1985"/>
                  </a:lnTo>
                  <a:lnTo>
                    <a:pt x="3351" y="2008"/>
                  </a:lnTo>
                  <a:lnTo>
                    <a:pt x="3612" y="2029"/>
                  </a:lnTo>
                  <a:lnTo>
                    <a:pt x="3879" y="2048"/>
                  </a:lnTo>
                  <a:lnTo>
                    <a:pt x="4153" y="2065"/>
                  </a:lnTo>
                  <a:lnTo>
                    <a:pt x="4432" y="2079"/>
                  </a:lnTo>
                  <a:lnTo>
                    <a:pt x="4717" y="2091"/>
                  </a:lnTo>
                  <a:lnTo>
                    <a:pt x="5007" y="2100"/>
                  </a:lnTo>
                  <a:lnTo>
                    <a:pt x="5302" y="2107"/>
                  </a:lnTo>
                  <a:lnTo>
                    <a:pt x="5601" y="2111"/>
                  </a:lnTo>
                  <a:lnTo>
                    <a:pt x="5904" y="2112"/>
                  </a:lnTo>
                  <a:lnTo>
                    <a:pt x="6208" y="2111"/>
                  </a:lnTo>
                  <a:lnTo>
                    <a:pt x="6507" y="2107"/>
                  </a:lnTo>
                  <a:lnTo>
                    <a:pt x="6801" y="2100"/>
                  </a:lnTo>
                  <a:lnTo>
                    <a:pt x="7091" y="2091"/>
                  </a:lnTo>
                  <a:lnTo>
                    <a:pt x="7376" y="2079"/>
                  </a:lnTo>
                  <a:lnTo>
                    <a:pt x="7656" y="2065"/>
                  </a:lnTo>
                  <a:lnTo>
                    <a:pt x="7930" y="2048"/>
                  </a:lnTo>
                  <a:lnTo>
                    <a:pt x="8197" y="2030"/>
                  </a:lnTo>
                  <a:lnTo>
                    <a:pt x="8458" y="2008"/>
                  </a:lnTo>
                  <a:lnTo>
                    <a:pt x="8712" y="1985"/>
                  </a:lnTo>
                  <a:lnTo>
                    <a:pt x="8958" y="1960"/>
                  </a:lnTo>
                  <a:lnTo>
                    <a:pt x="9197" y="1932"/>
                  </a:lnTo>
                  <a:lnTo>
                    <a:pt x="9428" y="1903"/>
                  </a:lnTo>
                  <a:lnTo>
                    <a:pt x="9651" y="1871"/>
                  </a:lnTo>
                  <a:lnTo>
                    <a:pt x="9864" y="1838"/>
                  </a:lnTo>
                  <a:lnTo>
                    <a:pt x="10068" y="1803"/>
                  </a:lnTo>
                  <a:lnTo>
                    <a:pt x="10264" y="1767"/>
                  </a:lnTo>
                  <a:lnTo>
                    <a:pt x="10448" y="1729"/>
                  </a:lnTo>
                  <a:lnTo>
                    <a:pt x="10623" y="1689"/>
                  </a:lnTo>
                  <a:lnTo>
                    <a:pt x="10787" y="1647"/>
                  </a:lnTo>
                  <a:lnTo>
                    <a:pt x="10940" y="1605"/>
                  </a:lnTo>
                  <a:lnTo>
                    <a:pt x="11082" y="1560"/>
                  </a:lnTo>
                  <a:lnTo>
                    <a:pt x="11211" y="1515"/>
                  </a:lnTo>
                  <a:lnTo>
                    <a:pt x="11328" y="1469"/>
                  </a:lnTo>
                  <a:lnTo>
                    <a:pt x="11433" y="1421"/>
                  </a:lnTo>
                  <a:lnTo>
                    <a:pt x="11525" y="1372"/>
                  </a:lnTo>
                  <a:lnTo>
                    <a:pt x="11604" y="1323"/>
                  </a:lnTo>
                  <a:lnTo>
                    <a:pt x="11668" y="1273"/>
                  </a:lnTo>
                  <a:lnTo>
                    <a:pt x="11720" y="1221"/>
                  </a:lnTo>
                  <a:lnTo>
                    <a:pt x="11719" y="1222"/>
                  </a:lnTo>
                  <a:lnTo>
                    <a:pt x="11756" y="1170"/>
                  </a:lnTo>
                  <a:lnTo>
                    <a:pt x="11755" y="1172"/>
                  </a:lnTo>
                  <a:lnTo>
                    <a:pt x="11778" y="1118"/>
                  </a:lnTo>
                  <a:lnTo>
                    <a:pt x="11777" y="1121"/>
                  </a:lnTo>
                  <a:lnTo>
                    <a:pt x="11785" y="1067"/>
                  </a:lnTo>
                  <a:lnTo>
                    <a:pt x="11785" y="1070"/>
                  </a:lnTo>
                  <a:lnTo>
                    <a:pt x="11777" y="1016"/>
                  </a:lnTo>
                  <a:lnTo>
                    <a:pt x="11778" y="1019"/>
                  </a:lnTo>
                  <a:lnTo>
                    <a:pt x="11755" y="965"/>
                  </a:lnTo>
                  <a:lnTo>
                    <a:pt x="11756" y="967"/>
                  </a:lnTo>
                  <a:lnTo>
                    <a:pt x="11719" y="915"/>
                  </a:lnTo>
                  <a:lnTo>
                    <a:pt x="11720" y="916"/>
                  </a:lnTo>
                  <a:lnTo>
                    <a:pt x="11669" y="865"/>
                  </a:lnTo>
                  <a:lnTo>
                    <a:pt x="11605" y="815"/>
                  </a:lnTo>
                  <a:lnTo>
                    <a:pt x="11526" y="765"/>
                  </a:lnTo>
                  <a:lnTo>
                    <a:pt x="11434" y="716"/>
                  </a:lnTo>
                  <a:lnTo>
                    <a:pt x="11329" y="669"/>
                  </a:lnTo>
                  <a:lnTo>
                    <a:pt x="11212" y="622"/>
                  </a:lnTo>
                  <a:lnTo>
                    <a:pt x="11082" y="577"/>
                  </a:lnTo>
                  <a:lnTo>
                    <a:pt x="10940" y="533"/>
                  </a:lnTo>
                  <a:lnTo>
                    <a:pt x="10787" y="490"/>
                  </a:lnTo>
                  <a:lnTo>
                    <a:pt x="10623" y="448"/>
                  </a:lnTo>
                  <a:lnTo>
                    <a:pt x="10449" y="408"/>
                  </a:lnTo>
                  <a:lnTo>
                    <a:pt x="10264" y="370"/>
                  </a:lnTo>
                  <a:lnTo>
                    <a:pt x="10069" y="334"/>
                  </a:lnTo>
                  <a:lnTo>
                    <a:pt x="9864" y="299"/>
                  </a:lnTo>
                  <a:lnTo>
                    <a:pt x="9651" y="266"/>
                  </a:lnTo>
                  <a:lnTo>
                    <a:pt x="9428" y="234"/>
                  </a:lnTo>
                  <a:lnTo>
                    <a:pt x="9197" y="205"/>
                  </a:lnTo>
                  <a:lnTo>
                    <a:pt x="8958" y="177"/>
                  </a:lnTo>
                  <a:lnTo>
                    <a:pt x="8712" y="152"/>
                  </a:lnTo>
                  <a:lnTo>
                    <a:pt x="8458" y="129"/>
                  </a:lnTo>
                  <a:lnTo>
                    <a:pt x="8197" y="107"/>
                  </a:lnTo>
                  <a:lnTo>
                    <a:pt x="7930" y="88"/>
                  </a:lnTo>
                  <a:lnTo>
                    <a:pt x="7656" y="72"/>
                  </a:lnTo>
                  <a:lnTo>
                    <a:pt x="7376" y="58"/>
                  </a:lnTo>
                  <a:lnTo>
                    <a:pt x="7092" y="46"/>
                  </a:lnTo>
                  <a:lnTo>
                    <a:pt x="6801" y="37"/>
                  </a:lnTo>
                  <a:lnTo>
                    <a:pt x="6507" y="30"/>
                  </a:lnTo>
                  <a:lnTo>
                    <a:pt x="6208" y="26"/>
                  </a:lnTo>
                  <a:lnTo>
                    <a:pt x="5905" y="24"/>
                  </a:lnTo>
                  <a:lnTo>
                    <a:pt x="5601" y="26"/>
                  </a:lnTo>
                  <a:lnTo>
                    <a:pt x="5302" y="30"/>
                  </a:lnTo>
                  <a:lnTo>
                    <a:pt x="5008" y="37"/>
                  </a:lnTo>
                  <a:lnTo>
                    <a:pt x="4717" y="46"/>
                  </a:lnTo>
                  <a:lnTo>
                    <a:pt x="4433" y="58"/>
                  </a:lnTo>
                  <a:lnTo>
                    <a:pt x="4153" y="72"/>
                  </a:lnTo>
                  <a:lnTo>
                    <a:pt x="3880" y="88"/>
                  </a:lnTo>
                  <a:lnTo>
                    <a:pt x="3612" y="107"/>
                  </a:lnTo>
                  <a:lnTo>
                    <a:pt x="3351" y="129"/>
                  </a:lnTo>
                  <a:lnTo>
                    <a:pt x="3097" y="152"/>
                  </a:lnTo>
                  <a:lnTo>
                    <a:pt x="2851" y="177"/>
                  </a:lnTo>
                  <a:lnTo>
                    <a:pt x="2612" y="205"/>
                  </a:lnTo>
                  <a:lnTo>
                    <a:pt x="2381" y="234"/>
                  </a:lnTo>
                  <a:lnTo>
                    <a:pt x="2159" y="266"/>
                  </a:lnTo>
                  <a:lnTo>
                    <a:pt x="1945" y="299"/>
                  </a:lnTo>
                  <a:lnTo>
                    <a:pt x="1740" y="334"/>
                  </a:lnTo>
                  <a:lnTo>
                    <a:pt x="1546" y="370"/>
                  </a:lnTo>
                  <a:lnTo>
                    <a:pt x="1361" y="408"/>
                  </a:lnTo>
                  <a:lnTo>
                    <a:pt x="1186" y="448"/>
                  </a:lnTo>
                  <a:lnTo>
                    <a:pt x="1022" y="490"/>
                  </a:lnTo>
                  <a:lnTo>
                    <a:pt x="869" y="532"/>
                  </a:lnTo>
                  <a:lnTo>
                    <a:pt x="728" y="577"/>
                  </a:lnTo>
                  <a:lnTo>
                    <a:pt x="598" y="622"/>
                  </a:lnTo>
                  <a:lnTo>
                    <a:pt x="480" y="668"/>
                  </a:lnTo>
                  <a:lnTo>
                    <a:pt x="376" y="716"/>
                  </a:lnTo>
                  <a:lnTo>
                    <a:pt x="284" y="765"/>
                  </a:lnTo>
                  <a:lnTo>
                    <a:pt x="205" y="814"/>
                  </a:lnTo>
                  <a:lnTo>
                    <a:pt x="141" y="864"/>
                  </a:lnTo>
                  <a:lnTo>
                    <a:pt x="89" y="916"/>
                  </a:lnTo>
                  <a:lnTo>
                    <a:pt x="90" y="915"/>
                  </a:lnTo>
                  <a:lnTo>
                    <a:pt x="53" y="967"/>
                  </a:lnTo>
                  <a:lnTo>
                    <a:pt x="54" y="965"/>
                  </a:lnTo>
                  <a:lnTo>
                    <a:pt x="31" y="1019"/>
                  </a:lnTo>
                  <a:lnTo>
                    <a:pt x="32" y="1016"/>
                  </a:lnTo>
                  <a:lnTo>
                    <a:pt x="24" y="1070"/>
                  </a:lnTo>
                  <a:lnTo>
                    <a:pt x="24" y="1067"/>
                  </a:lnTo>
                  <a:lnTo>
                    <a:pt x="32" y="11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Rectangle 35"/>
            <p:cNvSpPr/>
            <p:nvPr/>
          </p:nvSpPr>
          <p:spPr>
            <a:xfrm>
              <a:off x="3619440" y="4701240"/>
              <a:ext cx="25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СТРАТЕГИЯ ЗА МЕСТНО РАЗВИТИЕ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Freeform 37"/>
            <p:cNvSpPr/>
            <p:nvPr/>
          </p:nvSpPr>
          <p:spPr>
            <a:xfrm>
              <a:off x="2920680" y="6137280"/>
              <a:ext cx="1900440" cy="75600"/>
            </a:xfrm>
            <a:custGeom>
              <a:avLst/>
              <a:gdLst>
                <a:gd name="textAreaLeft" fmla="*/ 0 w 1900440"/>
                <a:gd name="textAreaRight" fmla="*/ 1900800 w 1900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710" h="68">
                  <a:moveTo>
                    <a:pt x="0" y="68"/>
                  </a:moveTo>
                  <a:lnTo>
                    <a:pt x="1710" y="4"/>
                  </a:lnTo>
                  <a:lnTo>
                    <a:pt x="1710" y="0"/>
                  </a:lnTo>
                  <a:lnTo>
                    <a:pt x="0" y="6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Freeform 38"/>
            <p:cNvSpPr/>
            <p:nvPr/>
          </p:nvSpPr>
          <p:spPr>
            <a:xfrm>
              <a:off x="4796640" y="6139800"/>
              <a:ext cx="51120" cy="709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46" h="64">
                  <a:moveTo>
                    <a:pt x="25" y="64"/>
                  </a:moveTo>
                  <a:lnTo>
                    <a:pt x="25" y="30"/>
                  </a:lnTo>
                  <a:lnTo>
                    <a:pt x="20" y="30"/>
                  </a:lnTo>
                  <a:lnTo>
                    <a:pt x="19" y="64"/>
                  </a:lnTo>
                  <a:lnTo>
                    <a:pt x="25" y="64"/>
                  </a:lnTo>
                  <a:close/>
                  <a:moveTo>
                    <a:pt x="46" y="36"/>
                  </a:moveTo>
                  <a:lnTo>
                    <a:pt x="23" y="0"/>
                  </a:lnTo>
                  <a:lnTo>
                    <a:pt x="0" y="36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Freeform 39"/>
            <p:cNvSpPr/>
            <p:nvPr/>
          </p:nvSpPr>
          <p:spPr>
            <a:xfrm>
              <a:off x="4821120" y="6121800"/>
              <a:ext cx="1956960" cy="9108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761" h="82">
                  <a:moveTo>
                    <a:pt x="1761" y="82"/>
                  </a:moveTo>
                  <a:lnTo>
                    <a:pt x="38" y="20"/>
                  </a:lnTo>
                  <a:lnTo>
                    <a:pt x="39" y="15"/>
                  </a:lnTo>
                  <a:lnTo>
                    <a:pt x="1761" y="78"/>
                  </a:lnTo>
                  <a:lnTo>
                    <a:pt x="1761" y="82"/>
                  </a:lnTo>
                  <a:close/>
                  <a:moveTo>
                    <a:pt x="45" y="36"/>
                  </a:moveTo>
                  <a:lnTo>
                    <a:pt x="0" y="16"/>
                  </a:lnTo>
                  <a:lnTo>
                    <a:pt x="47" y="0"/>
                  </a:lnTo>
                  <a:lnTo>
                    <a:pt x="4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Freeform 40"/>
            <p:cNvSpPr/>
            <p:nvPr/>
          </p:nvSpPr>
          <p:spPr>
            <a:xfrm>
              <a:off x="2920680" y="6121800"/>
              <a:ext cx="1900440" cy="91080"/>
            </a:xfrm>
            <a:custGeom>
              <a:avLst/>
              <a:gdLst>
                <a:gd name="textAreaLeft" fmla="*/ 0 w 1900440"/>
                <a:gd name="textAreaRight" fmla="*/ 1900800 w 19004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710" h="82">
                  <a:moveTo>
                    <a:pt x="0" y="82"/>
                  </a:moveTo>
                  <a:lnTo>
                    <a:pt x="1672" y="20"/>
                  </a:lnTo>
                  <a:lnTo>
                    <a:pt x="1671" y="15"/>
                  </a:lnTo>
                  <a:lnTo>
                    <a:pt x="0" y="78"/>
                  </a:lnTo>
                  <a:lnTo>
                    <a:pt x="0" y="82"/>
                  </a:lnTo>
                  <a:close/>
                  <a:moveTo>
                    <a:pt x="1665" y="36"/>
                  </a:moveTo>
                  <a:lnTo>
                    <a:pt x="1710" y="16"/>
                  </a:lnTo>
                  <a:lnTo>
                    <a:pt x="1663" y="0"/>
                  </a:lnTo>
                  <a:lnTo>
                    <a:pt x="166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Freeform 41"/>
            <p:cNvSpPr/>
            <p:nvPr/>
          </p:nvSpPr>
          <p:spPr>
            <a:xfrm>
              <a:off x="4796640" y="4999320"/>
              <a:ext cx="51120" cy="9255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46" h="833">
                  <a:moveTo>
                    <a:pt x="25" y="833"/>
                  </a:moveTo>
                  <a:lnTo>
                    <a:pt x="26" y="31"/>
                  </a:lnTo>
                  <a:lnTo>
                    <a:pt x="20" y="31"/>
                  </a:lnTo>
                  <a:lnTo>
                    <a:pt x="19" y="833"/>
                  </a:lnTo>
                  <a:lnTo>
                    <a:pt x="25" y="833"/>
                  </a:lnTo>
                  <a:close/>
                  <a:moveTo>
                    <a:pt x="46" y="37"/>
                  </a:moveTo>
                  <a:lnTo>
                    <a:pt x="23" y="0"/>
                  </a:lnTo>
                  <a:lnTo>
                    <a:pt x="0" y="37"/>
                  </a:lnTo>
                  <a:lnTo>
                    <a:pt x="4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Freeform 42"/>
            <p:cNvSpPr/>
            <p:nvPr/>
          </p:nvSpPr>
          <p:spPr>
            <a:xfrm>
              <a:off x="3310920" y="4428000"/>
              <a:ext cx="443520" cy="2066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399" h="186">
                  <a:moveTo>
                    <a:pt x="2" y="0"/>
                  </a:moveTo>
                  <a:lnTo>
                    <a:pt x="367" y="169"/>
                  </a:lnTo>
                  <a:lnTo>
                    <a:pt x="365" y="173"/>
                  </a:lnTo>
                  <a:lnTo>
                    <a:pt x="0" y="4"/>
                  </a:lnTo>
                  <a:lnTo>
                    <a:pt x="2" y="0"/>
                  </a:lnTo>
                  <a:close/>
                  <a:moveTo>
                    <a:pt x="371" y="152"/>
                  </a:moveTo>
                  <a:lnTo>
                    <a:pt x="399" y="186"/>
                  </a:lnTo>
                  <a:lnTo>
                    <a:pt x="348" y="184"/>
                  </a:lnTo>
                  <a:lnTo>
                    <a:pt x="371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Freeform 43"/>
            <p:cNvSpPr/>
            <p:nvPr/>
          </p:nvSpPr>
          <p:spPr>
            <a:xfrm>
              <a:off x="5887800" y="4428000"/>
              <a:ext cx="667800" cy="21096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601" h="190">
                  <a:moveTo>
                    <a:pt x="599" y="0"/>
                  </a:moveTo>
                  <a:lnTo>
                    <a:pt x="35" y="173"/>
                  </a:lnTo>
                  <a:lnTo>
                    <a:pt x="37" y="177"/>
                  </a:lnTo>
                  <a:lnTo>
                    <a:pt x="601" y="4"/>
                  </a:lnTo>
                  <a:lnTo>
                    <a:pt x="599" y="0"/>
                  </a:lnTo>
                  <a:close/>
                  <a:moveTo>
                    <a:pt x="35" y="156"/>
                  </a:moveTo>
                  <a:lnTo>
                    <a:pt x="0" y="186"/>
                  </a:lnTo>
                  <a:lnTo>
                    <a:pt x="52" y="190"/>
                  </a:lnTo>
                  <a:lnTo>
                    <a:pt x="35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Freeform 44"/>
            <p:cNvSpPr/>
            <p:nvPr/>
          </p:nvSpPr>
          <p:spPr>
            <a:xfrm>
              <a:off x="5887800" y="4928040"/>
              <a:ext cx="666720" cy="14544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00" h="131">
                  <a:moveTo>
                    <a:pt x="599" y="131"/>
                  </a:moveTo>
                  <a:lnTo>
                    <a:pt x="37" y="18"/>
                  </a:lnTo>
                  <a:lnTo>
                    <a:pt x="38" y="14"/>
                  </a:lnTo>
                  <a:lnTo>
                    <a:pt x="600" y="126"/>
                  </a:lnTo>
                  <a:lnTo>
                    <a:pt x="599" y="131"/>
                  </a:lnTo>
                  <a:close/>
                  <a:moveTo>
                    <a:pt x="39" y="35"/>
                  </a:moveTo>
                  <a:lnTo>
                    <a:pt x="0" y="8"/>
                  </a:lnTo>
                  <a:lnTo>
                    <a:pt x="51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Freeform 45"/>
            <p:cNvSpPr/>
            <p:nvPr/>
          </p:nvSpPr>
          <p:spPr>
            <a:xfrm>
              <a:off x="3309840" y="4932360"/>
              <a:ext cx="445320" cy="14004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401" h="126">
                  <a:moveTo>
                    <a:pt x="2" y="126"/>
                  </a:moveTo>
                  <a:lnTo>
                    <a:pt x="366" y="17"/>
                  </a:lnTo>
                  <a:lnTo>
                    <a:pt x="364" y="13"/>
                  </a:lnTo>
                  <a:lnTo>
                    <a:pt x="0" y="122"/>
                  </a:lnTo>
                  <a:lnTo>
                    <a:pt x="2" y="126"/>
                  </a:lnTo>
                  <a:close/>
                  <a:moveTo>
                    <a:pt x="366" y="34"/>
                  </a:moveTo>
                  <a:lnTo>
                    <a:pt x="401" y="4"/>
                  </a:lnTo>
                  <a:lnTo>
                    <a:pt x="349" y="0"/>
                  </a:lnTo>
                  <a:lnTo>
                    <a:pt x="36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46"/>
            <p:cNvSpPr/>
            <p:nvPr/>
          </p:nvSpPr>
          <p:spPr>
            <a:xfrm>
              <a:off x="3150720" y="5356080"/>
              <a:ext cx="1279080" cy="356760"/>
            </a:xfrm>
            <a:prstGeom prst="ellipse">
              <a:avLst/>
            </a:pr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Freeform 47"/>
            <p:cNvSpPr/>
            <p:nvPr/>
          </p:nvSpPr>
          <p:spPr>
            <a:xfrm>
              <a:off x="3150720" y="5352840"/>
              <a:ext cx="1282320" cy="362160"/>
            </a:xfrm>
            <a:custGeom>
              <a:avLst/>
              <a:gdLst>
                <a:gd name="textAreaLeft" fmla="*/ 0 w 1282320"/>
                <a:gd name="textAreaRight" fmla="*/ 1282680 w 12823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012" h="326">
                  <a:moveTo>
                    <a:pt x="0" y="163"/>
                  </a:moveTo>
                  <a:lnTo>
                    <a:pt x="1" y="155"/>
                  </a:lnTo>
                  <a:lnTo>
                    <a:pt x="3" y="146"/>
                  </a:lnTo>
                  <a:lnTo>
                    <a:pt x="6" y="138"/>
                  </a:lnTo>
                  <a:lnTo>
                    <a:pt x="11" y="130"/>
                  </a:lnTo>
                  <a:lnTo>
                    <a:pt x="16" y="122"/>
                  </a:lnTo>
                  <a:lnTo>
                    <a:pt x="23" y="114"/>
                  </a:lnTo>
                  <a:lnTo>
                    <a:pt x="31" y="107"/>
                  </a:lnTo>
                  <a:lnTo>
                    <a:pt x="40" y="99"/>
                  </a:lnTo>
                  <a:lnTo>
                    <a:pt x="51" y="92"/>
                  </a:lnTo>
                  <a:lnTo>
                    <a:pt x="62" y="85"/>
                  </a:lnTo>
                  <a:lnTo>
                    <a:pt x="74" y="78"/>
                  </a:lnTo>
                  <a:lnTo>
                    <a:pt x="87" y="72"/>
                  </a:lnTo>
                  <a:lnTo>
                    <a:pt x="102" y="65"/>
                  </a:lnTo>
                  <a:lnTo>
                    <a:pt x="117" y="59"/>
                  </a:lnTo>
                  <a:lnTo>
                    <a:pt x="132" y="53"/>
                  </a:lnTo>
                  <a:lnTo>
                    <a:pt x="149" y="48"/>
                  </a:lnTo>
                  <a:lnTo>
                    <a:pt x="167" y="42"/>
                  </a:lnTo>
                  <a:lnTo>
                    <a:pt x="185" y="37"/>
                  </a:lnTo>
                  <a:lnTo>
                    <a:pt x="204" y="33"/>
                  </a:lnTo>
                  <a:lnTo>
                    <a:pt x="224" y="28"/>
                  </a:lnTo>
                  <a:lnTo>
                    <a:pt x="244" y="24"/>
                  </a:lnTo>
                  <a:lnTo>
                    <a:pt x="266" y="20"/>
                  </a:lnTo>
                  <a:lnTo>
                    <a:pt x="287" y="16"/>
                  </a:lnTo>
                  <a:lnTo>
                    <a:pt x="310" y="13"/>
                  </a:lnTo>
                  <a:lnTo>
                    <a:pt x="333" y="10"/>
                  </a:lnTo>
                  <a:lnTo>
                    <a:pt x="356" y="8"/>
                  </a:lnTo>
                  <a:lnTo>
                    <a:pt x="380" y="6"/>
                  </a:lnTo>
                  <a:lnTo>
                    <a:pt x="404" y="4"/>
                  </a:lnTo>
                  <a:lnTo>
                    <a:pt x="429" y="2"/>
                  </a:lnTo>
                  <a:lnTo>
                    <a:pt x="454" y="1"/>
                  </a:lnTo>
                  <a:lnTo>
                    <a:pt x="480" y="1"/>
                  </a:lnTo>
                  <a:lnTo>
                    <a:pt x="506" y="0"/>
                  </a:lnTo>
                  <a:lnTo>
                    <a:pt x="532" y="1"/>
                  </a:lnTo>
                  <a:lnTo>
                    <a:pt x="557" y="1"/>
                  </a:lnTo>
                  <a:lnTo>
                    <a:pt x="583" y="2"/>
                  </a:lnTo>
                  <a:lnTo>
                    <a:pt x="608" y="4"/>
                  </a:lnTo>
                  <a:lnTo>
                    <a:pt x="632" y="6"/>
                  </a:lnTo>
                  <a:lnTo>
                    <a:pt x="656" y="8"/>
                  </a:lnTo>
                  <a:lnTo>
                    <a:pt x="679" y="10"/>
                  </a:lnTo>
                  <a:lnTo>
                    <a:pt x="702" y="13"/>
                  </a:lnTo>
                  <a:lnTo>
                    <a:pt x="725" y="16"/>
                  </a:lnTo>
                  <a:lnTo>
                    <a:pt x="746" y="20"/>
                  </a:lnTo>
                  <a:lnTo>
                    <a:pt x="767" y="24"/>
                  </a:lnTo>
                  <a:lnTo>
                    <a:pt x="788" y="28"/>
                  </a:lnTo>
                  <a:lnTo>
                    <a:pt x="808" y="33"/>
                  </a:lnTo>
                  <a:lnTo>
                    <a:pt x="827" y="37"/>
                  </a:lnTo>
                  <a:lnTo>
                    <a:pt x="845" y="42"/>
                  </a:lnTo>
                  <a:lnTo>
                    <a:pt x="863" y="48"/>
                  </a:lnTo>
                  <a:lnTo>
                    <a:pt x="879" y="53"/>
                  </a:lnTo>
                  <a:lnTo>
                    <a:pt x="895" y="59"/>
                  </a:lnTo>
                  <a:lnTo>
                    <a:pt x="910" y="65"/>
                  </a:lnTo>
                  <a:lnTo>
                    <a:pt x="924" y="72"/>
                  </a:lnTo>
                  <a:lnTo>
                    <a:pt x="938" y="78"/>
                  </a:lnTo>
                  <a:lnTo>
                    <a:pt x="950" y="85"/>
                  </a:lnTo>
                  <a:lnTo>
                    <a:pt x="961" y="92"/>
                  </a:lnTo>
                  <a:lnTo>
                    <a:pt x="971" y="99"/>
                  </a:lnTo>
                  <a:lnTo>
                    <a:pt x="980" y="106"/>
                  </a:lnTo>
                  <a:lnTo>
                    <a:pt x="988" y="114"/>
                  </a:lnTo>
                  <a:lnTo>
                    <a:pt x="995" y="122"/>
                  </a:lnTo>
                  <a:lnTo>
                    <a:pt x="1001" y="130"/>
                  </a:lnTo>
                  <a:lnTo>
                    <a:pt x="1006" y="138"/>
                  </a:lnTo>
                  <a:lnTo>
                    <a:pt x="1009" y="146"/>
                  </a:lnTo>
                  <a:lnTo>
                    <a:pt x="1011" y="154"/>
                  </a:lnTo>
                  <a:lnTo>
                    <a:pt x="1012" y="163"/>
                  </a:lnTo>
                  <a:lnTo>
                    <a:pt x="1011" y="172"/>
                  </a:lnTo>
                  <a:lnTo>
                    <a:pt x="1009" y="180"/>
                  </a:lnTo>
                  <a:lnTo>
                    <a:pt x="1006" y="188"/>
                  </a:lnTo>
                  <a:lnTo>
                    <a:pt x="1001" y="196"/>
                  </a:lnTo>
                  <a:lnTo>
                    <a:pt x="996" y="204"/>
                  </a:lnTo>
                  <a:lnTo>
                    <a:pt x="989" y="212"/>
                  </a:lnTo>
                  <a:lnTo>
                    <a:pt x="981" y="220"/>
                  </a:lnTo>
                  <a:lnTo>
                    <a:pt x="971" y="227"/>
                  </a:lnTo>
                  <a:lnTo>
                    <a:pt x="961" y="234"/>
                  </a:lnTo>
                  <a:lnTo>
                    <a:pt x="950" y="241"/>
                  </a:lnTo>
                  <a:lnTo>
                    <a:pt x="938" y="248"/>
                  </a:lnTo>
                  <a:lnTo>
                    <a:pt x="925" y="255"/>
                  </a:lnTo>
                  <a:lnTo>
                    <a:pt x="910" y="261"/>
                  </a:lnTo>
                  <a:lnTo>
                    <a:pt x="895" y="267"/>
                  </a:lnTo>
                  <a:lnTo>
                    <a:pt x="880" y="273"/>
                  </a:lnTo>
                  <a:lnTo>
                    <a:pt x="863" y="279"/>
                  </a:lnTo>
                  <a:lnTo>
                    <a:pt x="845" y="284"/>
                  </a:lnTo>
                  <a:lnTo>
                    <a:pt x="827" y="289"/>
                  </a:lnTo>
                  <a:lnTo>
                    <a:pt x="808" y="294"/>
                  </a:lnTo>
                  <a:lnTo>
                    <a:pt x="788" y="298"/>
                  </a:lnTo>
                  <a:lnTo>
                    <a:pt x="767" y="303"/>
                  </a:lnTo>
                  <a:lnTo>
                    <a:pt x="746" y="306"/>
                  </a:lnTo>
                  <a:lnTo>
                    <a:pt x="725" y="310"/>
                  </a:lnTo>
                  <a:lnTo>
                    <a:pt x="702" y="313"/>
                  </a:lnTo>
                  <a:lnTo>
                    <a:pt x="679" y="316"/>
                  </a:lnTo>
                  <a:lnTo>
                    <a:pt x="656" y="319"/>
                  </a:lnTo>
                  <a:lnTo>
                    <a:pt x="632" y="321"/>
                  </a:lnTo>
                  <a:lnTo>
                    <a:pt x="608" y="323"/>
                  </a:lnTo>
                  <a:lnTo>
                    <a:pt x="583" y="324"/>
                  </a:lnTo>
                  <a:lnTo>
                    <a:pt x="558" y="325"/>
                  </a:lnTo>
                  <a:lnTo>
                    <a:pt x="532" y="326"/>
                  </a:lnTo>
                  <a:lnTo>
                    <a:pt x="506" y="326"/>
                  </a:lnTo>
                  <a:lnTo>
                    <a:pt x="480" y="326"/>
                  </a:lnTo>
                  <a:lnTo>
                    <a:pt x="455" y="325"/>
                  </a:lnTo>
                  <a:lnTo>
                    <a:pt x="429" y="324"/>
                  </a:lnTo>
                  <a:lnTo>
                    <a:pt x="404" y="323"/>
                  </a:lnTo>
                  <a:lnTo>
                    <a:pt x="380" y="321"/>
                  </a:lnTo>
                  <a:lnTo>
                    <a:pt x="356" y="319"/>
                  </a:lnTo>
                  <a:lnTo>
                    <a:pt x="333" y="316"/>
                  </a:lnTo>
                  <a:lnTo>
                    <a:pt x="310" y="313"/>
                  </a:lnTo>
                  <a:lnTo>
                    <a:pt x="287" y="310"/>
                  </a:lnTo>
                  <a:lnTo>
                    <a:pt x="266" y="306"/>
                  </a:lnTo>
                  <a:lnTo>
                    <a:pt x="244" y="303"/>
                  </a:lnTo>
                  <a:lnTo>
                    <a:pt x="224" y="298"/>
                  </a:lnTo>
                  <a:lnTo>
                    <a:pt x="204" y="294"/>
                  </a:lnTo>
                  <a:lnTo>
                    <a:pt x="185" y="289"/>
                  </a:lnTo>
                  <a:lnTo>
                    <a:pt x="167" y="284"/>
                  </a:lnTo>
                  <a:lnTo>
                    <a:pt x="149" y="279"/>
                  </a:lnTo>
                  <a:lnTo>
                    <a:pt x="133" y="273"/>
                  </a:lnTo>
                  <a:lnTo>
                    <a:pt x="117" y="267"/>
                  </a:lnTo>
                  <a:lnTo>
                    <a:pt x="102" y="261"/>
                  </a:lnTo>
                  <a:lnTo>
                    <a:pt x="87" y="255"/>
                  </a:lnTo>
                  <a:lnTo>
                    <a:pt x="74" y="248"/>
                  </a:lnTo>
                  <a:lnTo>
                    <a:pt x="62" y="241"/>
                  </a:lnTo>
                  <a:lnTo>
                    <a:pt x="51" y="234"/>
                  </a:lnTo>
                  <a:lnTo>
                    <a:pt x="41" y="227"/>
                  </a:lnTo>
                  <a:lnTo>
                    <a:pt x="31" y="220"/>
                  </a:lnTo>
                  <a:lnTo>
                    <a:pt x="23" y="212"/>
                  </a:lnTo>
                  <a:lnTo>
                    <a:pt x="16" y="205"/>
                  </a:lnTo>
                  <a:lnTo>
                    <a:pt x="11" y="197"/>
                  </a:lnTo>
                  <a:lnTo>
                    <a:pt x="6" y="189"/>
                  </a:lnTo>
                  <a:lnTo>
                    <a:pt x="3" y="180"/>
                  </a:lnTo>
                  <a:lnTo>
                    <a:pt x="1" y="172"/>
                  </a:lnTo>
                  <a:lnTo>
                    <a:pt x="0" y="163"/>
                  </a:lnTo>
                  <a:close/>
                  <a:moveTo>
                    <a:pt x="6" y="171"/>
                  </a:moveTo>
                  <a:lnTo>
                    <a:pt x="8" y="179"/>
                  </a:lnTo>
                  <a:lnTo>
                    <a:pt x="11" y="187"/>
                  </a:lnTo>
                  <a:lnTo>
                    <a:pt x="16" y="194"/>
                  </a:lnTo>
                  <a:lnTo>
                    <a:pt x="21" y="202"/>
                  </a:lnTo>
                  <a:lnTo>
                    <a:pt x="28" y="210"/>
                  </a:lnTo>
                  <a:lnTo>
                    <a:pt x="36" y="217"/>
                  </a:lnTo>
                  <a:lnTo>
                    <a:pt x="44" y="224"/>
                  </a:lnTo>
                  <a:lnTo>
                    <a:pt x="54" y="231"/>
                  </a:lnTo>
                  <a:lnTo>
                    <a:pt x="65" y="238"/>
                  </a:lnTo>
                  <a:lnTo>
                    <a:pt x="77" y="245"/>
                  </a:lnTo>
                  <a:lnTo>
                    <a:pt x="90" y="251"/>
                  </a:lnTo>
                  <a:lnTo>
                    <a:pt x="104" y="257"/>
                  </a:lnTo>
                  <a:lnTo>
                    <a:pt x="119" y="263"/>
                  </a:lnTo>
                  <a:lnTo>
                    <a:pt x="135" y="269"/>
                  </a:lnTo>
                  <a:lnTo>
                    <a:pt x="151" y="275"/>
                  </a:lnTo>
                  <a:lnTo>
                    <a:pt x="169" y="280"/>
                  </a:lnTo>
                  <a:lnTo>
                    <a:pt x="187" y="285"/>
                  </a:lnTo>
                  <a:lnTo>
                    <a:pt x="206" y="290"/>
                  </a:lnTo>
                  <a:lnTo>
                    <a:pt x="225" y="294"/>
                  </a:lnTo>
                  <a:lnTo>
                    <a:pt x="246" y="298"/>
                  </a:lnTo>
                  <a:lnTo>
                    <a:pt x="267" y="302"/>
                  </a:lnTo>
                  <a:lnTo>
                    <a:pt x="288" y="306"/>
                  </a:lnTo>
                  <a:lnTo>
                    <a:pt x="311" y="309"/>
                  </a:lnTo>
                  <a:lnTo>
                    <a:pt x="333" y="312"/>
                  </a:lnTo>
                  <a:lnTo>
                    <a:pt x="357" y="314"/>
                  </a:lnTo>
                  <a:lnTo>
                    <a:pt x="381" y="316"/>
                  </a:lnTo>
                  <a:lnTo>
                    <a:pt x="405" y="318"/>
                  </a:lnTo>
                  <a:lnTo>
                    <a:pt x="429" y="320"/>
                  </a:lnTo>
                  <a:lnTo>
                    <a:pt x="455" y="321"/>
                  </a:lnTo>
                  <a:lnTo>
                    <a:pt x="480" y="321"/>
                  </a:lnTo>
                  <a:lnTo>
                    <a:pt x="506" y="321"/>
                  </a:lnTo>
                  <a:lnTo>
                    <a:pt x="532" y="321"/>
                  </a:lnTo>
                  <a:lnTo>
                    <a:pt x="557" y="321"/>
                  </a:lnTo>
                  <a:lnTo>
                    <a:pt x="582" y="320"/>
                  </a:lnTo>
                  <a:lnTo>
                    <a:pt x="607" y="318"/>
                  </a:lnTo>
                  <a:lnTo>
                    <a:pt x="631" y="316"/>
                  </a:lnTo>
                  <a:lnTo>
                    <a:pt x="655" y="314"/>
                  </a:lnTo>
                  <a:lnTo>
                    <a:pt x="678" y="312"/>
                  </a:lnTo>
                  <a:lnTo>
                    <a:pt x="701" y="309"/>
                  </a:lnTo>
                  <a:lnTo>
                    <a:pt x="724" y="306"/>
                  </a:lnTo>
                  <a:lnTo>
                    <a:pt x="745" y="302"/>
                  </a:lnTo>
                  <a:lnTo>
                    <a:pt x="766" y="298"/>
                  </a:lnTo>
                  <a:lnTo>
                    <a:pt x="786" y="294"/>
                  </a:lnTo>
                  <a:lnTo>
                    <a:pt x="806" y="290"/>
                  </a:lnTo>
                  <a:lnTo>
                    <a:pt x="825" y="285"/>
                  </a:lnTo>
                  <a:lnTo>
                    <a:pt x="843" y="280"/>
                  </a:lnTo>
                  <a:lnTo>
                    <a:pt x="861" y="275"/>
                  </a:lnTo>
                  <a:lnTo>
                    <a:pt x="877" y="269"/>
                  </a:lnTo>
                  <a:lnTo>
                    <a:pt x="893" y="263"/>
                  </a:lnTo>
                  <a:lnTo>
                    <a:pt x="908" y="257"/>
                  </a:lnTo>
                  <a:lnTo>
                    <a:pt x="922" y="251"/>
                  </a:lnTo>
                  <a:lnTo>
                    <a:pt x="935" y="245"/>
                  </a:lnTo>
                  <a:lnTo>
                    <a:pt x="947" y="238"/>
                  </a:lnTo>
                  <a:lnTo>
                    <a:pt x="958" y="231"/>
                  </a:lnTo>
                  <a:lnTo>
                    <a:pt x="967" y="224"/>
                  </a:lnTo>
                  <a:lnTo>
                    <a:pt x="976" y="217"/>
                  </a:lnTo>
                  <a:lnTo>
                    <a:pt x="984" y="210"/>
                  </a:lnTo>
                  <a:lnTo>
                    <a:pt x="991" y="202"/>
                  </a:lnTo>
                  <a:lnTo>
                    <a:pt x="996" y="195"/>
                  </a:lnTo>
                  <a:lnTo>
                    <a:pt x="1001" y="187"/>
                  </a:lnTo>
                  <a:lnTo>
                    <a:pt x="1004" y="179"/>
                  </a:lnTo>
                  <a:lnTo>
                    <a:pt x="1006" y="171"/>
                  </a:lnTo>
                  <a:lnTo>
                    <a:pt x="1006" y="163"/>
                  </a:lnTo>
                  <a:lnTo>
                    <a:pt x="1006" y="155"/>
                  </a:lnTo>
                  <a:lnTo>
                    <a:pt x="1004" y="147"/>
                  </a:lnTo>
                  <a:lnTo>
                    <a:pt x="1001" y="140"/>
                  </a:lnTo>
                  <a:lnTo>
                    <a:pt x="996" y="132"/>
                  </a:lnTo>
                  <a:lnTo>
                    <a:pt x="991" y="124"/>
                  </a:lnTo>
                  <a:lnTo>
                    <a:pt x="984" y="117"/>
                  </a:lnTo>
                  <a:lnTo>
                    <a:pt x="976" y="110"/>
                  </a:lnTo>
                  <a:lnTo>
                    <a:pt x="968" y="102"/>
                  </a:lnTo>
                  <a:lnTo>
                    <a:pt x="958" y="95"/>
                  </a:lnTo>
                  <a:lnTo>
                    <a:pt x="947" y="89"/>
                  </a:lnTo>
                  <a:lnTo>
                    <a:pt x="935" y="82"/>
                  </a:lnTo>
                  <a:lnTo>
                    <a:pt x="922" y="75"/>
                  </a:lnTo>
                  <a:lnTo>
                    <a:pt x="908" y="69"/>
                  </a:lnTo>
                  <a:lnTo>
                    <a:pt x="893" y="63"/>
                  </a:lnTo>
                  <a:lnTo>
                    <a:pt x="877" y="57"/>
                  </a:lnTo>
                  <a:lnTo>
                    <a:pt x="861" y="52"/>
                  </a:lnTo>
                  <a:lnTo>
                    <a:pt x="843" y="47"/>
                  </a:lnTo>
                  <a:lnTo>
                    <a:pt x="825" y="41"/>
                  </a:lnTo>
                  <a:lnTo>
                    <a:pt x="806" y="37"/>
                  </a:lnTo>
                  <a:lnTo>
                    <a:pt x="786" y="32"/>
                  </a:lnTo>
                  <a:lnTo>
                    <a:pt x="766" y="28"/>
                  </a:lnTo>
                  <a:lnTo>
                    <a:pt x="745" y="24"/>
                  </a:lnTo>
                  <a:lnTo>
                    <a:pt x="724" y="21"/>
                  </a:lnTo>
                  <a:lnTo>
                    <a:pt x="701" y="17"/>
                  </a:lnTo>
                  <a:lnTo>
                    <a:pt x="679" y="15"/>
                  </a:lnTo>
                  <a:lnTo>
                    <a:pt x="655" y="12"/>
                  </a:lnTo>
                  <a:lnTo>
                    <a:pt x="631" y="10"/>
                  </a:lnTo>
                  <a:lnTo>
                    <a:pt x="607" y="8"/>
                  </a:lnTo>
                  <a:lnTo>
                    <a:pt x="582" y="7"/>
                  </a:lnTo>
                  <a:lnTo>
                    <a:pt x="557" y="6"/>
                  </a:lnTo>
                  <a:lnTo>
                    <a:pt x="532" y="5"/>
                  </a:lnTo>
                  <a:lnTo>
                    <a:pt x="506" y="5"/>
                  </a:lnTo>
                  <a:lnTo>
                    <a:pt x="480" y="5"/>
                  </a:lnTo>
                  <a:lnTo>
                    <a:pt x="455" y="6"/>
                  </a:lnTo>
                  <a:lnTo>
                    <a:pt x="430" y="7"/>
                  </a:lnTo>
                  <a:lnTo>
                    <a:pt x="405" y="8"/>
                  </a:lnTo>
                  <a:lnTo>
                    <a:pt x="381" y="10"/>
                  </a:lnTo>
                  <a:lnTo>
                    <a:pt x="357" y="12"/>
                  </a:lnTo>
                  <a:lnTo>
                    <a:pt x="333" y="15"/>
                  </a:lnTo>
                  <a:lnTo>
                    <a:pt x="311" y="17"/>
                  </a:lnTo>
                  <a:lnTo>
                    <a:pt x="288" y="21"/>
                  </a:lnTo>
                  <a:lnTo>
                    <a:pt x="267" y="24"/>
                  </a:lnTo>
                  <a:lnTo>
                    <a:pt x="246" y="28"/>
                  </a:lnTo>
                  <a:lnTo>
                    <a:pt x="225" y="32"/>
                  </a:lnTo>
                  <a:lnTo>
                    <a:pt x="206" y="37"/>
                  </a:lnTo>
                  <a:lnTo>
                    <a:pt x="187" y="41"/>
                  </a:lnTo>
                  <a:lnTo>
                    <a:pt x="169" y="46"/>
                  </a:lnTo>
                  <a:lnTo>
                    <a:pt x="151" y="52"/>
                  </a:lnTo>
                  <a:lnTo>
                    <a:pt x="135" y="57"/>
                  </a:lnTo>
                  <a:lnTo>
                    <a:pt x="119" y="63"/>
                  </a:lnTo>
                  <a:lnTo>
                    <a:pt x="104" y="69"/>
                  </a:lnTo>
                  <a:lnTo>
                    <a:pt x="90" y="75"/>
                  </a:lnTo>
                  <a:lnTo>
                    <a:pt x="77" y="82"/>
                  </a:lnTo>
                  <a:lnTo>
                    <a:pt x="65" y="88"/>
                  </a:lnTo>
                  <a:lnTo>
                    <a:pt x="54" y="95"/>
                  </a:lnTo>
                  <a:lnTo>
                    <a:pt x="44" y="102"/>
                  </a:lnTo>
                  <a:lnTo>
                    <a:pt x="36" y="109"/>
                  </a:lnTo>
                  <a:lnTo>
                    <a:pt x="28" y="117"/>
                  </a:lnTo>
                  <a:lnTo>
                    <a:pt x="21" y="124"/>
                  </a:lnTo>
                  <a:lnTo>
                    <a:pt x="16" y="132"/>
                  </a:lnTo>
                  <a:lnTo>
                    <a:pt x="11" y="139"/>
                  </a:lnTo>
                  <a:lnTo>
                    <a:pt x="8" y="147"/>
                  </a:lnTo>
                  <a:lnTo>
                    <a:pt x="6" y="155"/>
                  </a:lnTo>
                  <a:lnTo>
                    <a:pt x="6" y="163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48"/>
            <p:cNvSpPr/>
            <p:nvPr/>
          </p:nvSpPr>
          <p:spPr>
            <a:xfrm>
              <a:off x="3266640" y="5437080"/>
              <a:ext cx="1116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роект ЕЗФРС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50"/>
            <p:cNvSpPr/>
            <p:nvPr/>
          </p:nvSpPr>
          <p:spPr>
            <a:xfrm>
              <a:off x="5212440" y="5356080"/>
              <a:ext cx="1224720" cy="356760"/>
            </a:xfrm>
            <a:prstGeom prst="ellipse">
              <a:avLst/>
            </a:prstGeom>
            <a:solidFill>
              <a:srgbClr val="00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Freeform 51"/>
            <p:cNvSpPr/>
            <p:nvPr/>
          </p:nvSpPr>
          <p:spPr>
            <a:xfrm>
              <a:off x="5209920" y="5352840"/>
              <a:ext cx="1226880" cy="362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011" h="326">
                  <a:moveTo>
                    <a:pt x="0" y="163"/>
                  </a:moveTo>
                  <a:lnTo>
                    <a:pt x="0" y="155"/>
                  </a:lnTo>
                  <a:lnTo>
                    <a:pt x="2" y="146"/>
                  </a:lnTo>
                  <a:lnTo>
                    <a:pt x="6" y="138"/>
                  </a:lnTo>
                  <a:lnTo>
                    <a:pt x="10" y="130"/>
                  </a:lnTo>
                  <a:lnTo>
                    <a:pt x="16" y="122"/>
                  </a:lnTo>
                  <a:lnTo>
                    <a:pt x="23" y="114"/>
                  </a:lnTo>
                  <a:lnTo>
                    <a:pt x="31" y="107"/>
                  </a:lnTo>
                  <a:lnTo>
                    <a:pt x="40" y="99"/>
                  </a:lnTo>
                  <a:lnTo>
                    <a:pt x="50" y="92"/>
                  </a:lnTo>
                  <a:lnTo>
                    <a:pt x="61" y="85"/>
                  </a:lnTo>
                  <a:lnTo>
                    <a:pt x="74" y="78"/>
                  </a:lnTo>
                  <a:lnTo>
                    <a:pt x="87" y="72"/>
                  </a:lnTo>
                  <a:lnTo>
                    <a:pt x="101" y="65"/>
                  </a:lnTo>
                  <a:lnTo>
                    <a:pt x="116" y="59"/>
                  </a:lnTo>
                  <a:lnTo>
                    <a:pt x="132" y="53"/>
                  </a:lnTo>
                  <a:lnTo>
                    <a:pt x="149" y="48"/>
                  </a:lnTo>
                  <a:lnTo>
                    <a:pt x="166" y="43"/>
                  </a:lnTo>
                  <a:lnTo>
                    <a:pt x="185" y="37"/>
                  </a:lnTo>
                  <a:lnTo>
                    <a:pt x="204" y="33"/>
                  </a:lnTo>
                  <a:lnTo>
                    <a:pt x="224" y="28"/>
                  </a:lnTo>
                  <a:lnTo>
                    <a:pt x="244" y="24"/>
                  </a:lnTo>
                  <a:lnTo>
                    <a:pt x="265" y="20"/>
                  </a:lnTo>
                  <a:lnTo>
                    <a:pt x="287" y="16"/>
                  </a:lnTo>
                  <a:lnTo>
                    <a:pt x="309" y="13"/>
                  </a:lnTo>
                  <a:lnTo>
                    <a:pt x="332" y="10"/>
                  </a:lnTo>
                  <a:lnTo>
                    <a:pt x="356" y="8"/>
                  </a:lnTo>
                  <a:lnTo>
                    <a:pt x="380" y="6"/>
                  </a:lnTo>
                  <a:lnTo>
                    <a:pt x="404" y="4"/>
                  </a:lnTo>
                  <a:lnTo>
                    <a:pt x="429" y="2"/>
                  </a:lnTo>
                  <a:lnTo>
                    <a:pt x="454" y="1"/>
                  </a:lnTo>
                  <a:lnTo>
                    <a:pt x="480" y="1"/>
                  </a:lnTo>
                  <a:lnTo>
                    <a:pt x="506" y="0"/>
                  </a:lnTo>
                  <a:lnTo>
                    <a:pt x="532" y="1"/>
                  </a:lnTo>
                  <a:lnTo>
                    <a:pt x="557" y="1"/>
                  </a:lnTo>
                  <a:lnTo>
                    <a:pt x="582" y="2"/>
                  </a:lnTo>
                  <a:lnTo>
                    <a:pt x="607" y="4"/>
                  </a:lnTo>
                  <a:lnTo>
                    <a:pt x="632" y="6"/>
                  </a:lnTo>
                  <a:lnTo>
                    <a:pt x="656" y="8"/>
                  </a:lnTo>
                  <a:lnTo>
                    <a:pt x="679" y="10"/>
                  </a:lnTo>
                  <a:lnTo>
                    <a:pt x="702" y="13"/>
                  </a:lnTo>
                  <a:lnTo>
                    <a:pt x="724" y="16"/>
                  </a:lnTo>
                  <a:lnTo>
                    <a:pt x="746" y="20"/>
                  </a:lnTo>
                  <a:lnTo>
                    <a:pt x="767" y="24"/>
                  </a:lnTo>
                  <a:lnTo>
                    <a:pt x="787" y="28"/>
                  </a:lnTo>
                  <a:lnTo>
                    <a:pt x="807" y="33"/>
                  </a:lnTo>
                  <a:lnTo>
                    <a:pt x="826" y="37"/>
                  </a:lnTo>
                  <a:lnTo>
                    <a:pt x="845" y="42"/>
                  </a:lnTo>
                  <a:lnTo>
                    <a:pt x="862" y="48"/>
                  </a:lnTo>
                  <a:lnTo>
                    <a:pt x="879" y="53"/>
                  </a:lnTo>
                  <a:lnTo>
                    <a:pt x="895" y="59"/>
                  </a:lnTo>
                  <a:lnTo>
                    <a:pt x="910" y="65"/>
                  </a:lnTo>
                  <a:lnTo>
                    <a:pt x="924" y="72"/>
                  </a:lnTo>
                  <a:lnTo>
                    <a:pt x="937" y="78"/>
                  </a:lnTo>
                  <a:lnTo>
                    <a:pt x="950" y="85"/>
                  </a:lnTo>
                  <a:lnTo>
                    <a:pt x="961" y="92"/>
                  </a:lnTo>
                  <a:lnTo>
                    <a:pt x="971" y="99"/>
                  </a:lnTo>
                  <a:lnTo>
                    <a:pt x="980" y="107"/>
                  </a:lnTo>
                  <a:lnTo>
                    <a:pt x="988" y="114"/>
                  </a:lnTo>
                  <a:lnTo>
                    <a:pt x="995" y="122"/>
                  </a:lnTo>
                  <a:lnTo>
                    <a:pt x="1001" y="130"/>
                  </a:lnTo>
                  <a:lnTo>
                    <a:pt x="1005" y="138"/>
                  </a:lnTo>
                  <a:lnTo>
                    <a:pt x="1009" y="146"/>
                  </a:lnTo>
                  <a:lnTo>
                    <a:pt x="1011" y="155"/>
                  </a:lnTo>
                  <a:lnTo>
                    <a:pt x="1011" y="163"/>
                  </a:lnTo>
                  <a:lnTo>
                    <a:pt x="1011" y="172"/>
                  </a:lnTo>
                  <a:lnTo>
                    <a:pt x="1009" y="180"/>
                  </a:lnTo>
                  <a:lnTo>
                    <a:pt x="1006" y="188"/>
                  </a:lnTo>
                  <a:lnTo>
                    <a:pt x="1001" y="196"/>
                  </a:lnTo>
                  <a:lnTo>
                    <a:pt x="995" y="204"/>
                  </a:lnTo>
                  <a:lnTo>
                    <a:pt x="988" y="212"/>
                  </a:lnTo>
                  <a:lnTo>
                    <a:pt x="980" y="220"/>
                  </a:lnTo>
                  <a:lnTo>
                    <a:pt x="971" y="227"/>
                  </a:lnTo>
                  <a:lnTo>
                    <a:pt x="961" y="234"/>
                  </a:lnTo>
                  <a:lnTo>
                    <a:pt x="950" y="241"/>
                  </a:lnTo>
                  <a:lnTo>
                    <a:pt x="938" y="248"/>
                  </a:lnTo>
                  <a:lnTo>
                    <a:pt x="924" y="255"/>
                  </a:lnTo>
                  <a:lnTo>
                    <a:pt x="910" y="261"/>
                  </a:lnTo>
                  <a:lnTo>
                    <a:pt x="895" y="267"/>
                  </a:lnTo>
                  <a:lnTo>
                    <a:pt x="879" y="273"/>
                  </a:lnTo>
                  <a:lnTo>
                    <a:pt x="862" y="279"/>
                  </a:lnTo>
                  <a:lnTo>
                    <a:pt x="845" y="284"/>
                  </a:lnTo>
                  <a:lnTo>
                    <a:pt x="826" y="289"/>
                  </a:lnTo>
                  <a:lnTo>
                    <a:pt x="808" y="294"/>
                  </a:lnTo>
                  <a:lnTo>
                    <a:pt x="788" y="298"/>
                  </a:lnTo>
                  <a:lnTo>
                    <a:pt x="767" y="303"/>
                  </a:lnTo>
                  <a:lnTo>
                    <a:pt x="746" y="307"/>
                  </a:lnTo>
                  <a:lnTo>
                    <a:pt x="724" y="310"/>
                  </a:lnTo>
                  <a:lnTo>
                    <a:pt x="702" y="313"/>
                  </a:lnTo>
                  <a:lnTo>
                    <a:pt x="679" y="316"/>
                  </a:lnTo>
                  <a:lnTo>
                    <a:pt x="656" y="319"/>
                  </a:lnTo>
                  <a:lnTo>
                    <a:pt x="632" y="321"/>
                  </a:lnTo>
                  <a:lnTo>
                    <a:pt x="607" y="323"/>
                  </a:lnTo>
                  <a:lnTo>
                    <a:pt x="583" y="324"/>
                  </a:lnTo>
                  <a:lnTo>
                    <a:pt x="557" y="325"/>
                  </a:lnTo>
                  <a:lnTo>
                    <a:pt x="532" y="326"/>
                  </a:lnTo>
                  <a:lnTo>
                    <a:pt x="506" y="326"/>
                  </a:lnTo>
                  <a:lnTo>
                    <a:pt x="480" y="326"/>
                  </a:lnTo>
                  <a:lnTo>
                    <a:pt x="454" y="325"/>
                  </a:lnTo>
                  <a:lnTo>
                    <a:pt x="429" y="324"/>
                  </a:lnTo>
                  <a:lnTo>
                    <a:pt x="404" y="323"/>
                  </a:lnTo>
                  <a:lnTo>
                    <a:pt x="380" y="321"/>
                  </a:lnTo>
                  <a:lnTo>
                    <a:pt x="356" y="319"/>
                  </a:lnTo>
                  <a:lnTo>
                    <a:pt x="332" y="316"/>
                  </a:lnTo>
                  <a:lnTo>
                    <a:pt x="309" y="313"/>
                  </a:lnTo>
                  <a:lnTo>
                    <a:pt x="287" y="310"/>
                  </a:lnTo>
                  <a:lnTo>
                    <a:pt x="265" y="307"/>
                  </a:lnTo>
                  <a:lnTo>
                    <a:pt x="244" y="303"/>
                  </a:lnTo>
                  <a:lnTo>
                    <a:pt x="224" y="299"/>
                  </a:lnTo>
                  <a:lnTo>
                    <a:pt x="204" y="294"/>
                  </a:lnTo>
                  <a:lnTo>
                    <a:pt x="185" y="289"/>
                  </a:lnTo>
                  <a:lnTo>
                    <a:pt x="166" y="284"/>
                  </a:lnTo>
                  <a:lnTo>
                    <a:pt x="149" y="279"/>
                  </a:lnTo>
                  <a:lnTo>
                    <a:pt x="132" y="273"/>
                  </a:lnTo>
                  <a:lnTo>
                    <a:pt x="116" y="267"/>
                  </a:lnTo>
                  <a:lnTo>
                    <a:pt x="101" y="261"/>
                  </a:lnTo>
                  <a:lnTo>
                    <a:pt x="87" y="255"/>
                  </a:lnTo>
                  <a:lnTo>
                    <a:pt x="74" y="248"/>
                  </a:lnTo>
                  <a:lnTo>
                    <a:pt x="62" y="242"/>
                  </a:lnTo>
                  <a:lnTo>
                    <a:pt x="50" y="234"/>
                  </a:lnTo>
                  <a:lnTo>
                    <a:pt x="40" y="227"/>
                  </a:lnTo>
                  <a:lnTo>
                    <a:pt x="31" y="220"/>
                  </a:lnTo>
                  <a:lnTo>
                    <a:pt x="23" y="212"/>
                  </a:lnTo>
                  <a:lnTo>
                    <a:pt x="16" y="205"/>
                  </a:lnTo>
                  <a:lnTo>
                    <a:pt x="10" y="197"/>
                  </a:lnTo>
                  <a:lnTo>
                    <a:pt x="6" y="189"/>
                  </a:lnTo>
                  <a:lnTo>
                    <a:pt x="2" y="180"/>
                  </a:lnTo>
                  <a:lnTo>
                    <a:pt x="0" y="172"/>
                  </a:lnTo>
                  <a:lnTo>
                    <a:pt x="0" y="163"/>
                  </a:lnTo>
                  <a:close/>
                  <a:moveTo>
                    <a:pt x="6" y="171"/>
                  </a:moveTo>
                  <a:lnTo>
                    <a:pt x="8" y="179"/>
                  </a:lnTo>
                  <a:lnTo>
                    <a:pt x="11" y="187"/>
                  </a:lnTo>
                  <a:lnTo>
                    <a:pt x="15" y="194"/>
                  </a:lnTo>
                  <a:lnTo>
                    <a:pt x="21" y="202"/>
                  </a:lnTo>
                  <a:lnTo>
                    <a:pt x="27" y="210"/>
                  </a:lnTo>
                  <a:lnTo>
                    <a:pt x="35" y="217"/>
                  </a:lnTo>
                  <a:lnTo>
                    <a:pt x="44" y="224"/>
                  </a:lnTo>
                  <a:lnTo>
                    <a:pt x="54" y="231"/>
                  </a:lnTo>
                  <a:lnTo>
                    <a:pt x="65" y="238"/>
                  </a:lnTo>
                  <a:lnTo>
                    <a:pt x="77" y="245"/>
                  </a:lnTo>
                  <a:lnTo>
                    <a:pt x="90" y="251"/>
                  </a:lnTo>
                  <a:lnTo>
                    <a:pt x="104" y="257"/>
                  </a:lnTo>
                  <a:lnTo>
                    <a:pt x="119" y="263"/>
                  </a:lnTo>
                  <a:lnTo>
                    <a:pt x="134" y="269"/>
                  </a:lnTo>
                  <a:lnTo>
                    <a:pt x="151" y="275"/>
                  </a:lnTo>
                  <a:lnTo>
                    <a:pt x="168" y="280"/>
                  </a:lnTo>
                  <a:lnTo>
                    <a:pt x="186" y="285"/>
                  </a:lnTo>
                  <a:lnTo>
                    <a:pt x="205" y="290"/>
                  </a:lnTo>
                  <a:lnTo>
                    <a:pt x="225" y="294"/>
                  </a:lnTo>
                  <a:lnTo>
                    <a:pt x="245" y="298"/>
                  </a:lnTo>
                  <a:lnTo>
                    <a:pt x="266" y="302"/>
                  </a:lnTo>
                  <a:lnTo>
                    <a:pt x="288" y="306"/>
                  </a:lnTo>
                  <a:lnTo>
                    <a:pt x="310" y="309"/>
                  </a:lnTo>
                  <a:lnTo>
                    <a:pt x="333" y="312"/>
                  </a:lnTo>
                  <a:lnTo>
                    <a:pt x="356" y="314"/>
                  </a:lnTo>
                  <a:lnTo>
                    <a:pt x="380" y="317"/>
                  </a:lnTo>
                  <a:lnTo>
                    <a:pt x="405" y="318"/>
                  </a:lnTo>
                  <a:lnTo>
                    <a:pt x="429" y="320"/>
                  </a:lnTo>
                  <a:lnTo>
                    <a:pt x="454" y="321"/>
                  </a:lnTo>
                  <a:lnTo>
                    <a:pt x="480" y="321"/>
                  </a:lnTo>
                  <a:lnTo>
                    <a:pt x="506" y="321"/>
                  </a:lnTo>
                  <a:lnTo>
                    <a:pt x="531" y="321"/>
                  </a:lnTo>
                  <a:lnTo>
                    <a:pt x="557" y="321"/>
                  </a:lnTo>
                  <a:lnTo>
                    <a:pt x="582" y="320"/>
                  </a:lnTo>
                  <a:lnTo>
                    <a:pt x="607" y="318"/>
                  </a:lnTo>
                  <a:lnTo>
                    <a:pt x="631" y="317"/>
                  </a:lnTo>
                  <a:lnTo>
                    <a:pt x="655" y="314"/>
                  </a:lnTo>
                  <a:lnTo>
                    <a:pt x="678" y="312"/>
                  </a:lnTo>
                  <a:lnTo>
                    <a:pt x="701" y="309"/>
                  </a:lnTo>
                  <a:lnTo>
                    <a:pt x="723" y="306"/>
                  </a:lnTo>
                  <a:lnTo>
                    <a:pt x="745" y="302"/>
                  </a:lnTo>
                  <a:lnTo>
                    <a:pt x="766" y="298"/>
                  </a:lnTo>
                  <a:lnTo>
                    <a:pt x="786" y="294"/>
                  </a:lnTo>
                  <a:lnTo>
                    <a:pt x="806" y="290"/>
                  </a:lnTo>
                  <a:lnTo>
                    <a:pt x="825" y="285"/>
                  </a:lnTo>
                  <a:lnTo>
                    <a:pt x="843" y="280"/>
                  </a:lnTo>
                  <a:lnTo>
                    <a:pt x="860" y="275"/>
                  </a:lnTo>
                  <a:lnTo>
                    <a:pt x="877" y="269"/>
                  </a:lnTo>
                  <a:lnTo>
                    <a:pt x="893" y="263"/>
                  </a:lnTo>
                  <a:lnTo>
                    <a:pt x="907" y="257"/>
                  </a:lnTo>
                  <a:lnTo>
                    <a:pt x="921" y="251"/>
                  </a:lnTo>
                  <a:lnTo>
                    <a:pt x="934" y="245"/>
                  </a:lnTo>
                  <a:lnTo>
                    <a:pt x="946" y="238"/>
                  </a:lnTo>
                  <a:lnTo>
                    <a:pt x="957" y="231"/>
                  </a:lnTo>
                  <a:lnTo>
                    <a:pt x="967" y="224"/>
                  </a:lnTo>
                  <a:lnTo>
                    <a:pt x="976" y="217"/>
                  </a:lnTo>
                  <a:lnTo>
                    <a:pt x="984" y="210"/>
                  </a:lnTo>
                  <a:lnTo>
                    <a:pt x="990" y="202"/>
                  </a:lnTo>
                  <a:lnTo>
                    <a:pt x="996" y="195"/>
                  </a:lnTo>
                  <a:lnTo>
                    <a:pt x="1000" y="187"/>
                  </a:lnTo>
                  <a:lnTo>
                    <a:pt x="1003" y="179"/>
                  </a:lnTo>
                  <a:lnTo>
                    <a:pt x="1005" y="171"/>
                  </a:lnTo>
                  <a:lnTo>
                    <a:pt x="1006" y="163"/>
                  </a:lnTo>
                  <a:lnTo>
                    <a:pt x="1005" y="155"/>
                  </a:lnTo>
                  <a:lnTo>
                    <a:pt x="1003" y="147"/>
                  </a:lnTo>
                  <a:lnTo>
                    <a:pt x="1000" y="140"/>
                  </a:lnTo>
                  <a:lnTo>
                    <a:pt x="996" y="132"/>
                  </a:lnTo>
                  <a:lnTo>
                    <a:pt x="991" y="124"/>
                  </a:lnTo>
                  <a:lnTo>
                    <a:pt x="984" y="117"/>
                  </a:lnTo>
                  <a:lnTo>
                    <a:pt x="976" y="110"/>
                  </a:lnTo>
                  <a:lnTo>
                    <a:pt x="967" y="102"/>
                  </a:lnTo>
                  <a:lnTo>
                    <a:pt x="957" y="95"/>
                  </a:lnTo>
                  <a:lnTo>
                    <a:pt x="946" y="89"/>
                  </a:lnTo>
                  <a:lnTo>
                    <a:pt x="934" y="82"/>
                  </a:lnTo>
                  <a:lnTo>
                    <a:pt x="921" y="75"/>
                  </a:lnTo>
                  <a:lnTo>
                    <a:pt x="907" y="69"/>
                  </a:lnTo>
                  <a:lnTo>
                    <a:pt x="893" y="63"/>
                  </a:lnTo>
                  <a:lnTo>
                    <a:pt x="877" y="57"/>
                  </a:lnTo>
                  <a:lnTo>
                    <a:pt x="860" y="52"/>
                  </a:lnTo>
                  <a:lnTo>
                    <a:pt x="843" y="47"/>
                  </a:lnTo>
                  <a:lnTo>
                    <a:pt x="825" y="41"/>
                  </a:lnTo>
                  <a:lnTo>
                    <a:pt x="806" y="37"/>
                  </a:lnTo>
                  <a:lnTo>
                    <a:pt x="786" y="32"/>
                  </a:lnTo>
                  <a:lnTo>
                    <a:pt x="766" y="28"/>
                  </a:lnTo>
                  <a:lnTo>
                    <a:pt x="745" y="24"/>
                  </a:lnTo>
                  <a:lnTo>
                    <a:pt x="723" y="21"/>
                  </a:lnTo>
                  <a:lnTo>
                    <a:pt x="701" y="18"/>
                  </a:lnTo>
                  <a:lnTo>
                    <a:pt x="678" y="15"/>
                  </a:lnTo>
                  <a:lnTo>
                    <a:pt x="655" y="12"/>
                  </a:lnTo>
                  <a:lnTo>
                    <a:pt x="631" y="10"/>
                  </a:lnTo>
                  <a:lnTo>
                    <a:pt x="607" y="8"/>
                  </a:lnTo>
                  <a:lnTo>
                    <a:pt x="582" y="7"/>
                  </a:lnTo>
                  <a:lnTo>
                    <a:pt x="557" y="6"/>
                  </a:lnTo>
                  <a:lnTo>
                    <a:pt x="532" y="5"/>
                  </a:lnTo>
                  <a:lnTo>
                    <a:pt x="506" y="5"/>
                  </a:lnTo>
                  <a:lnTo>
                    <a:pt x="480" y="5"/>
                  </a:lnTo>
                  <a:lnTo>
                    <a:pt x="454" y="6"/>
                  </a:lnTo>
                  <a:lnTo>
                    <a:pt x="429" y="7"/>
                  </a:lnTo>
                  <a:lnTo>
                    <a:pt x="405" y="8"/>
                  </a:lnTo>
                  <a:lnTo>
                    <a:pt x="380" y="10"/>
                  </a:lnTo>
                  <a:lnTo>
                    <a:pt x="356" y="12"/>
                  </a:lnTo>
                  <a:lnTo>
                    <a:pt x="333" y="15"/>
                  </a:lnTo>
                  <a:lnTo>
                    <a:pt x="310" y="18"/>
                  </a:lnTo>
                  <a:lnTo>
                    <a:pt x="288" y="21"/>
                  </a:lnTo>
                  <a:lnTo>
                    <a:pt x="266" y="24"/>
                  </a:lnTo>
                  <a:lnTo>
                    <a:pt x="245" y="28"/>
                  </a:lnTo>
                  <a:lnTo>
                    <a:pt x="225" y="32"/>
                  </a:lnTo>
                  <a:lnTo>
                    <a:pt x="206" y="37"/>
                  </a:lnTo>
                  <a:lnTo>
                    <a:pt x="186" y="41"/>
                  </a:lnTo>
                  <a:lnTo>
                    <a:pt x="168" y="47"/>
                  </a:lnTo>
                  <a:lnTo>
                    <a:pt x="151" y="52"/>
                  </a:lnTo>
                  <a:lnTo>
                    <a:pt x="134" y="57"/>
                  </a:lnTo>
                  <a:lnTo>
                    <a:pt x="119" y="63"/>
                  </a:lnTo>
                  <a:lnTo>
                    <a:pt x="104" y="69"/>
                  </a:lnTo>
                  <a:lnTo>
                    <a:pt x="90" y="75"/>
                  </a:lnTo>
                  <a:lnTo>
                    <a:pt x="77" y="82"/>
                  </a:lnTo>
                  <a:lnTo>
                    <a:pt x="65" y="89"/>
                  </a:lnTo>
                  <a:lnTo>
                    <a:pt x="54" y="95"/>
                  </a:lnTo>
                  <a:lnTo>
                    <a:pt x="44" y="102"/>
                  </a:lnTo>
                  <a:lnTo>
                    <a:pt x="35" y="109"/>
                  </a:lnTo>
                  <a:lnTo>
                    <a:pt x="27" y="117"/>
                  </a:lnTo>
                  <a:lnTo>
                    <a:pt x="21" y="124"/>
                  </a:lnTo>
                  <a:lnTo>
                    <a:pt x="15" y="132"/>
                  </a:lnTo>
                  <a:lnTo>
                    <a:pt x="11" y="139"/>
                  </a:lnTo>
                  <a:lnTo>
                    <a:pt x="8" y="147"/>
                  </a:lnTo>
                  <a:lnTo>
                    <a:pt x="6" y="155"/>
                  </a:lnTo>
                  <a:lnTo>
                    <a:pt x="5" y="163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Rectangle 52"/>
            <p:cNvSpPr/>
            <p:nvPr/>
          </p:nvSpPr>
          <p:spPr>
            <a:xfrm>
              <a:off x="5278320" y="5449320"/>
              <a:ext cx="105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роект ЕФМД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Freeform 54"/>
            <p:cNvSpPr/>
            <p:nvPr/>
          </p:nvSpPr>
          <p:spPr>
            <a:xfrm>
              <a:off x="3871080" y="4998240"/>
              <a:ext cx="952200" cy="35892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857" h="323">
                  <a:moveTo>
                    <a:pt x="854" y="0"/>
                  </a:moveTo>
                  <a:lnTo>
                    <a:pt x="34" y="307"/>
                  </a:lnTo>
                  <a:lnTo>
                    <a:pt x="36" y="311"/>
                  </a:lnTo>
                  <a:lnTo>
                    <a:pt x="857" y="3"/>
                  </a:lnTo>
                  <a:lnTo>
                    <a:pt x="854" y="0"/>
                  </a:lnTo>
                  <a:close/>
                  <a:moveTo>
                    <a:pt x="32" y="290"/>
                  </a:moveTo>
                  <a:lnTo>
                    <a:pt x="0" y="322"/>
                  </a:lnTo>
                  <a:lnTo>
                    <a:pt x="52" y="323"/>
                  </a:lnTo>
                  <a:lnTo>
                    <a:pt x="32" y="29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Freeform 55"/>
            <p:cNvSpPr/>
            <p:nvPr/>
          </p:nvSpPr>
          <p:spPr>
            <a:xfrm>
              <a:off x="4820040" y="4998240"/>
              <a:ext cx="950760" cy="3589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856" h="323">
                  <a:moveTo>
                    <a:pt x="2" y="0"/>
                  </a:moveTo>
                  <a:lnTo>
                    <a:pt x="823" y="307"/>
                  </a:lnTo>
                  <a:lnTo>
                    <a:pt x="820" y="311"/>
                  </a:lnTo>
                  <a:lnTo>
                    <a:pt x="0" y="3"/>
                  </a:lnTo>
                  <a:lnTo>
                    <a:pt x="2" y="0"/>
                  </a:lnTo>
                  <a:close/>
                  <a:moveTo>
                    <a:pt x="825" y="290"/>
                  </a:moveTo>
                  <a:lnTo>
                    <a:pt x="856" y="322"/>
                  </a:lnTo>
                  <a:lnTo>
                    <a:pt x="805" y="323"/>
                  </a:lnTo>
                  <a:lnTo>
                    <a:pt x="825" y="290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56"/>
            <p:cNvSpPr/>
            <p:nvPr/>
          </p:nvSpPr>
          <p:spPr>
            <a:xfrm>
              <a:off x="3743280" y="3657600"/>
              <a:ext cx="1940040" cy="701280"/>
            </a:xfrm>
            <a:prstGeom prst="ellipse">
              <a:avLst/>
            </a:prstGeom>
            <a:solidFill>
              <a:srgbClr val="a0bae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Freeform 57"/>
            <p:cNvSpPr/>
            <p:nvPr/>
          </p:nvSpPr>
          <p:spPr>
            <a:xfrm>
              <a:off x="3743280" y="3656520"/>
              <a:ext cx="1940040" cy="704160"/>
            </a:xfrm>
            <a:custGeom>
              <a:avLst/>
              <a:gdLst>
                <a:gd name="textAreaLeft" fmla="*/ 0 w 1940040"/>
                <a:gd name="textAreaRight" fmla="*/ 1940400 w 194004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1112" h="710">
                  <a:moveTo>
                    <a:pt x="0" y="356"/>
                  </a:moveTo>
                  <a:lnTo>
                    <a:pt x="0" y="346"/>
                  </a:lnTo>
                  <a:lnTo>
                    <a:pt x="1" y="337"/>
                  </a:lnTo>
                  <a:lnTo>
                    <a:pt x="2" y="328"/>
                  </a:lnTo>
                  <a:lnTo>
                    <a:pt x="3" y="319"/>
                  </a:lnTo>
                  <a:lnTo>
                    <a:pt x="7" y="301"/>
                  </a:lnTo>
                  <a:lnTo>
                    <a:pt x="12" y="284"/>
                  </a:lnTo>
                  <a:lnTo>
                    <a:pt x="18" y="267"/>
                  </a:lnTo>
                  <a:lnTo>
                    <a:pt x="25" y="250"/>
                  </a:lnTo>
                  <a:lnTo>
                    <a:pt x="34" y="233"/>
                  </a:lnTo>
                  <a:lnTo>
                    <a:pt x="44" y="217"/>
                  </a:lnTo>
                  <a:lnTo>
                    <a:pt x="55" y="202"/>
                  </a:lnTo>
                  <a:lnTo>
                    <a:pt x="67" y="186"/>
                  </a:lnTo>
                  <a:lnTo>
                    <a:pt x="81" y="171"/>
                  </a:lnTo>
                  <a:lnTo>
                    <a:pt x="95" y="157"/>
                  </a:lnTo>
                  <a:lnTo>
                    <a:pt x="111" y="143"/>
                  </a:lnTo>
                  <a:lnTo>
                    <a:pt x="127" y="130"/>
                  </a:lnTo>
                  <a:lnTo>
                    <a:pt x="145" y="117"/>
                  </a:lnTo>
                  <a:lnTo>
                    <a:pt x="163" y="104"/>
                  </a:lnTo>
                  <a:lnTo>
                    <a:pt x="183" y="93"/>
                  </a:lnTo>
                  <a:lnTo>
                    <a:pt x="203" y="82"/>
                  </a:lnTo>
                  <a:lnTo>
                    <a:pt x="224" y="71"/>
                  </a:lnTo>
                  <a:lnTo>
                    <a:pt x="246" y="61"/>
                  </a:lnTo>
                  <a:lnTo>
                    <a:pt x="268" y="52"/>
                  </a:lnTo>
                  <a:lnTo>
                    <a:pt x="291" y="43"/>
                  </a:lnTo>
                  <a:lnTo>
                    <a:pt x="315" y="36"/>
                  </a:lnTo>
                  <a:lnTo>
                    <a:pt x="340" y="28"/>
                  </a:lnTo>
                  <a:lnTo>
                    <a:pt x="365" y="22"/>
                  </a:lnTo>
                  <a:lnTo>
                    <a:pt x="391" y="16"/>
                  </a:lnTo>
                  <a:lnTo>
                    <a:pt x="417" y="12"/>
                  </a:lnTo>
                  <a:lnTo>
                    <a:pt x="444" y="8"/>
                  </a:lnTo>
                  <a:lnTo>
                    <a:pt x="471" y="5"/>
                  </a:lnTo>
                  <a:lnTo>
                    <a:pt x="499" y="2"/>
                  </a:lnTo>
                  <a:lnTo>
                    <a:pt x="527" y="1"/>
                  </a:lnTo>
                  <a:lnTo>
                    <a:pt x="556" y="0"/>
                  </a:lnTo>
                  <a:lnTo>
                    <a:pt x="585" y="1"/>
                  </a:lnTo>
                  <a:lnTo>
                    <a:pt x="613" y="3"/>
                  </a:lnTo>
                  <a:lnTo>
                    <a:pt x="641" y="5"/>
                  </a:lnTo>
                  <a:lnTo>
                    <a:pt x="668" y="8"/>
                  </a:lnTo>
                  <a:lnTo>
                    <a:pt x="695" y="12"/>
                  </a:lnTo>
                  <a:lnTo>
                    <a:pt x="721" y="17"/>
                  </a:lnTo>
                  <a:lnTo>
                    <a:pt x="747" y="22"/>
                  </a:lnTo>
                  <a:lnTo>
                    <a:pt x="772" y="28"/>
                  </a:lnTo>
                  <a:lnTo>
                    <a:pt x="797" y="36"/>
                  </a:lnTo>
                  <a:lnTo>
                    <a:pt x="821" y="43"/>
                  </a:lnTo>
                  <a:lnTo>
                    <a:pt x="844" y="52"/>
                  </a:lnTo>
                  <a:lnTo>
                    <a:pt x="867" y="61"/>
                  </a:lnTo>
                  <a:lnTo>
                    <a:pt x="889" y="71"/>
                  </a:lnTo>
                  <a:lnTo>
                    <a:pt x="910" y="82"/>
                  </a:lnTo>
                  <a:lnTo>
                    <a:pt x="930" y="93"/>
                  </a:lnTo>
                  <a:lnTo>
                    <a:pt x="949" y="104"/>
                  </a:lnTo>
                  <a:lnTo>
                    <a:pt x="968" y="117"/>
                  </a:lnTo>
                  <a:lnTo>
                    <a:pt x="985" y="130"/>
                  </a:lnTo>
                  <a:lnTo>
                    <a:pt x="1002" y="143"/>
                  </a:lnTo>
                  <a:lnTo>
                    <a:pt x="1017" y="157"/>
                  </a:lnTo>
                  <a:lnTo>
                    <a:pt x="1032" y="171"/>
                  </a:lnTo>
                  <a:lnTo>
                    <a:pt x="1045" y="186"/>
                  </a:lnTo>
                  <a:lnTo>
                    <a:pt x="1057" y="201"/>
                  </a:lnTo>
                  <a:lnTo>
                    <a:pt x="1068" y="217"/>
                  </a:lnTo>
                  <a:lnTo>
                    <a:pt x="1078" y="233"/>
                  </a:lnTo>
                  <a:lnTo>
                    <a:pt x="1087" y="250"/>
                  </a:lnTo>
                  <a:lnTo>
                    <a:pt x="1095" y="267"/>
                  </a:lnTo>
                  <a:lnTo>
                    <a:pt x="1101" y="284"/>
                  </a:lnTo>
                  <a:lnTo>
                    <a:pt x="1106" y="301"/>
                  </a:lnTo>
                  <a:lnTo>
                    <a:pt x="1109" y="319"/>
                  </a:lnTo>
                  <a:lnTo>
                    <a:pt x="1111" y="328"/>
                  </a:lnTo>
                  <a:lnTo>
                    <a:pt x="1112" y="337"/>
                  </a:lnTo>
                  <a:lnTo>
                    <a:pt x="1112" y="346"/>
                  </a:lnTo>
                  <a:lnTo>
                    <a:pt x="1112" y="355"/>
                  </a:lnTo>
                  <a:lnTo>
                    <a:pt x="1112" y="365"/>
                  </a:lnTo>
                  <a:lnTo>
                    <a:pt x="1112" y="374"/>
                  </a:lnTo>
                  <a:lnTo>
                    <a:pt x="1111" y="383"/>
                  </a:lnTo>
                  <a:lnTo>
                    <a:pt x="1109" y="392"/>
                  </a:lnTo>
                  <a:lnTo>
                    <a:pt x="1106" y="410"/>
                  </a:lnTo>
                  <a:lnTo>
                    <a:pt x="1101" y="427"/>
                  </a:lnTo>
                  <a:lnTo>
                    <a:pt x="1095" y="444"/>
                  </a:lnTo>
                  <a:lnTo>
                    <a:pt x="1087" y="461"/>
                  </a:lnTo>
                  <a:lnTo>
                    <a:pt x="1078" y="478"/>
                  </a:lnTo>
                  <a:lnTo>
                    <a:pt x="1069" y="494"/>
                  </a:lnTo>
                  <a:lnTo>
                    <a:pt x="1057" y="509"/>
                  </a:lnTo>
                  <a:lnTo>
                    <a:pt x="1045" y="525"/>
                  </a:lnTo>
                  <a:lnTo>
                    <a:pt x="1032" y="540"/>
                  </a:lnTo>
                  <a:lnTo>
                    <a:pt x="1017" y="554"/>
                  </a:lnTo>
                  <a:lnTo>
                    <a:pt x="1002" y="568"/>
                  </a:lnTo>
                  <a:lnTo>
                    <a:pt x="985" y="581"/>
                  </a:lnTo>
                  <a:lnTo>
                    <a:pt x="968" y="594"/>
                  </a:lnTo>
                  <a:lnTo>
                    <a:pt x="949" y="606"/>
                  </a:lnTo>
                  <a:lnTo>
                    <a:pt x="930" y="618"/>
                  </a:lnTo>
                  <a:lnTo>
                    <a:pt x="910" y="629"/>
                  </a:lnTo>
                  <a:lnTo>
                    <a:pt x="889" y="640"/>
                  </a:lnTo>
                  <a:lnTo>
                    <a:pt x="867" y="650"/>
                  </a:lnTo>
                  <a:lnTo>
                    <a:pt x="844" y="659"/>
                  </a:lnTo>
                  <a:lnTo>
                    <a:pt x="821" y="667"/>
                  </a:lnTo>
                  <a:lnTo>
                    <a:pt x="797" y="675"/>
                  </a:lnTo>
                  <a:lnTo>
                    <a:pt x="772" y="682"/>
                  </a:lnTo>
                  <a:lnTo>
                    <a:pt x="747" y="689"/>
                  </a:lnTo>
                  <a:lnTo>
                    <a:pt x="721" y="694"/>
                  </a:lnTo>
                  <a:lnTo>
                    <a:pt x="695" y="699"/>
                  </a:lnTo>
                  <a:lnTo>
                    <a:pt x="668" y="703"/>
                  </a:lnTo>
                  <a:lnTo>
                    <a:pt x="641" y="706"/>
                  </a:lnTo>
                  <a:lnTo>
                    <a:pt x="613" y="708"/>
                  </a:lnTo>
                  <a:lnTo>
                    <a:pt x="585" y="710"/>
                  </a:lnTo>
                  <a:lnTo>
                    <a:pt x="556" y="710"/>
                  </a:lnTo>
                  <a:lnTo>
                    <a:pt x="528" y="710"/>
                  </a:lnTo>
                  <a:lnTo>
                    <a:pt x="499" y="708"/>
                  </a:lnTo>
                  <a:lnTo>
                    <a:pt x="472" y="706"/>
                  </a:lnTo>
                  <a:lnTo>
                    <a:pt x="444" y="703"/>
                  </a:lnTo>
                  <a:lnTo>
                    <a:pt x="418" y="699"/>
                  </a:lnTo>
                  <a:lnTo>
                    <a:pt x="391" y="694"/>
                  </a:lnTo>
                  <a:lnTo>
                    <a:pt x="365" y="689"/>
                  </a:lnTo>
                  <a:lnTo>
                    <a:pt x="340" y="682"/>
                  </a:lnTo>
                  <a:lnTo>
                    <a:pt x="315" y="675"/>
                  </a:lnTo>
                  <a:lnTo>
                    <a:pt x="291" y="668"/>
                  </a:lnTo>
                  <a:lnTo>
                    <a:pt x="268" y="659"/>
                  </a:lnTo>
                  <a:lnTo>
                    <a:pt x="246" y="650"/>
                  </a:lnTo>
                  <a:lnTo>
                    <a:pt x="224" y="640"/>
                  </a:lnTo>
                  <a:lnTo>
                    <a:pt x="203" y="629"/>
                  </a:lnTo>
                  <a:lnTo>
                    <a:pt x="183" y="618"/>
                  </a:lnTo>
                  <a:lnTo>
                    <a:pt x="163" y="607"/>
                  </a:lnTo>
                  <a:lnTo>
                    <a:pt x="145" y="594"/>
                  </a:lnTo>
                  <a:lnTo>
                    <a:pt x="127" y="581"/>
                  </a:lnTo>
                  <a:lnTo>
                    <a:pt x="111" y="568"/>
                  </a:lnTo>
                  <a:lnTo>
                    <a:pt x="95" y="554"/>
                  </a:lnTo>
                  <a:lnTo>
                    <a:pt x="81" y="540"/>
                  </a:lnTo>
                  <a:lnTo>
                    <a:pt x="67" y="525"/>
                  </a:lnTo>
                  <a:lnTo>
                    <a:pt x="55" y="510"/>
                  </a:lnTo>
                  <a:lnTo>
                    <a:pt x="44" y="494"/>
                  </a:lnTo>
                  <a:lnTo>
                    <a:pt x="34" y="478"/>
                  </a:lnTo>
                  <a:lnTo>
                    <a:pt x="25" y="461"/>
                  </a:lnTo>
                  <a:lnTo>
                    <a:pt x="18" y="444"/>
                  </a:lnTo>
                  <a:lnTo>
                    <a:pt x="12" y="427"/>
                  </a:lnTo>
                  <a:lnTo>
                    <a:pt x="7" y="410"/>
                  </a:lnTo>
                  <a:lnTo>
                    <a:pt x="3" y="392"/>
                  </a:lnTo>
                  <a:lnTo>
                    <a:pt x="2" y="383"/>
                  </a:lnTo>
                  <a:lnTo>
                    <a:pt x="1" y="374"/>
                  </a:lnTo>
                  <a:lnTo>
                    <a:pt x="0" y="365"/>
                  </a:lnTo>
                  <a:lnTo>
                    <a:pt x="0" y="356"/>
                  </a:lnTo>
                  <a:close/>
                  <a:moveTo>
                    <a:pt x="6" y="364"/>
                  </a:moveTo>
                  <a:lnTo>
                    <a:pt x="6" y="373"/>
                  </a:lnTo>
                  <a:lnTo>
                    <a:pt x="7" y="382"/>
                  </a:lnTo>
                  <a:lnTo>
                    <a:pt x="9" y="391"/>
                  </a:lnTo>
                  <a:lnTo>
                    <a:pt x="12" y="409"/>
                  </a:lnTo>
                  <a:lnTo>
                    <a:pt x="17" y="426"/>
                  </a:lnTo>
                  <a:lnTo>
                    <a:pt x="23" y="443"/>
                  </a:lnTo>
                  <a:lnTo>
                    <a:pt x="30" y="460"/>
                  </a:lnTo>
                  <a:lnTo>
                    <a:pt x="39" y="476"/>
                  </a:lnTo>
                  <a:lnTo>
                    <a:pt x="49" y="492"/>
                  </a:lnTo>
                  <a:lnTo>
                    <a:pt x="60" y="507"/>
                  </a:lnTo>
                  <a:lnTo>
                    <a:pt x="72" y="522"/>
                  </a:lnTo>
                  <a:lnTo>
                    <a:pt x="85" y="537"/>
                  </a:lnTo>
                  <a:lnTo>
                    <a:pt x="100" y="551"/>
                  </a:lnTo>
                  <a:lnTo>
                    <a:pt x="115" y="565"/>
                  </a:lnTo>
                  <a:lnTo>
                    <a:pt x="131" y="578"/>
                  </a:lnTo>
                  <a:lnTo>
                    <a:pt x="149" y="591"/>
                  </a:lnTo>
                  <a:lnTo>
                    <a:pt x="167" y="603"/>
                  </a:lnTo>
                  <a:lnTo>
                    <a:pt x="186" y="615"/>
                  </a:lnTo>
                  <a:lnTo>
                    <a:pt x="206" y="626"/>
                  </a:lnTo>
                  <a:lnTo>
                    <a:pt x="227" y="636"/>
                  </a:lnTo>
                  <a:lnTo>
                    <a:pt x="248" y="646"/>
                  </a:lnTo>
                  <a:lnTo>
                    <a:pt x="271" y="655"/>
                  </a:lnTo>
                  <a:lnTo>
                    <a:pt x="294" y="664"/>
                  </a:lnTo>
                  <a:lnTo>
                    <a:pt x="317" y="671"/>
                  </a:lnTo>
                  <a:lnTo>
                    <a:pt x="342" y="678"/>
                  </a:lnTo>
                  <a:lnTo>
                    <a:pt x="367" y="685"/>
                  </a:lnTo>
                  <a:lnTo>
                    <a:pt x="392" y="690"/>
                  </a:lnTo>
                  <a:lnTo>
                    <a:pt x="418" y="695"/>
                  </a:lnTo>
                  <a:lnTo>
                    <a:pt x="445" y="699"/>
                  </a:lnTo>
                  <a:lnTo>
                    <a:pt x="472" y="702"/>
                  </a:lnTo>
                  <a:lnTo>
                    <a:pt x="500" y="704"/>
                  </a:lnTo>
                  <a:lnTo>
                    <a:pt x="528" y="705"/>
                  </a:lnTo>
                  <a:lnTo>
                    <a:pt x="556" y="706"/>
                  </a:lnTo>
                  <a:lnTo>
                    <a:pt x="584" y="705"/>
                  </a:lnTo>
                  <a:lnTo>
                    <a:pt x="612" y="704"/>
                  </a:lnTo>
                  <a:lnTo>
                    <a:pt x="640" y="702"/>
                  </a:lnTo>
                  <a:lnTo>
                    <a:pt x="667" y="699"/>
                  </a:lnTo>
                  <a:lnTo>
                    <a:pt x="694" y="695"/>
                  </a:lnTo>
                  <a:lnTo>
                    <a:pt x="720" y="690"/>
                  </a:lnTo>
                  <a:lnTo>
                    <a:pt x="746" y="685"/>
                  </a:lnTo>
                  <a:lnTo>
                    <a:pt x="771" y="678"/>
                  </a:lnTo>
                  <a:lnTo>
                    <a:pt x="795" y="671"/>
                  </a:lnTo>
                  <a:lnTo>
                    <a:pt x="819" y="663"/>
                  </a:lnTo>
                  <a:lnTo>
                    <a:pt x="842" y="655"/>
                  </a:lnTo>
                  <a:lnTo>
                    <a:pt x="864" y="646"/>
                  </a:lnTo>
                  <a:lnTo>
                    <a:pt x="886" y="636"/>
                  </a:lnTo>
                  <a:lnTo>
                    <a:pt x="907" y="626"/>
                  </a:lnTo>
                  <a:lnTo>
                    <a:pt x="927" y="615"/>
                  </a:lnTo>
                  <a:lnTo>
                    <a:pt x="946" y="603"/>
                  </a:lnTo>
                  <a:lnTo>
                    <a:pt x="964" y="591"/>
                  </a:lnTo>
                  <a:lnTo>
                    <a:pt x="981" y="578"/>
                  </a:lnTo>
                  <a:lnTo>
                    <a:pt x="998" y="565"/>
                  </a:lnTo>
                  <a:lnTo>
                    <a:pt x="1013" y="551"/>
                  </a:lnTo>
                  <a:lnTo>
                    <a:pt x="1027" y="537"/>
                  </a:lnTo>
                  <a:lnTo>
                    <a:pt x="1040" y="522"/>
                  </a:lnTo>
                  <a:lnTo>
                    <a:pt x="1053" y="507"/>
                  </a:lnTo>
                  <a:lnTo>
                    <a:pt x="1064" y="492"/>
                  </a:lnTo>
                  <a:lnTo>
                    <a:pt x="1073" y="476"/>
                  </a:lnTo>
                  <a:lnTo>
                    <a:pt x="1082" y="460"/>
                  </a:lnTo>
                  <a:lnTo>
                    <a:pt x="1089" y="443"/>
                  </a:lnTo>
                  <a:lnTo>
                    <a:pt x="1096" y="426"/>
                  </a:lnTo>
                  <a:lnTo>
                    <a:pt x="1100" y="409"/>
                  </a:lnTo>
                  <a:lnTo>
                    <a:pt x="1104" y="391"/>
                  </a:lnTo>
                  <a:lnTo>
                    <a:pt x="1105" y="382"/>
                  </a:lnTo>
                  <a:lnTo>
                    <a:pt x="1106" y="374"/>
                  </a:lnTo>
                  <a:lnTo>
                    <a:pt x="1107" y="365"/>
                  </a:lnTo>
                  <a:lnTo>
                    <a:pt x="1107" y="356"/>
                  </a:lnTo>
                  <a:lnTo>
                    <a:pt x="1107" y="347"/>
                  </a:lnTo>
                  <a:lnTo>
                    <a:pt x="1106" y="338"/>
                  </a:lnTo>
                  <a:lnTo>
                    <a:pt x="1105" y="329"/>
                  </a:lnTo>
                  <a:lnTo>
                    <a:pt x="1104" y="320"/>
                  </a:lnTo>
                  <a:lnTo>
                    <a:pt x="1101" y="302"/>
                  </a:lnTo>
                  <a:lnTo>
                    <a:pt x="1096" y="285"/>
                  </a:lnTo>
                  <a:lnTo>
                    <a:pt x="1090" y="268"/>
                  </a:lnTo>
                  <a:lnTo>
                    <a:pt x="1082" y="251"/>
                  </a:lnTo>
                  <a:lnTo>
                    <a:pt x="1073" y="235"/>
                  </a:lnTo>
                  <a:lnTo>
                    <a:pt x="1064" y="219"/>
                  </a:lnTo>
                  <a:lnTo>
                    <a:pt x="1053" y="204"/>
                  </a:lnTo>
                  <a:lnTo>
                    <a:pt x="1040" y="189"/>
                  </a:lnTo>
                  <a:lnTo>
                    <a:pt x="1027" y="174"/>
                  </a:lnTo>
                  <a:lnTo>
                    <a:pt x="1013" y="160"/>
                  </a:lnTo>
                  <a:lnTo>
                    <a:pt x="998" y="146"/>
                  </a:lnTo>
                  <a:lnTo>
                    <a:pt x="981" y="133"/>
                  </a:lnTo>
                  <a:lnTo>
                    <a:pt x="964" y="120"/>
                  </a:lnTo>
                  <a:lnTo>
                    <a:pt x="946" y="108"/>
                  </a:lnTo>
                  <a:lnTo>
                    <a:pt x="927" y="96"/>
                  </a:lnTo>
                  <a:lnTo>
                    <a:pt x="907" y="85"/>
                  </a:lnTo>
                  <a:lnTo>
                    <a:pt x="886" y="75"/>
                  </a:lnTo>
                  <a:lnTo>
                    <a:pt x="864" y="65"/>
                  </a:lnTo>
                  <a:lnTo>
                    <a:pt x="842" y="56"/>
                  </a:lnTo>
                  <a:lnTo>
                    <a:pt x="819" y="47"/>
                  </a:lnTo>
                  <a:lnTo>
                    <a:pt x="795" y="40"/>
                  </a:lnTo>
                  <a:lnTo>
                    <a:pt x="771" y="33"/>
                  </a:lnTo>
                  <a:lnTo>
                    <a:pt x="746" y="26"/>
                  </a:lnTo>
                  <a:lnTo>
                    <a:pt x="720" y="21"/>
                  </a:lnTo>
                  <a:lnTo>
                    <a:pt x="694" y="16"/>
                  </a:lnTo>
                  <a:lnTo>
                    <a:pt x="667" y="12"/>
                  </a:lnTo>
                  <a:lnTo>
                    <a:pt x="640" y="9"/>
                  </a:lnTo>
                  <a:lnTo>
                    <a:pt x="613" y="7"/>
                  </a:lnTo>
                  <a:lnTo>
                    <a:pt x="585" y="5"/>
                  </a:lnTo>
                  <a:lnTo>
                    <a:pt x="556" y="5"/>
                  </a:lnTo>
                  <a:lnTo>
                    <a:pt x="528" y="5"/>
                  </a:lnTo>
                  <a:lnTo>
                    <a:pt x="500" y="7"/>
                  </a:lnTo>
                  <a:lnTo>
                    <a:pt x="472" y="9"/>
                  </a:lnTo>
                  <a:lnTo>
                    <a:pt x="445" y="12"/>
                  </a:lnTo>
                  <a:lnTo>
                    <a:pt x="418" y="16"/>
                  </a:lnTo>
                  <a:lnTo>
                    <a:pt x="392" y="21"/>
                  </a:lnTo>
                  <a:lnTo>
                    <a:pt x="367" y="26"/>
                  </a:lnTo>
                  <a:lnTo>
                    <a:pt x="342" y="32"/>
                  </a:lnTo>
                  <a:lnTo>
                    <a:pt x="317" y="40"/>
                  </a:lnTo>
                  <a:lnTo>
                    <a:pt x="294" y="47"/>
                  </a:lnTo>
                  <a:lnTo>
                    <a:pt x="271" y="56"/>
                  </a:lnTo>
                  <a:lnTo>
                    <a:pt x="248" y="65"/>
                  </a:lnTo>
                  <a:lnTo>
                    <a:pt x="227" y="75"/>
                  </a:lnTo>
                  <a:lnTo>
                    <a:pt x="206" y="85"/>
                  </a:lnTo>
                  <a:lnTo>
                    <a:pt x="186" y="96"/>
                  </a:lnTo>
                  <a:lnTo>
                    <a:pt x="167" y="108"/>
                  </a:lnTo>
                  <a:lnTo>
                    <a:pt x="149" y="120"/>
                  </a:lnTo>
                  <a:lnTo>
                    <a:pt x="131" y="133"/>
                  </a:lnTo>
                  <a:lnTo>
                    <a:pt x="115" y="146"/>
                  </a:lnTo>
                  <a:lnTo>
                    <a:pt x="100" y="160"/>
                  </a:lnTo>
                  <a:lnTo>
                    <a:pt x="85" y="174"/>
                  </a:lnTo>
                  <a:lnTo>
                    <a:pt x="72" y="189"/>
                  </a:lnTo>
                  <a:lnTo>
                    <a:pt x="60" y="204"/>
                  </a:lnTo>
                  <a:lnTo>
                    <a:pt x="49" y="219"/>
                  </a:lnTo>
                  <a:lnTo>
                    <a:pt x="39" y="235"/>
                  </a:lnTo>
                  <a:lnTo>
                    <a:pt x="30" y="251"/>
                  </a:lnTo>
                  <a:lnTo>
                    <a:pt x="23" y="268"/>
                  </a:lnTo>
                  <a:lnTo>
                    <a:pt x="17" y="285"/>
                  </a:lnTo>
                  <a:lnTo>
                    <a:pt x="12" y="302"/>
                  </a:lnTo>
                  <a:lnTo>
                    <a:pt x="9" y="320"/>
                  </a:lnTo>
                  <a:lnTo>
                    <a:pt x="7" y="329"/>
                  </a:lnTo>
                  <a:lnTo>
                    <a:pt x="6" y="337"/>
                  </a:lnTo>
                  <a:lnTo>
                    <a:pt x="6" y="346"/>
                  </a:lnTo>
                  <a:lnTo>
                    <a:pt x="6" y="355"/>
                  </a:lnTo>
                  <a:lnTo>
                    <a:pt x="6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Rectangle 58"/>
            <p:cNvSpPr/>
            <p:nvPr/>
          </p:nvSpPr>
          <p:spPr>
            <a:xfrm>
              <a:off x="3961080" y="3825360"/>
              <a:ext cx="150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9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одготвителни дейности,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Rectangle 60"/>
            <p:cNvSpPr/>
            <p:nvPr/>
          </p:nvSpPr>
          <p:spPr>
            <a:xfrm>
              <a:off x="4024440" y="4014360"/>
              <a:ext cx="1436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900" spc="-1" strike="noStrike">
                  <a:solidFill>
                    <a:srgbClr val="16489f"/>
                  </a:solidFill>
                  <a:latin typeface="Arial"/>
                  <a:ea typeface="Arial"/>
                </a:rPr>
                <a:t>Операции от стратегият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Freeform 65"/>
            <p:cNvSpPr/>
            <p:nvPr/>
          </p:nvSpPr>
          <p:spPr>
            <a:xfrm>
              <a:off x="3261960" y="3976560"/>
              <a:ext cx="1560240" cy="5976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597600"/>
                <a:gd name="textAreaBottom" fmla="*/ 597960 h 597600"/>
              </a:gdLst>
              <a:ahLst/>
              <a:rect l="textAreaLeft" t="textAreaTop" r="textAreaRight" b="textAreaBottom"/>
              <a:pathLst>
                <a:path w="1158" h="578">
                  <a:moveTo>
                    <a:pt x="1155" y="578"/>
                  </a:moveTo>
                  <a:lnTo>
                    <a:pt x="31" y="18"/>
                  </a:lnTo>
                  <a:lnTo>
                    <a:pt x="34" y="14"/>
                  </a:lnTo>
                  <a:lnTo>
                    <a:pt x="1158" y="575"/>
                  </a:lnTo>
                  <a:lnTo>
                    <a:pt x="1155" y="578"/>
                  </a:lnTo>
                  <a:close/>
                  <a:moveTo>
                    <a:pt x="27" y="35"/>
                  </a:moveTo>
                  <a:lnTo>
                    <a:pt x="0" y="0"/>
                  </a:lnTo>
                  <a:lnTo>
                    <a:pt x="51" y="4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Freeform 66"/>
            <p:cNvSpPr/>
            <p:nvPr/>
          </p:nvSpPr>
          <p:spPr>
            <a:xfrm>
              <a:off x="4820040" y="3932280"/>
              <a:ext cx="1231200" cy="64224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642240"/>
                <a:gd name="textAreaBottom" fmla="*/ 642600 h 642240"/>
              </a:gdLst>
              <a:ahLst/>
              <a:rect l="textAreaLeft" t="textAreaTop" r="textAreaRight" b="textAreaBottom"/>
              <a:pathLst>
                <a:path w="1108" h="578">
                  <a:moveTo>
                    <a:pt x="3" y="578"/>
                  </a:moveTo>
                  <a:lnTo>
                    <a:pt x="1077" y="18"/>
                  </a:lnTo>
                  <a:lnTo>
                    <a:pt x="1074" y="15"/>
                  </a:lnTo>
                  <a:lnTo>
                    <a:pt x="0" y="575"/>
                  </a:lnTo>
                  <a:lnTo>
                    <a:pt x="3" y="578"/>
                  </a:lnTo>
                  <a:close/>
                  <a:moveTo>
                    <a:pt x="1082" y="35"/>
                  </a:moveTo>
                  <a:lnTo>
                    <a:pt x="1108" y="0"/>
                  </a:lnTo>
                  <a:lnTo>
                    <a:pt x="1057" y="5"/>
                  </a:lnTo>
                  <a:lnTo>
                    <a:pt x="1082" y="35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67"/>
            <p:cNvSpPr/>
            <p:nvPr/>
          </p:nvSpPr>
          <p:spPr>
            <a:xfrm>
              <a:off x="2490840" y="3629880"/>
              <a:ext cx="1117800" cy="355320"/>
            </a:xfrm>
            <a:prstGeom prst="ellipse">
              <a:avLst/>
            </a:prstGeom>
            <a:solidFill>
              <a:srgbClr val="c794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Freeform 68"/>
            <p:cNvSpPr/>
            <p:nvPr/>
          </p:nvSpPr>
          <p:spPr>
            <a:xfrm>
              <a:off x="2490840" y="3625200"/>
              <a:ext cx="1122480" cy="3600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1011" h="325">
                  <a:moveTo>
                    <a:pt x="0" y="162"/>
                  </a:moveTo>
                  <a:lnTo>
                    <a:pt x="0" y="154"/>
                  </a:lnTo>
                  <a:lnTo>
                    <a:pt x="2" y="146"/>
                  </a:lnTo>
                  <a:lnTo>
                    <a:pt x="6" y="137"/>
                  </a:lnTo>
                  <a:lnTo>
                    <a:pt x="10" y="129"/>
                  </a:lnTo>
                  <a:lnTo>
                    <a:pt x="16" y="121"/>
                  </a:lnTo>
                  <a:lnTo>
                    <a:pt x="23" y="113"/>
                  </a:lnTo>
                  <a:lnTo>
                    <a:pt x="31" y="106"/>
                  </a:lnTo>
                  <a:lnTo>
                    <a:pt x="40" y="98"/>
                  </a:lnTo>
                  <a:lnTo>
                    <a:pt x="50" y="91"/>
                  </a:lnTo>
                  <a:lnTo>
                    <a:pt x="61" y="84"/>
                  </a:lnTo>
                  <a:lnTo>
                    <a:pt x="74" y="77"/>
                  </a:lnTo>
                  <a:lnTo>
                    <a:pt x="87" y="71"/>
                  </a:lnTo>
                  <a:lnTo>
                    <a:pt x="101" y="64"/>
                  </a:lnTo>
                  <a:lnTo>
                    <a:pt x="116" y="58"/>
                  </a:lnTo>
                  <a:lnTo>
                    <a:pt x="132" y="52"/>
                  </a:lnTo>
                  <a:lnTo>
                    <a:pt x="149" y="47"/>
                  </a:lnTo>
                  <a:lnTo>
                    <a:pt x="166" y="42"/>
                  </a:lnTo>
                  <a:lnTo>
                    <a:pt x="185" y="36"/>
                  </a:lnTo>
                  <a:lnTo>
                    <a:pt x="204" y="32"/>
                  </a:lnTo>
                  <a:lnTo>
                    <a:pt x="223" y="27"/>
                  </a:lnTo>
                  <a:lnTo>
                    <a:pt x="244" y="23"/>
                  </a:lnTo>
                  <a:lnTo>
                    <a:pt x="265" y="19"/>
                  </a:lnTo>
                  <a:lnTo>
                    <a:pt x="287" y="16"/>
                  </a:lnTo>
                  <a:lnTo>
                    <a:pt x="309" y="12"/>
                  </a:lnTo>
                  <a:lnTo>
                    <a:pt x="332" y="9"/>
                  </a:lnTo>
                  <a:lnTo>
                    <a:pt x="355" y="7"/>
                  </a:lnTo>
                  <a:lnTo>
                    <a:pt x="379" y="5"/>
                  </a:lnTo>
                  <a:lnTo>
                    <a:pt x="404" y="3"/>
                  </a:lnTo>
                  <a:lnTo>
                    <a:pt x="429" y="2"/>
                  </a:lnTo>
                  <a:lnTo>
                    <a:pt x="454" y="1"/>
                  </a:lnTo>
                  <a:lnTo>
                    <a:pt x="479" y="0"/>
                  </a:lnTo>
                  <a:lnTo>
                    <a:pt x="505" y="0"/>
                  </a:lnTo>
                  <a:lnTo>
                    <a:pt x="531" y="0"/>
                  </a:lnTo>
                  <a:lnTo>
                    <a:pt x="557" y="0"/>
                  </a:lnTo>
                  <a:lnTo>
                    <a:pt x="582" y="2"/>
                  </a:lnTo>
                  <a:lnTo>
                    <a:pt x="607" y="3"/>
                  </a:lnTo>
                  <a:lnTo>
                    <a:pt x="631" y="5"/>
                  </a:lnTo>
                  <a:lnTo>
                    <a:pt x="655" y="7"/>
                  </a:lnTo>
                  <a:lnTo>
                    <a:pt x="679" y="9"/>
                  </a:lnTo>
                  <a:lnTo>
                    <a:pt x="702" y="12"/>
                  </a:lnTo>
                  <a:lnTo>
                    <a:pt x="724" y="16"/>
                  </a:lnTo>
                  <a:lnTo>
                    <a:pt x="746" y="19"/>
                  </a:lnTo>
                  <a:lnTo>
                    <a:pt x="767" y="23"/>
                  </a:lnTo>
                  <a:lnTo>
                    <a:pt x="787" y="27"/>
                  </a:lnTo>
                  <a:lnTo>
                    <a:pt x="807" y="32"/>
                  </a:lnTo>
                  <a:lnTo>
                    <a:pt x="826" y="36"/>
                  </a:lnTo>
                  <a:lnTo>
                    <a:pt x="845" y="41"/>
                  </a:lnTo>
                  <a:lnTo>
                    <a:pt x="862" y="47"/>
                  </a:lnTo>
                  <a:lnTo>
                    <a:pt x="879" y="52"/>
                  </a:lnTo>
                  <a:lnTo>
                    <a:pt x="895" y="58"/>
                  </a:lnTo>
                  <a:lnTo>
                    <a:pt x="910" y="64"/>
                  </a:lnTo>
                  <a:lnTo>
                    <a:pt x="924" y="71"/>
                  </a:lnTo>
                  <a:lnTo>
                    <a:pt x="937" y="77"/>
                  </a:lnTo>
                  <a:lnTo>
                    <a:pt x="949" y="84"/>
                  </a:lnTo>
                  <a:lnTo>
                    <a:pt x="961" y="91"/>
                  </a:lnTo>
                  <a:lnTo>
                    <a:pt x="971" y="98"/>
                  </a:lnTo>
                  <a:lnTo>
                    <a:pt x="980" y="106"/>
                  </a:lnTo>
                  <a:lnTo>
                    <a:pt x="988" y="113"/>
                  </a:lnTo>
                  <a:lnTo>
                    <a:pt x="995" y="121"/>
                  </a:lnTo>
                  <a:lnTo>
                    <a:pt x="1001" y="129"/>
                  </a:lnTo>
                  <a:lnTo>
                    <a:pt x="1005" y="137"/>
                  </a:lnTo>
                  <a:lnTo>
                    <a:pt x="1008" y="145"/>
                  </a:lnTo>
                  <a:lnTo>
                    <a:pt x="1010" y="154"/>
                  </a:lnTo>
                  <a:lnTo>
                    <a:pt x="1011" y="162"/>
                  </a:lnTo>
                  <a:lnTo>
                    <a:pt x="1011" y="171"/>
                  </a:lnTo>
                  <a:lnTo>
                    <a:pt x="1009" y="179"/>
                  </a:lnTo>
                  <a:lnTo>
                    <a:pt x="1005" y="187"/>
                  </a:lnTo>
                  <a:lnTo>
                    <a:pt x="1001" y="196"/>
                  </a:lnTo>
                  <a:lnTo>
                    <a:pt x="995" y="204"/>
                  </a:lnTo>
                  <a:lnTo>
                    <a:pt x="988" y="211"/>
                  </a:lnTo>
                  <a:lnTo>
                    <a:pt x="980" y="219"/>
                  </a:lnTo>
                  <a:lnTo>
                    <a:pt x="971" y="226"/>
                  </a:lnTo>
                  <a:lnTo>
                    <a:pt x="961" y="234"/>
                  </a:lnTo>
                  <a:lnTo>
                    <a:pt x="949" y="241"/>
                  </a:lnTo>
                  <a:lnTo>
                    <a:pt x="937" y="247"/>
                  </a:lnTo>
                  <a:lnTo>
                    <a:pt x="924" y="254"/>
                  </a:lnTo>
                  <a:lnTo>
                    <a:pt x="910" y="260"/>
                  </a:lnTo>
                  <a:lnTo>
                    <a:pt x="895" y="266"/>
                  </a:lnTo>
                  <a:lnTo>
                    <a:pt x="879" y="272"/>
                  </a:lnTo>
                  <a:lnTo>
                    <a:pt x="862" y="278"/>
                  </a:lnTo>
                  <a:lnTo>
                    <a:pt x="845" y="283"/>
                  </a:lnTo>
                  <a:lnTo>
                    <a:pt x="826" y="288"/>
                  </a:lnTo>
                  <a:lnTo>
                    <a:pt x="807" y="293"/>
                  </a:lnTo>
                  <a:lnTo>
                    <a:pt x="787" y="298"/>
                  </a:lnTo>
                  <a:lnTo>
                    <a:pt x="767" y="302"/>
                  </a:lnTo>
                  <a:lnTo>
                    <a:pt x="746" y="306"/>
                  </a:lnTo>
                  <a:lnTo>
                    <a:pt x="724" y="309"/>
                  </a:lnTo>
                  <a:lnTo>
                    <a:pt x="702" y="312"/>
                  </a:lnTo>
                  <a:lnTo>
                    <a:pt x="679" y="315"/>
                  </a:lnTo>
                  <a:lnTo>
                    <a:pt x="655" y="318"/>
                  </a:lnTo>
                  <a:lnTo>
                    <a:pt x="631" y="320"/>
                  </a:lnTo>
                  <a:lnTo>
                    <a:pt x="607" y="322"/>
                  </a:lnTo>
                  <a:lnTo>
                    <a:pt x="582" y="323"/>
                  </a:lnTo>
                  <a:lnTo>
                    <a:pt x="557" y="324"/>
                  </a:lnTo>
                  <a:lnTo>
                    <a:pt x="531" y="325"/>
                  </a:lnTo>
                  <a:lnTo>
                    <a:pt x="505" y="325"/>
                  </a:lnTo>
                  <a:lnTo>
                    <a:pt x="479" y="325"/>
                  </a:lnTo>
                  <a:lnTo>
                    <a:pt x="454" y="324"/>
                  </a:lnTo>
                  <a:lnTo>
                    <a:pt x="429" y="323"/>
                  </a:lnTo>
                  <a:lnTo>
                    <a:pt x="404" y="322"/>
                  </a:lnTo>
                  <a:lnTo>
                    <a:pt x="379" y="320"/>
                  </a:lnTo>
                  <a:lnTo>
                    <a:pt x="356" y="318"/>
                  </a:lnTo>
                  <a:lnTo>
                    <a:pt x="332" y="315"/>
                  </a:lnTo>
                  <a:lnTo>
                    <a:pt x="309" y="312"/>
                  </a:lnTo>
                  <a:lnTo>
                    <a:pt x="287" y="309"/>
                  </a:lnTo>
                  <a:lnTo>
                    <a:pt x="265" y="306"/>
                  </a:lnTo>
                  <a:lnTo>
                    <a:pt x="244" y="302"/>
                  </a:lnTo>
                  <a:lnTo>
                    <a:pt x="223" y="298"/>
                  </a:lnTo>
                  <a:lnTo>
                    <a:pt x="204" y="293"/>
                  </a:lnTo>
                  <a:lnTo>
                    <a:pt x="185" y="288"/>
                  </a:lnTo>
                  <a:lnTo>
                    <a:pt x="166" y="283"/>
                  </a:lnTo>
                  <a:lnTo>
                    <a:pt x="149" y="278"/>
                  </a:lnTo>
                  <a:lnTo>
                    <a:pt x="132" y="272"/>
                  </a:lnTo>
                  <a:lnTo>
                    <a:pt x="116" y="266"/>
                  </a:lnTo>
                  <a:lnTo>
                    <a:pt x="101" y="260"/>
                  </a:lnTo>
                  <a:lnTo>
                    <a:pt x="87" y="254"/>
                  </a:lnTo>
                  <a:lnTo>
                    <a:pt x="74" y="247"/>
                  </a:lnTo>
                  <a:lnTo>
                    <a:pt x="61" y="241"/>
                  </a:lnTo>
                  <a:lnTo>
                    <a:pt x="50" y="234"/>
                  </a:lnTo>
                  <a:lnTo>
                    <a:pt x="40" y="226"/>
                  </a:lnTo>
                  <a:lnTo>
                    <a:pt x="31" y="219"/>
                  </a:lnTo>
                  <a:lnTo>
                    <a:pt x="23" y="211"/>
                  </a:lnTo>
                  <a:lnTo>
                    <a:pt x="16" y="204"/>
                  </a:lnTo>
                  <a:lnTo>
                    <a:pt x="10" y="196"/>
                  </a:lnTo>
                  <a:lnTo>
                    <a:pt x="6" y="188"/>
                  </a:lnTo>
                  <a:lnTo>
                    <a:pt x="2" y="179"/>
                  </a:lnTo>
                  <a:lnTo>
                    <a:pt x="0" y="171"/>
                  </a:lnTo>
                  <a:lnTo>
                    <a:pt x="0" y="162"/>
                  </a:lnTo>
                  <a:close/>
                  <a:moveTo>
                    <a:pt x="6" y="170"/>
                  </a:moveTo>
                  <a:lnTo>
                    <a:pt x="8" y="178"/>
                  </a:lnTo>
                  <a:lnTo>
                    <a:pt x="11" y="186"/>
                  </a:lnTo>
                  <a:lnTo>
                    <a:pt x="15" y="194"/>
                  </a:lnTo>
                  <a:lnTo>
                    <a:pt x="20" y="201"/>
                  </a:lnTo>
                  <a:lnTo>
                    <a:pt x="27" y="209"/>
                  </a:lnTo>
                  <a:lnTo>
                    <a:pt x="35" y="216"/>
                  </a:lnTo>
                  <a:lnTo>
                    <a:pt x="44" y="223"/>
                  </a:lnTo>
                  <a:lnTo>
                    <a:pt x="54" y="230"/>
                  </a:lnTo>
                  <a:lnTo>
                    <a:pt x="65" y="237"/>
                  </a:lnTo>
                  <a:lnTo>
                    <a:pt x="77" y="244"/>
                  </a:lnTo>
                  <a:lnTo>
                    <a:pt x="90" y="250"/>
                  </a:lnTo>
                  <a:lnTo>
                    <a:pt x="104" y="256"/>
                  </a:lnTo>
                  <a:lnTo>
                    <a:pt x="118" y="262"/>
                  </a:lnTo>
                  <a:lnTo>
                    <a:pt x="134" y="268"/>
                  </a:lnTo>
                  <a:lnTo>
                    <a:pt x="151" y="274"/>
                  </a:lnTo>
                  <a:lnTo>
                    <a:pt x="168" y="279"/>
                  </a:lnTo>
                  <a:lnTo>
                    <a:pt x="186" y="284"/>
                  </a:lnTo>
                  <a:lnTo>
                    <a:pt x="205" y="289"/>
                  </a:lnTo>
                  <a:lnTo>
                    <a:pt x="225" y="293"/>
                  </a:lnTo>
                  <a:lnTo>
                    <a:pt x="245" y="297"/>
                  </a:lnTo>
                  <a:lnTo>
                    <a:pt x="266" y="301"/>
                  </a:lnTo>
                  <a:lnTo>
                    <a:pt x="288" y="305"/>
                  </a:lnTo>
                  <a:lnTo>
                    <a:pt x="310" y="308"/>
                  </a:lnTo>
                  <a:lnTo>
                    <a:pt x="333" y="311"/>
                  </a:lnTo>
                  <a:lnTo>
                    <a:pt x="356" y="313"/>
                  </a:lnTo>
                  <a:lnTo>
                    <a:pt x="380" y="316"/>
                  </a:lnTo>
                  <a:lnTo>
                    <a:pt x="404" y="317"/>
                  </a:lnTo>
                  <a:lnTo>
                    <a:pt x="429" y="319"/>
                  </a:lnTo>
                  <a:lnTo>
                    <a:pt x="454" y="320"/>
                  </a:lnTo>
                  <a:lnTo>
                    <a:pt x="480" y="320"/>
                  </a:lnTo>
                  <a:lnTo>
                    <a:pt x="505" y="321"/>
                  </a:lnTo>
                  <a:lnTo>
                    <a:pt x="531" y="320"/>
                  </a:lnTo>
                  <a:lnTo>
                    <a:pt x="557" y="320"/>
                  </a:lnTo>
                  <a:lnTo>
                    <a:pt x="582" y="319"/>
                  </a:lnTo>
                  <a:lnTo>
                    <a:pt x="607" y="317"/>
                  </a:lnTo>
                  <a:lnTo>
                    <a:pt x="631" y="316"/>
                  </a:lnTo>
                  <a:lnTo>
                    <a:pt x="655" y="313"/>
                  </a:lnTo>
                  <a:lnTo>
                    <a:pt x="678" y="311"/>
                  </a:lnTo>
                  <a:lnTo>
                    <a:pt x="701" y="308"/>
                  </a:lnTo>
                  <a:lnTo>
                    <a:pt x="723" y="305"/>
                  </a:lnTo>
                  <a:lnTo>
                    <a:pt x="745" y="301"/>
                  </a:lnTo>
                  <a:lnTo>
                    <a:pt x="766" y="297"/>
                  </a:lnTo>
                  <a:lnTo>
                    <a:pt x="786" y="293"/>
                  </a:lnTo>
                  <a:lnTo>
                    <a:pt x="806" y="289"/>
                  </a:lnTo>
                  <a:lnTo>
                    <a:pt x="824" y="284"/>
                  </a:lnTo>
                  <a:lnTo>
                    <a:pt x="843" y="279"/>
                  </a:lnTo>
                  <a:lnTo>
                    <a:pt x="860" y="274"/>
                  </a:lnTo>
                  <a:lnTo>
                    <a:pt x="877" y="268"/>
                  </a:lnTo>
                  <a:lnTo>
                    <a:pt x="892" y="262"/>
                  </a:lnTo>
                  <a:lnTo>
                    <a:pt x="907" y="256"/>
                  </a:lnTo>
                  <a:lnTo>
                    <a:pt x="921" y="250"/>
                  </a:lnTo>
                  <a:lnTo>
                    <a:pt x="934" y="244"/>
                  </a:lnTo>
                  <a:lnTo>
                    <a:pt x="946" y="237"/>
                  </a:lnTo>
                  <a:lnTo>
                    <a:pt x="957" y="230"/>
                  </a:lnTo>
                  <a:lnTo>
                    <a:pt x="967" y="223"/>
                  </a:lnTo>
                  <a:lnTo>
                    <a:pt x="976" y="216"/>
                  </a:lnTo>
                  <a:lnTo>
                    <a:pt x="984" y="209"/>
                  </a:lnTo>
                  <a:lnTo>
                    <a:pt x="990" y="201"/>
                  </a:lnTo>
                  <a:lnTo>
                    <a:pt x="996" y="194"/>
                  </a:lnTo>
                  <a:lnTo>
                    <a:pt x="1000" y="186"/>
                  </a:lnTo>
                  <a:lnTo>
                    <a:pt x="1003" y="178"/>
                  </a:lnTo>
                  <a:lnTo>
                    <a:pt x="1005" y="170"/>
                  </a:lnTo>
                  <a:lnTo>
                    <a:pt x="1006" y="162"/>
                  </a:lnTo>
                  <a:lnTo>
                    <a:pt x="1005" y="154"/>
                  </a:lnTo>
                  <a:lnTo>
                    <a:pt x="1003" y="147"/>
                  </a:lnTo>
                  <a:lnTo>
                    <a:pt x="1000" y="139"/>
                  </a:lnTo>
                  <a:lnTo>
                    <a:pt x="996" y="131"/>
                  </a:lnTo>
                  <a:lnTo>
                    <a:pt x="990" y="123"/>
                  </a:lnTo>
                  <a:lnTo>
                    <a:pt x="984" y="116"/>
                  </a:lnTo>
                  <a:lnTo>
                    <a:pt x="976" y="109"/>
                  </a:lnTo>
                  <a:lnTo>
                    <a:pt x="967" y="101"/>
                  </a:lnTo>
                  <a:lnTo>
                    <a:pt x="957" y="94"/>
                  </a:lnTo>
                  <a:lnTo>
                    <a:pt x="946" y="88"/>
                  </a:lnTo>
                  <a:lnTo>
                    <a:pt x="934" y="81"/>
                  </a:lnTo>
                  <a:lnTo>
                    <a:pt x="921" y="75"/>
                  </a:lnTo>
                  <a:lnTo>
                    <a:pt x="907" y="68"/>
                  </a:lnTo>
                  <a:lnTo>
                    <a:pt x="892" y="62"/>
                  </a:lnTo>
                  <a:lnTo>
                    <a:pt x="877" y="56"/>
                  </a:lnTo>
                  <a:lnTo>
                    <a:pt x="860" y="51"/>
                  </a:lnTo>
                  <a:lnTo>
                    <a:pt x="843" y="46"/>
                  </a:lnTo>
                  <a:lnTo>
                    <a:pt x="825" y="41"/>
                  </a:lnTo>
                  <a:lnTo>
                    <a:pt x="806" y="36"/>
                  </a:lnTo>
                  <a:lnTo>
                    <a:pt x="786" y="31"/>
                  </a:lnTo>
                  <a:lnTo>
                    <a:pt x="766" y="27"/>
                  </a:lnTo>
                  <a:lnTo>
                    <a:pt x="745" y="23"/>
                  </a:lnTo>
                  <a:lnTo>
                    <a:pt x="723" y="20"/>
                  </a:lnTo>
                  <a:lnTo>
                    <a:pt x="701" y="17"/>
                  </a:lnTo>
                  <a:lnTo>
                    <a:pt x="678" y="14"/>
                  </a:lnTo>
                  <a:lnTo>
                    <a:pt x="655" y="11"/>
                  </a:lnTo>
                  <a:lnTo>
                    <a:pt x="631" y="9"/>
                  </a:lnTo>
                  <a:lnTo>
                    <a:pt x="607" y="7"/>
                  </a:lnTo>
                  <a:lnTo>
                    <a:pt x="582" y="6"/>
                  </a:lnTo>
                  <a:lnTo>
                    <a:pt x="557" y="5"/>
                  </a:lnTo>
                  <a:lnTo>
                    <a:pt x="531" y="4"/>
                  </a:lnTo>
                  <a:lnTo>
                    <a:pt x="505" y="4"/>
                  </a:lnTo>
                  <a:lnTo>
                    <a:pt x="480" y="4"/>
                  </a:lnTo>
                  <a:lnTo>
                    <a:pt x="454" y="5"/>
                  </a:lnTo>
                  <a:lnTo>
                    <a:pt x="429" y="6"/>
                  </a:lnTo>
                  <a:lnTo>
                    <a:pt x="404" y="7"/>
                  </a:lnTo>
                  <a:lnTo>
                    <a:pt x="380" y="9"/>
                  </a:lnTo>
                  <a:lnTo>
                    <a:pt x="356" y="11"/>
                  </a:lnTo>
                  <a:lnTo>
                    <a:pt x="333" y="14"/>
                  </a:lnTo>
                  <a:lnTo>
                    <a:pt x="310" y="17"/>
                  </a:lnTo>
                  <a:lnTo>
                    <a:pt x="288" y="20"/>
                  </a:lnTo>
                  <a:lnTo>
                    <a:pt x="266" y="23"/>
                  </a:lnTo>
                  <a:lnTo>
                    <a:pt x="245" y="27"/>
                  </a:lnTo>
                  <a:lnTo>
                    <a:pt x="225" y="31"/>
                  </a:lnTo>
                  <a:lnTo>
                    <a:pt x="205" y="36"/>
                  </a:lnTo>
                  <a:lnTo>
                    <a:pt x="186" y="41"/>
                  </a:lnTo>
                  <a:lnTo>
                    <a:pt x="168" y="46"/>
                  </a:lnTo>
                  <a:lnTo>
                    <a:pt x="151" y="51"/>
                  </a:lnTo>
                  <a:lnTo>
                    <a:pt x="134" y="56"/>
                  </a:lnTo>
                  <a:lnTo>
                    <a:pt x="118" y="62"/>
                  </a:lnTo>
                  <a:lnTo>
                    <a:pt x="104" y="68"/>
                  </a:lnTo>
                  <a:lnTo>
                    <a:pt x="90" y="74"/>
                  </a:lnTo>
                  <a:lnTo>
                    <a:pt x="77" y="81"/>
                  </a:lnTo>
                  <a:lnTo>
                    <a:pt x="65" y="88"/>
                  </a:lnTo>
                  <a:lnTo>
                    <a:pt x="54" y="94"/>
                  </a:lnTo>
                  <a:lnTo>
                    <a:pt x="44" y="101"/>
                  </a:lnTo>
                  <a:lnTo>
                    <a:pt x="35" y="109"/>
                  </a:lnTo>
                  <a:lnTo>
                    <a:pt x="27" y="116"/>
                  </a:lnTo>
                  <a:lnTo>
                    <a:pt x="21" y="123"/>
                  </a:lnTo>
                  <a:lnTo>
                    <a:pt x="15" y="131"/>
                  </a:lnTo>
                  <a:lnTo>
                    <a:pt x="11" y="139"/>
                  </a:lnTo>
                  <a:lnTo>
                    <a:pt x="8" y="146"/>
                  </a:lnTo>
                  <a:lnTo>
                    <a:pt x="6" y="154"/>
                  </a:lnTo>
                  <a:lnTo>
                    <a:pt x="5" y="162"/>
                  </a:lnTo>
                  <a:lnTo>
                    <a:pt x="6" y="170"/>
                  </a:lnTo>
                  <a:close/>
                </a:path>
              </a:pathLst>
            </a:custGeom>
            <a:solidFill>
              <a:srgbClr val="c794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Rectangle 69"/>
            <p:cNvSpPr/>
            <p:nvPr/>
          </p:nvSpPr>
          <p:spPr>
            <a:xfrm>
              <a:off x="2584440" y="3717720"/>
              <a:ext cx="92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16489f"/>
                  </a:solidFill>
                  <a:latin typeface="Arial"/>
                  <a:ea typeface="Arial"/>
                </a:rPr>
                <a:t>Проект ЕФРР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71"/>
            <p:cNvSpPr/>
            <p:nvPr/>
          </p:nvSpPr>
          <p:spPr>
            <a:xfrm>
              <a:off x="5547960" y="3574080"/>
              <a:ext cx="1117800" cy="355320"/>
            </a:xfrm>
            <a:prstGeom prst="ellipse">
              <a:avLst/>
            </a:prstGeom>
            <a:solidFill>
              <a:srgbClr val="4a6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Freeform 72"/>
            <p:cNvSpPr/>
            <p:nvPr/>
          </p:nvSpPr>
          <p:spPr>
            <a:xfrm>
              <a:off x="5544720" y="3573360"/>
              <a:ext cx="1124280" cy="361080"/>
            </a:xfrm>
            <a:custGeom>
              <a:avLst/>
              <a:gdLst>
                <a:gd name="textAreaLeft" fmla="*/ 0 w 1124280"/>
                <a:gd name="textAreaRight" fmla="*/ 1124640 w 112428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1012" h="325">
                  <a:moveTo>
                    <a:pt x="0" y="162"/>
                  </a:moveTo>
                  <a:lnTo>
                    <a:pt x="1" y="154"/>
                  </a:lnTo>
                  <a:lnTo>
                    <a:pt x="3" y="146"/>
                  </a:lnTo>
                  <a:lnTo>
                    <a:pt x="6" y="137"/>
                  </a:lnTo>
                  <a:lnTo>
                    <a:pt x="11" y="129"/>
                  </a:lnTo>
                  <a:lnTo>
                    <a:pt x="17" y="121"/>
                  </a:lnTo>
                  <a:lnTo>
                    <a:pt x="24" y="113"/>
                  </a:lnTo>
                  <a:lnTo>
                    <a:pt x="32" y="106"/>
                  </a:lnTo>
                  <a:lnTo>
                    <a:pt x="41" y="98"/>
                  </a:lnTo>
                  <a:lnTo>
                    <a:pt x="51" y="91"/>
                  </a:lnTo>
                  <a:lnTo>
                    <a:pt x="62" y="84"/>
                  </a:lnTo>
                  <a:lnTo>
                    <a:pt x="74" y="77"/>
                  </a:lnTo>
                  <a:lnTo>
                    <a:pt x="88" y="71"/>
                  </a:lnTo>
                  <a:lnTo>
                    <a:pt x="102" y="64"/>
                  </a:lnTo>
                  <a:lnTo>
                    <a:pt x="117" y="58"/>
                  </a:lnTo>
                  <a:lnTo>
                    <a:pt x="133" y="53"/>
                  </a:lnTo>
                  <a:lnTo>
                    <a:pt x="149" y="47"/>
                  </a:lnTo>
                  <a:lnTo>
                    <a:pt x="167" y="42"/>
                  </a:lnTo>
                  <a:lnTo>
                    <a:pt x="185" y="37"/>
                  </a:lnTo>
                  <a:lnTo>
                    <a:pt x="204" y="32"/>
                  </a:lnTo>
                  <a:lnTo>
                    <a:pt x="224" y="27"/>
                  </a:lnTo>
                  <a:lnTo>
                    <a:pt x="245" y="23"/>
                  </a:lnTo>
                  <a:lnTo>
                    <a:pt x="266" y="19"/>
                  </a:lnTo>
                  <a:lnTo>
                    <a:pt x="287" y="16"/>
                  </a:lnTo>
                  <a:lnTo>
                    <a:pt x="310" y="12"/>
                  </a:lnTo>
                  <a:lnTo>
                    <a:pt x="333" y="9"/>
                  </a:lnTo>
                  <a:lnTo>
                    <a:pt x="356" y="7"/>
                  </a:lnTo>
                  <a:lnTo>
                    <a:pt x="380" y="5"/>
                  </a:lnTo>
                  <a:lnTo>
                    <a:pt x="405" y="3"/>
                  </a:lnTo>
                  <a:lnTo>
                    <a:pt x="429" y="2"/>
                  </a:lnTo>
                  <a:lnTo>
                    <a:pt x="455" y="1"/>
                  </a:lnTo>
                  <a:lnTo>
                    <a:pt x="480" y="0"/>
                  </a:lnTo>
                  <a:lnTo>
                    <a:pt x="506" y="0"/>
                  </a:lnTo>
                  <a:lnTo>
                    <a:pt x="532" y="0"/>
                  </a:lnTo>
                  <a:lnTo>
                    <a:pt x="558" y="1"/>
                  </a:lnTo>
                  <a:lnTo>
                    <a:pt x="583" y="2"/>
                  </a:lnTo>
                  <a:lnTo>
                    <a:pt x="608" y="3"/>
                  </a:lnTo>
                  <a:lnTo>
                    <a:pt x="632" y="5"/>
                  </a:lnTo>
                  <a:lnTo>
                    <a:pt x="656" y="7"/>
                  </a:lnTo>
                  <a:lnTo>
                    <a:pt x="679" y="9"/>
                  </a:lnTo>
                  <a:lnTo>
                    <a:pt x="702" y="12"/>
                  </a:lnTo>
                  <a:lnTo>
                    <a:pt x="725" y="16"/>
                  </a:lnTo>
                  <a:lnTo>
                    <a:pt x="746" y="19"/>
                  </a:lnTo>
                  <a:lnTo>
                    <a:pt x="768" y="23"/>
                  </a:lnTo>
                  <a:lnTo>
                    <a:pt x="788" y="27"/>
                  </a:lnTo>
                  <a:lnTo>
                    <a:pt x="808" y="32"/>
                  </a:lnTo>
                  <a:lnTo>
                    <a:pt x="827" y="37"/>
                  </a:lnTo>
                  <a:lnTo>
                    <a:pt x="845" y="41"/>
                  </a:lnTo>
                  <a:lnTo>
                    <a:pt x="863" y="47"/>
                  </a:lnTo>
                  <a:lnTo>
                    <a:pt x="880" y="52"/>
                  </a:lnTo>
                  <a:lnTo>
                    <a:pt x="895" y="58"/>
                  </a:lnTo>
                  <a:lnTo>
                    <a:pt x="910" y="64"/>
                  </a:lnTo>
                  <a:lnTo>
                    <a:pt x="925" y="71"/>
                  </a:lnTo>
                  <a:lnTo>
                    <a:pt x="938" y="77"/>
                  </a:lnTo>
                  <a:lnTo>
                    <a:pt x="950" y="84"/>
                  </a:lnTo>
                  <a:lnTo>
                    <a:pt x="961" y="91"/>
                  </a:lnTo>
                  <a:lnTo>
                    <a:pt x="972" y="98"/>
                  </a:lnTo>
                  <a:lnTo>
                    <a:pt x="981" y="106"/>
                  </a:lnTo>
                  <a:lnTo>
                    <a:pt x="989" y="113"/>
                  </a:lnTo>
                  <a:lnTo>
                    <a:pt x="996" y="121"/>
                  </a:lnTo>
                  <a:lnTo>
                    <a:pt x="1001" y="129"/>
                  </a:lnTo>
                  <a:lnTo>
                    <a:pt x="1006" y="137"/>
                  </a:lnTo>
                  <a:lnTo>
                    <a:pt x="1009" y="145"/>
                  </a:lnTo>
                  <a:lnTo>
                    <a:pt x="1011" y="154"/>
                  </a:lnTo>
                  <a:lnTo>
                    <a:pt x="1012" y="162"/>
                  </a:lnTo>
                  <a:lnTo>
                    <a:pt x="1011" y="171"/>
                  </a:lnTo>
                  <a:lnTo>
                    <a:pt x="1009" y="179"/>
                  </a:lnTo>
                  <a:lnTo>
                    <a:pt x="1006" y="187"/>
                  </a:lnTo>
                  <a:lnTo>
                    <a:pt x="1001" y="196"/>
                  </a:lnTo>
                  <a:lnTo>
                    <a:pt x="996" y="204"/>
                  </a:lnTo>
                  <a:lnTo>
                    <a:pt x="989" y="211"/>
                  </a:lnTo>
                  <a:lnTo>
                    <a:pt x="981" y="219"/>
                  </a:lnTo>
                  <a:lnTo>
                    <a:pt x="972" y="226"/>
                  </a:lnTo>
                  <a:lnTo>
                    <a:pt x="961" y="234"/>
                  </a:lnTo>
                  <a:lnTo>
                    <a:pt x="950" y="241"/>
                  </a:lnTo>
                  <a:lnTo>
                    <a:pt x="938" y="247"/>
                  </a:lnTo>
                  <a:lnTo>
                    <a:pt x="925" y="254"/>
                  </a:lnTo>
                  <a:lnTo>
                    <a:pt x="911" y="260"/>
                  </a:lnTo>
                  <a:lnTo>
                    <a:pt x="896" y="266"/>
                  </a:lnTo>
                  <a:lnTo>
                    <a:pt x="880" y="272"/>
                  </a:lnTo>
                  <a:lnTo>
                    <a:pt x="863" y="278"/>
                  </a:lnTo>
                  <a:lnTo>
                    <a:pt x="845" y="283"/>
                  </a:lnTo>
                  <a:lnTo>
                    <a:pt x="827" y="288"/>
                  </a:lnTo>
                  <a:lnTo>
                    <a:pt x="808" y="293"/>
                  </a:lnTo>
                  <a:lnTo>
                    <a:pt x="788" y="297"/>
                  </a:lnTo>
                  <a:lnTo>
                    <a:pt x="768" y="302"/>
                  </a:lnTo>
                  <a:lnTo>
                    <a:pt x="746" y="306"/>
                  </a:lnTo>
                  <a:lnTo>
                    <a:pt x="725" y="309"/>
                  </a:lnTo>
                  <a:lnTo>
                    <a:pt x="702" y="312"/>
                  </a:lnTo>
                  <a:lnTo>
                    <a:pt x="680" y="315"/>
                  </a:lnTo>
                  <a:lnTo>
                    <a:pt x="656" y="318"/>
                  </a:lnTo>
                  <a:lnTo>
                    <a:pt x="632" y="320"/>
                  </a:lnTo>
                  <a:lnTo>
                    <a:pt x="608" y="322"/>
                  </a:lnTo>
                  <a:lnTo>
                    <a:pt x="583" y="323"/>
                  </a:lnTo>
                  <a:lnTo>
                    <a:pt x="558" y="324"/>
                  </a:lnTo>
                  <a:lnTo>
                    <a:pt x="532" y="325"/>
                  </a:lnTo>
                  <a:lnTo>
                    <a:pt x="506" y="325"/>
                  </a:lnTo>
                  <a:lnTo>
                    <a:pt x="480" y="325"/>
                  </a:lnTo>
                  <a:lnTo>
                    <a:pt x="455" y="324"/>
                  </a:lnTo>
                  <a:lnTo>
                    <a:pt x="430" y="323"/>
                  </a:lnTo>
                  <a:lnTo>
                    <a:pt x="405" y="322"/>
                  </a:lnTo>
                  <a:lnTo>
                    <a:pt x="380" y="320"/>
                  </a:lnTo>
                  <a:lnTo>
                    <a:pt x="356" y="318"/>
                  </a:lnTo>
                  <a:lnTo>
                    <a:pt x="333" y="315"/>
                  </a:lnTo>
                  <a:lnTo>
                    <a:pt x="310" y="312"/>
                  </a:lnTo>
                  <a:lnTo>
                    <a:pt x="287" y="309"/>
                  </a:lnTo>
                  <a:lnTo>
                    <a:pt x="266" y="306"/>
                  </a:lnTo>
                  <a:lnTo>
                    <a:pt x="245" y="302"/>
                  </a:lnTo>
                  <a:lnTo>
                    <a:pt x="224" y="298"/>
                  </a:lnTo>
                  <a:lnTo>
                    <a:pt x="205" y="293"/>
                  </a:lnTo>
                  <a:lnTo>
                    <a:pt x="185" y="288"/>
                  </a:lnTo>
                  <a:lnTo>
                    <a:pt x="167" y="283"/>
                  </a:lnTo>
                  <a:lnTo>
                    <a:pt x="149" y="278"/>
                  </a:lnTo>
                  <a:lnTo>
                    <a:pt x="133" y="272"/>
                  </a:lnTo>
                  <a:lnTo>
                    <a:pt x="117" y="266"/>
                  </a:lnTo>
                  <a:lnTo>
                    <a:pt x="102" y="260"/>
                  </a:lnTo>
                  <a:lnTo>
                    <a:pt x="88" y="254"/>
                  </a:lnTo>
                  <a:lnTo>
                    <a:pt x="74" y="247"/>
                  </a:lnTo>
                  <a:lnTo>
                    <a:pt x="62" y="241"/>
                  </a:lnTo>
                  <a:lnTo>
                    <a:pt x="51" y="234"/>
                  </a:lnTo>
                  <a:lnTo>
                    <a:pt x="41" y="227"/>
                  </a:lnTo>
                  <a:lnTo>
                    <a:pt x="32" y="219"/>
                  </a:lnTo>
                  <a:lnTo>
                    <a:pt x="24" y="211"/>
                  </a:lnTo>
                  <a:lnTo>
                    <a:pt x="17" y="204"/>
                  </a:lnTo>
                  <a:lnTo>
                    <a:pt x="11" y="196"/>
                  </a:lnTo>
                  <a:lnTo>
                    <a:pt x="6" y="188"/>
                  </a:lnTo>
                  <a:lnTo>
                    <a:pt x="3" y="179"/>
                  </a:lnTo>
                  <a:lnTo>
                    <a:pt x="1" y="171"/>
                  </a:lnTo>
                  <a:lnTo>
                    <a:pt x="0" y="162"/>
                  </a:lnTo>
                  <a:close/>
                  <a:moveTo>
                    <a:pt x="6" y="170"/>
                  </a:moveTo>
                  <a:lnTo>
                    <a:pt x="8" y="178"/>
                  </a:lnTo>
                  <a:lnTo>
                    <a:pt x="12" y="186"/>
                  </a:lnTo>
                  <a:lnTo>
                    <a:pt x="16" y="194"/>
                  </a:lnTo>
                  <a:lnTo>
                    <a:pt x="21" y="201"/>
                  </a:lnTo>
                  <a:lnTo>
                    <a:pt x="28" y="209"/>
                  </a:lnTo>
                  <a:lnTo>
                    <a:pt x="36" y="216"/>
                  </a:lnTo>
                  <a:lnTo>
                    <a:pt x="45" y="223"/>
                  </a:lnTo>
                  <a:lnTo>
                    <a:pt x="54" y="230"/>
                  </a:lnTo>
                  <a:lnTo>
                    <a:pt x="65" y="237"/>
                  </a:lnTo>
                  <a:lnTo>
                    <a:pt x="77" y="244"/>
                  </a:lnTo>
                  <a:lnTo>
                    <a:pt x="90" y="250"/>
                  </a:lnTo>
                  <a:lnTo>
                    <a:pt x="104" y="257"/>
                  </a:lnTo>
                  <a:lnTo>
                    <a:pt x="119" y="263"/>
                  </a:lnTo>
                  <a:lnTo>
                    <a:pt x="135" y="268"/>
                  </a:lnTo>
                  <a:lnTo>
                    <a:pt x="151" y="274"/>
                  </a:lnTo>
                  <a:lnTo>
                    <a:pt x="169" y="279"/>
                  </a:lnTo>
                  <a:lnTo>
                    <a:pt x="187" y="284"/>
                  </a:lnTo>
                  <a:lnTo>
                    <a:pt x="206" y="289"/>
                  </a:lnTo>
                  <a:lnTo>
                    <a:pt x="225" y="293"/>
                  </a:lnTo>
                  <a:lnTo>
                    <a:pt x="246" y="297"/>
                  </a:lnTo>
                  <a:lnTo>
                    <a:pt x="267" y="301"/>
                  </a:lnTo>
                  <a:lnTo>
                    <a:pt x="289" y="305"/>
                  </a:lnTo>
                  <a:lnTo>
                    <a:pt x="311" y="308"/>
                  </a:lnTo>
                  <a:lnTo>
                    <a:pt x="334" y="311"/>
                  </a:lnTo>
                  <a:lnTo>
                    <a:pt x="357" y="313"/>
                  </a:lnTo>
                  <a:lnTo>
                    <a:pt x="381" y="316"/>
                  </a:lnTo>
                  <a:lnTo>
                    <a:pt x="405" y="317"/>
                  </a:lnTo>
                  <a:lnTo>
                    <a:pt x="430" y="319"/>
                  </a:lnTo>
                  <a:lnTo>
                    <a:pt x="455" y="320"/>
                  </a:lnTo>
                  <a:lnTo>
                    <a:pt x="480" y="320"/>
                  </a:lnTo>
                  <a:lnTo>
                    <a:pt x="506" y="321"/>
                  </a:lnTo>
                  <a:lnTo>
                    <a:pt x="532" y="320"/>
                  </a:lnTo>
                  <a:lnTo>
                    <a:pt x="557" y="320"/>
                  </a:lnTo>
                  <a:lnTo>
                    <a:pt x="583" y="319"/>
                  </a:lnTo>
                  <a:lnTo>
                    <a:pt x="607" y="317"/>
                  </a:lnTo>
                  <a:lnTo>
                    <a:pt x="631" y="316"/>
                  </a:lnTo>
                  <a:lnTo>
                    <a:pt x="655" y="313"/>
                  </a:lnTo>
                  <a:lnTo>
                    <a:pt x="679" y="311"/>
                  </a:lnTo>
                  <a:lnTo>
                    <a:pt x="702" y="308"/>
                  </a:lnTo>
                  <a:lnTo>
                    <a:pt x="724" y="305"/>
                  </a:lnTo>
                  <a:lnTo>
                    <a:pt x="745" y="301"/>
                  </a:lnTo>
                  <a:lnTo>
                    <a:pt x="766" y="297"/>
                  </a:lnTo>
                  <a:lnTo>
                    <a:pt x="787" y="293"/>
                  </a:lnTo>
                  <a:lnTo>
                    <a:pt x="806" y="289"/>
                  </a:lnTo>
                  <a:lnTo>
                    <a:pt x="825" y="284"/>
                  </a:lnTo>
                  <a:lnTo>
                    <a:pt x="843" y="279"/>
                  </a:lnTo>
                  <a:lnTo>
                    <a:pt x="861" y="274"/>
                  </a:lnTo>
                  <a:lnTo>
                    <a:pt x="877" y="268"/>
                  </a:lnTo>
                  <a:lnTo>
                    <a:pt x="893" y="263"/>
                  </a:lnTo>
                  <a:lnTo>
                    <a:pt x="908" y="257"/>
                  </a:lnTo>
                  <a:lnTo>
                    <a:pt x="922" y="250"/>
                  </a:lnTo>
                  <a:lnTo>
                    <a:pt x="935" y="244"/>
                  </a:lnTo>
                  <a:lnTo>
                    <a:pt x="947" y="237"/>
                  </a:lnTo>
                  <a:lnTo>
                    <a:pt x="958" y="230"/>
                  </a:lnTo>
                  <a:lnTo>
                    <a:pt x="968" y="223"/>
                  </a:lnTo>
                  <a:lnTo>
                    <a:pt x="977" y="216"/>
                  </a:lnTo>
                  <a:lnTo>
                    <a:pt x="984" y="209"/>
                  </a:lnTo>
                  <a:lnTo>
                    <a:pt x="991" y="201"/>
                  </a:lnTo>
                  <a:lnTo>
                    <a:pt x="996" y="194"/>
                  </a:lnTo>
                  <a:lnTo>
                    <a:pt x="1001" y="186"/>
                  </a:lnTo>
                  <a:lnTo>
                    <a:pt x="1004" y="178"/>
                  </a:lnTo>
                  <a:lnTo>
                    <a:pt x="1006" y="170"/>
                  </a:lnTo>
                  <a:lnTo>
                    <a:pt x="1006" y="162"/>
                  </a:lnTo>
                  <a:lnTo>
                    <a:pt x="1006" y="154"/>
                  </a:lnTo>
                  <a:lnTo>
                    <a:pt x="1004" y="147"/>
                  </a:lnTo>
                  <a:lnTo>
                    <a:pt x="1001" y="139"/>
                  </a:lnTo>
                  <a:lnTo>
                    <a:pt x="997" y="131"/>
                  </a:lnTo>
                  <a:lnTo>
                    <a:pt x="991" y="124"/>
                  </a:lnTo>
                  <a:lnTo>
                    <a:pt x="984" y="116"/>
                  </a:lnTo>
                  <a:lnTo>
                    <a:pt x="977" y="109"/>
                  </a:lnTo>
                  <a:lnTo>
                    <a:pt x="968" y="102"/>
                  </a:lnTo>
                  <a:lnTo>
                    <a:pt x="958" y="95"/>
                  </a:lnTo>
                  <a:lnTo>
                    <a:pt x="947" y="88"/>
                  </a:lnTo>
                  <a:lnTo>
                    <a:pt x="935" y="81"/>
                  </a:lnTo>
                  <a:lnTo>
                    <a:pt x="922" y="75"/>
                  </a:lnTo>
                  <a:lnTo>
                    <a:pt x="908" y="68"/>
                  </a:lnTo>
                  <a:lnTo>
                    <a:pt x="893" y="62"/>
                  </a:lnTo>
                  <a:lnTo>
                    <a:pt x="877" y="57"/>
                  </a:lnTo>
                  <a:lnTo>
                    <a:pt x="861" y="51"/>
                  </a:lnTo>
                  <a:lnTo>
                    <a:pt x="844" y="46"/>
                  </a:lnTo>
                  <a:lnTo>
                    <a:pt x="825" y="41"/>
                  </a:lnTo>
                  <a:lnTo>
                    <a:pt x="806" y="36"/>
                  </a:lnTo>
                  <a:lnTo>
                    <a:pt x="787" y="31"/>
                  </a:lnTo>
                  <a:lnTo>
                    <a:pt x="766" y="27"/>
                  </a:lnTo>
                  <a:lnTo>
                    <a:pt x="745" y="23"/>
                  </a:lnTo>
                  <a:lnTo>
                    <a:pt x="724" y="20"/>
                  </a:lnTo>
                  <a:lnTo>
                    <a:pt x="702" y="17"/>
                  </a:lnTo>
                  <a:lnTo>
                    <a:pt x="679" y="14"/>
                  </a:lnTo>
                  <a:lnTo>
                    <a:pt x="655" y="11"/>
                  </a:lnTo>
                  <a:lnTo>
                    <a:pt x="632" y="9"/>
                  </a:lnTo>
                  <a:lnTo>
                    <a:pt x="607" y="7"/>
                  </a:lnTo>
                  <a:lnTo>
                    <a:pt x="583" y="6"/>
                  </a:lnTo>
                  <a:lnTo>
                    <a:pt x="557" y="5"/>
                  </a:lnTo>
                  <a:lnTo>
                    <a:pt x="532" y="4"/>
                  </a:lnTo>
                  <a:lnTo>
                    <a:pt x="506" y="4"/>
                  </a:lnTo>
                  <a:lnTo>
                    <a:pt x="480" y="4"/>
                  </a:lnTo>
                  <a:lnTo>
                    <a:pt x="455" y="5"/>
                  </a:lnTo>
                  <a:lnTo>
                    <a:pt x="430" y="6"/>
                  </a:lnTo>
                  <a:lnTo>
                    <a:pt x="405" y="7"/>
                  </a:lnTo>
                  <a:lnTo>
                    <a:pt x="381" y="9"/>
                  </a:lnTo>
                  <a:lnTo>
                    <a:pt x="357" y="11"/>
                  </a:lnTo>
                  <a:lnTo>
                    <a:pt x="334" y="14"/>
                  </a:lnTo>
                  <a:lnTo>
                    <a:pt x="311" y="17"/>
                  </a:lnTo>
                  <a:lnTo>
                    <a:pt x="289" y="20"/>
                  </a:lnTo>
                  <a:lnTo>
                    <a:pt x="267" y="23"/>
                  </a:lnTo>
                  <a:lnTo>
                    <a:pt x="246" y="27"/>
                  </a:lnTo>
                  <a:lnTo>
                    <a:pt x="226" y="31"/>
                  </a:lnTo>
                  <a:lnTo>
                    <a:pt x="206" y="36"/>
                  </a:lnTo>
                  <a:lnTo>
                    <a:pt x="187" y="41"/>
                  </a:lnTo>
                  <a:lnTo>
                    <a:pt x="169" y="46"/>
                  </a:lnTo>
                  <a:lnTo>
                    <a:pt x="151" y="51"/>
                  </a:lnTo>
                  <a:lnTo>
                    <a:pt x="135" y="56"/>
                  </a:lnTo>
                  <a:lnTo>
                    <a:pt x="119" y="62"/>
                  </a:lnTo>
                  <a:lnTo>
                    <a:pt x="104" y="68"/>
                  </a:lnTo>
                  <a:lnTo>
                    <a:pt x="91" y="75"/>
                  </a:lnTo>
                  <a:lnTo>
                    <a:pt x="77" y="81"/>
                  </a:lnTo>
                  <a:lnTo>
                    <a:pt x="65" y="88"/>
                  </a:lnTo>
                  <a:lnTo>
                    <a:pt x="55" y="94"/>
                  </a:lnTo>
                  <a:lnTo>
                    <a:pt x="45" y="102"/>
                  </a:lnTo>
                  <a:lnTo>
                    <a:pt x="36" y="109"/>
                  </a:lnTo>
                  <a:lnTo>
                    <a:pt x="28" y="116"/>
                  </a:lnTo>
                  <a:lnTo>
                    <a:pt x="21" y="123"/>
                  </a:lnTo>
                  <a:lnTo>
                    <a:pt x="16" y="131"/>
                  </a:lnTo>
                  <a:lnTo>
                    <a:pt x="12" y="139"/>
                  </a:lnTo>
                  <a:lnTo>
                    <a:pt x="9" y="146"/>
                  </a:lnTo>
                  <a:lnTo>
                    <a:pt x="6" y="154"/>
                  </a:lnTo>
                  <a:lnTo>
                    <a:pt x="6" y="162"/>
                  </a:lnTo>
                  <a:lnTo>
                    <a:pt x="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Rectangle 73"/>
            <p:cNvSpPr/>
            <p:nvPr/>
          </p:nvSpPr>
          <p:spPr>
            <a:xfrm>
              <a:off x="5686560" y="3656520"/>
              <a:ext cx="84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роект ЕСФ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Freeform 75"/>
            <p:cNvSpPr/>
            <p:nvPr/>
          </p:nvSpPr>
          <p:spPr>
            <a:xfrm>
              <a:off x="4796640" y="4359240"/>
              <a:ext cx="51120" cy="21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46" h="192">
                  <a:moveTo>
                    <a:pt x="25" y="192"/>
                  </a:moveTo>
                  <a:lnTo>
                    <a:pt x="26" y="30"/>
                  </a:lnTo>
                  <a:lnTo>
                    <a:pt x="20" y="30"/>
                  </a:lnTo>
                  <a:lnTo>
                    <a:pt x="19" y="192"/>
                  </a:lnTo>
                  <a:lnTo>
                    <a:pt x="25" y="192"/>
                  </a:lnTo>
                  <a:close/>
                  <a:moveTo>
                    <a:pt x="46" y="37"/>
                  </a:moveTo>
                  <a:lnTo>
                    <a:pt x="23" y="0"/>
                  </a:lnTo>
                  <a:lnTo>
                    <a:pt x="0" y="36"/>
                  </a:lnTo>
                  <a:lnTo>
                    <a:pt x="46" y="37"/>
                  </a:lnTo>
                  <a:close/>
                </a:path>
              </a:pathLst>
            </a:custGeom>
            <a:solidFill>
              <a:srgbClr val="99ccff"/>
            </a:solidFill>
            <a:ln w="0">
              <a:solidFill>
                <a:srgbClr val="99cc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3" name="Rectangle 60"/>
          <p:cNvSpPr/>
          <p:nvPr/>
        </p:nvSpPr>
        <p:spPr>
          <a:xfrm>
            <a:off x="4212720" y="4162320"/>
            <a:ext cx="94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16489f"/>
                </a:solidFill>
                <a:latin typeface="Arial"/>
                <a:ea typeface="Arial"/>
              </a:rPr>
              <a:t>сътрудничество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Title 1" descr=""/>
          <p:cNvPicPr/>
          <p:nvPr/>
        </p:nvPicPr>
        <p:blipFill>
          <a:blip r:embed="rId1"/>
          <a:stretch/>
        </p:blipFill>
        <p:spPr>
          <a:xfrm>
            <a:off x="176040" y="55440"/>
            <a:ext cx="6553440" cy="131616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 txBox="1"/>
          <p:nvPr/>
        </p:nvSpPr>
        <p:spPr>
          <a:xfrm>
            <a:off x="395280" y="1773360"/>
            <a:ext cx="8640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Структура за прилагане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тговорен управляващ орган – УО на ПР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омощ за подготвителни дейности – финансира се от ЕЗФРСР (ЕФМД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ътрудничество – финансиране се от ЕЗФР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перации в рамките на стратегия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	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и финансиране от повече от един фонд се определя водещ фон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	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в комисията за избор на стратегии участват представители на всички финансиращи У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	</a:t>
            </a: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изпълнението се осъществява спрямо правилата на всяка от финансиращите прог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18077b"/>
                </a:solidFill>
                <a:latin typeface="Calibri"/>
              </a:rPr>
              <a:t>Одобряване на стратегии </a:t>
            </a:r>
            <a:r>
              <a:rPr b="0" lang="bg-BG" sz="2200" spc="-1" strike="noStrike">
                <a:solidFill>
                  <a:srgbClr val="18077b"/>
                </a:solidFill>
                <a:latin typeface="Calibri"/>
              </a:rPr>
              <a:t>– до 31 декември 2017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Title 1" descr=""/>
          <p:cNvPicPr/>
          <p:nvPr/>
        </p:nvPicPr>
        <p:blipFill>
          <a:blip r:embed="rId1"/>
          <a:stretch/>
        </p:blipFill>
        <p:spPr>
          <a:xfrm>
            <a:off x="536400" y="189000"/>
            <a:ext cx="7388280" cy="96984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937800" y="154260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5" descr="C:\Users\m.penevska\AppData\Local\Microsoft\Windows\Temporary Internet Files\Content.IE5\TEGBP4NL\MP900385344[1].jpg"/>
          <p:cNvPicPr/>
          <p:nvPr/>
        </p:nvPicPr>
        <p:blipFill>
          <a:blip r:embed="rId3"/>
          <a:stretch/>
        </p:blipFill>
        <p:spPr>
          <a:xfrm>
            <a:off x="395280" y="1197000"/>
            <a:ext cx="84247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Title 1" descr=""/>
          <p:cNvPicPr/>
          <p:nvPr/>
        </p:nvPicPr>
        <p:blipFill>
          <a:blip r:embed="rId1"/>
          <a:stretch/>
        </p:blipFill>
        <p:spPr>
          <a:xfrm>
            <a:off x="463680" y="-19080"/>
            <a:ext cx="5406840" cy="1317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 txBox="1"/>
          <p:nvPr/>
        </p:nvSpPr>
        <p:spPr>
          <a:xfrm>
            <a:off x="395280" y="1557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Въз основа на интегрирани планове за градско възстановяване и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За развитие на дефинирани опорни центрове на расте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Инвестиции 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общинска образователна и социална инфраструктура, развитие на спортната и културната инфраструк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енергийна ефективност на многофамилни жилищни сгради и административни сгради на държавната и общинска администр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регенерация и обновяване на стари промишлени зони в градов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функционални връзки със съседни населени места, които представляват част от системата на обществения градски транспо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18077b"/>
                </a:solidFill>
                <a:latin typeface="Calibri"/>
              </a:rPr>
              <a:t>Фокусиране върху зони за въздействие в градов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Социални з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Зони с публични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Зони с потенциал за икономическо въздейств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 txBox="1"/>
          <p:nvPr/>
        </p:nvSpPr>
        <p:spPr>
          <a:xfrm>
            <a:off x="468360" y="169992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18077b"/>
                </a:solidFill>
                <a:latin typeface="Calibri"/>
              </a:rPr>
              <a:t>Интегриран подход, насочен към географски региони/групи със специфични нужди и демографски предизвикателст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продължаващо прилагане на мерки за конкретни територии със специфики в различието, например периферните и планинските области; определяне и финансиране на предварително определени проекти с водещо регионално значение, в т.ч. по Дунавската стратегия н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диференциация на условията на подкрепа спрямо целевите групи и/или територии (размер на съфинансиране, допълнителна тежест при оценката, други мерки за насърчаване включването на изостанали райони или групи в неравностойно полож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 algn="just">
              <a:lnSpc>
                <a:spcPct val="90000"/>
              </a:lnSpc>
              <a:spcBef>
                <a:spcPts val="499"/>
              </a:spcBef>
              <a:buClr>
                <a:srgbClr val="18077b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18077b"/>
                </a:solidFill>
                <a:latin typeface="Calibri"/>
              </a:rPr>
              <a:t>финансиране на всички типове инфраструктура след детайлно обоснована приоритизация, която отчита както секторното, така и териториалното развит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2" name="Title 1" descr=""/>
          <p:cNvPicPr/>
          <p:nvPr/>
        </p:nvPicPr>
        <p:blipFill>
          <a:blip r:embed="rId1"/>
          <a:stretch/>
        </p:blipFill>
        <p:spPr>
          <a:xfrm>
            <a:off x="219240" y="55440"/>
            <a:ext cx="4906800" cy="13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1"/>
          <p:cNvSpPr/>
          <p:nvPr/>
        </p:nvSpPr>
        <p:spPr>
          <a:xfrm>
            <a:off x="539640" y="1773360"/>
            <a:ext cx="7848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18077b"/>
                </a:solidFill>
                <a:latin typeface="Arial"/>
              </a:rPr>
              <a:t> </a:t>
            </a:r>
            <a:r>
              <a:rPr b="1" lang="bg-BG" sz="3600" spc="-1" strike="noStrike">
                <a:solidFill>
                  <a:srgbClr val="18077b"/>
                </a:solidFill>
                <a:latin typeface="Calibri"/>
              </a:rPr>
              <a:t>Благодаря за вниманието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4" name="Picture 4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69134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Title 1" descr=""/>
          <p:cNvPicPr/>
          <p:nvPr/>
        </p:nvPicPr>
        <p:blipFill>
          <a:blip r:embed="rId1"/>
          <a:stretch/>
        </p:blipFill>
        <p:spPr>
          <a:xfrm>
            <a:off x="281160" y="285840"/>
            <a:ext cx="6089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3" name="Object 10"/>
          <p:cNvGraphicFramePr/>
          <p:nvPr/>
        </p:nvGraphicFramePr>
        <p:xfrm>
          <a:off x="611280" y="1052640"/>
          <a:ext cx="8281800" cy="54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052640"/>
                    <a:ext cx="82818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1219320" y="4220640"/>
            <a:ext cx="7238880" cy="10256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8077b"/>
                </a:solidFill>
                <a:latin typeface="Calibri"/>
              </a:rPr>
              <a:t>ОСНОВНИ ПОТРЕБНОСТИ ЗА РАЗВИТИЕ И ПРИОРИТЕТИ ЗА ФИНАНСИРАНЕ</a:t>
            </a:r>
            <a:endParaRPr b="0" lang="en-US" sz="30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Dora</cp:lastModifiedBy>
  <cp:lastPrinted>2014-09-03T14:32:50Z</cp:lastPrinted>
  <dcterms:modified xsi:type="dcterms:W3CDTF">2014-10-02T13:59:47Z</dcterms:modified>
  <cp:revision>749</cp:revision>
  <dc:subject/>
  <dc:title>Slide 1</dc:title>
</cp:coreProperties>
</file>