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170E-766D-4FBE-A408-D17E3F96DB8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26A2-8E70-4A22-8FC0-1E74FA7462D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0FD7-2C69-4784-BA0A-146494E09F8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8C7F-9CF6-4740-8AED-427AB8E59B9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 Според информация, осигурена от областните управители и кметовете на общините от ЮЦР, броят на рехабилитираните образователни и социални институции в района през 2013 г. общо е 179 бр. Най-голям брой рехабилитации през изминалата година са извършени в областите Пловдив (95 бр.) и Пазарджик  (43 бр). Следват областите Хасково (16 бр.), Смолян (15 бр.) и Кърджали (10 б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ll Times New Roman"/>
                <a:ea typeface="Times New Roman"/>
              </a:rPr>
              <a:t>2.Според информация, осигурена от областните управители и кметовете на общините от ЮЦР броят на рехабилитираните здравни институции в ЮЦР през 2013 г. общо са 13. Най-голям брой рехабилитации през изминалата година са извършени в област Пловдив (5 бр.). Следват областите Пазарджик  (3 бр), Хасково (3 бр.), и Кърджали (2 бр.). В област Смолян няма рехабилитирано здравно завед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CB43-C1A3-4823-94D6-F47BB0993D9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57B-C2A2-4B77-A287-6B1F238BC94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9BA-6872-4379-BAA4-33DF829C173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9B1-86D0-4248-9F43-FFB6573E544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A929-74B6-40A8-9593-AA401D584C6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E4C-D75B-42C6-9519-B8B858C58E8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При изготвянето на настоящия доклад е обработена и анализирана актуална информация от НСИ, ЕВРОСТАТ, ИСУН, информация от общините на територията на ЮЦР, годишните доклади за околната среда на РИОСВ - Пловдив, Пазарджик, Хасково и Смолян за 201</a:t>
            </a:r>
            <a:r>
              <a:rPr b="0" lang="ru-RU" sz="1200" spc="-1" strike="noStrike">
                <a:solidFill>
                  <a:srgbClr val="bbe0e3"/>
                </a:solidFill>
                <a:latin typeface="Times New Roman"/>
              </a:rPr>
              <a:t>3 </a:t>
            </a: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г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200" spc="-1" strike="noStrike">
                <a:solidFill>
                  <a:srgbClr val="bbe0e3"/>
                </a:solidFill>
                <a:latin typeface="Times New Roman"/>
              </a:rPr>
              <a:t>състоянието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ОПЪЛНЕНИЕ: В сравнение с 2012 г., през 2013 г.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коефициентът на икономическа активност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(15 - 64 навършени години) за страната се увеличава с 1,3 процентни пун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Южен централен район през 2013 г. коефициентът е със стойност над средната за страната и в сравнение с 2012 г. бележи нарастване от 66,1 % на 68,7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ъв вътрешнорегионален план, икономическата активност във всички области от ЮЦР през 2013 г. отбелязва увеличение, спрямо предходната 201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Контейнер за номер н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03AA-A0BB-4A18-BD94-C75B4A96D92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DD32-A096-453A-A550-D96DA0D8539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FC6-6E83-488D-96FD-C9F8511C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334-2C20-47E0-8119-884B4BA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8C2-4C47-4485-91BA-E12AC5B3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A57-6F96-4C8D-A784-06436383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E0E-7140-48C5-B9E1-6C642001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F1F0-E22D-4AE9-94CE-E87EBC71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ABC-8CE2-4624-A2F4-D3098B5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C9D3-7040-45E9-A948-0AA58B8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734D-DECA-4B13-8F8A-97A35988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9E76-DC98-4A53-9044-2350195A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4A29-86ED-49F1-A39E-FBEC649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A0C-C065-43FE-B0D9-B49AF57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FD2-B52B-4E10-9CAC-A29114D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B57-9E7F-4C2C-945D-D63E9395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1D3F-37C0-4A92-AA4C-03A64A2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D4C5-F573-4011-9B39-8495D02D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FBC2-B3AF-466C-80D4-0F2C129E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954A7-E823-478E-96CD-8722E76D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ACA80-2BE2-4D26-84A8-E47017B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89C27-580B-49EB-9D6E-18BC2190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9FF2C-FDE1-4770-AD08-80B2B56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D02E6-C008-4B4D-AE9B-F5D2843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AE3-AC14-44FC-808B-A5C72AE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DC789-3599-4002-9BCD-ECF296DA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73438-4605-4F5B-87D4-5A547FD8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69E41-6E1A-4568-801E-1833F4B6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D5823-3F23-4CBA-9D07-4470CA55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D3508-6118-444C-B70A-899C67D8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E0CEC-006A-4C4B-98B6-356951AC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4F988-8B9C-4C18-8F87-9B4FDBE7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55C4-3D6D-4536-B031-4C9E37F7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EB53-D51D-4967-9714-644A269F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01E5-4B7F-4401-B9AA-4BEF35D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DE2-3295-42AC-89C9-6CA5977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6A4D-7EE3-4B4C-9E5D-3C59394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E907-4A79-438B-96B6-B5CBC2E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2442-4230-47FC-84E7-F709AAD1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5411-0761-4444-BC27-2C98E0D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861D-14FC-4337-AFDF-463F4E1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0969B-C8C4-4AB3-8854-CB566AB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94F3-6B6B-47AB-A31B-C64D67C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F99D-3D36-4B0E-AB74-296931D4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21C5-A9C2-45FC-9896-099435F6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D07-DD15-45C6-A220-935EC7F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08D-A8E4-48C4-B3EA-DC44370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3AE-FFCE-4626-A1C7-88DFFC66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A2B-ECEE-4DBF-92A9-3753CAA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7BE-2F18-47C7-8D5A-709E2B4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75B-9A04-4BC6-9CD0-D0B354F1F792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1279-A8A0-4B8D-8783-1EB0BA740A0A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FEA5-9118-4898-A238-88CBCDF39039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831-775F-4868-A740-50E5E551A13A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C47-46B1-42D5-83A4-D6F1BDB80C8B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76B8-8607-41FA-BAD5-D6E3FFBD0276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1433-0B94-4B89-9AC5-1BF4E00853E8}" type="datetime">
              <a:rPr b="0" lang="bg-BG" sz="800" spc="-1" strike="noStrike">
                <a:solidFill>
                  <a:srgbClr val="009dd9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009dd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9dd9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07B-5CB0-4291-BA73-A89BAEEAC16B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748C-15B2-4E65-9D5F-305893E883DD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30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2900" spc="-1" strike="noStrike" u="sng">
                <a:solidFill>
                  <a:srgbClr val="083763"/>
                </a:solidFill>
                <a:uFillTx/>
                <a:latin typeface="Tahoma"/>
                <a:ea typeface="Tahoma"/>
              </a:rPr>
              <a:t>Годишен доклад </a:t>
            </a:r>
            <a:br>
              <a:rPr sz="2900"/>
            </a:br>
            <a:br>
              <a:rPr sz="2900"/>
            </a:br>
            <a:r>
              <a:rPr b="1" lang="bg-BG" sz="2300" spc="-1" strike="noStrike">
                <a:solidFill>
                  <a:srgbClr val="083763"/>
                </a:solidFill>
                <a:latin typeface="Tahoma"/>
                <a:ea typeface="Tahoma"/>
              </a:rPr>
              <a:t>за наблюдение на изпълнението </a:t>
            </a:r>
            <a:br>
              <a:rPr sz="2300"/>
            </a:br>
            <a:r>
              <a:rPr b="1" lang="bg-BG" sz="2300" spc="-1" strike="noStrike">
                <a:solidFill>
                  <a:srgbClr val="083763"/>
                </a:solidFill>
                <a:latin typeface="Tahoma"/>
                <a:ea typeface="Tahoma"/>
              </a:rPr>
              <a:t>на Актуализиран документ за изпълнение на Регионалния план за развитие на Южен централен район за 2013 г.</a:t>
            </a:r>
            <a:endParaRPr b="0" lang="en-US" sz="23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35280" y="53737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Заседание на РСР на ЮЦ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2</a:t>
            </a:r>
            <a:r>
              <a:rPr b="1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4.06.2014 г., гр. Пловди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2" descr="Untitled3.png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5040360"/>
          </a:xfrm>
          <a:prstGeom prst="rect">
            <a:avLst/>
          </a:prstGeom>
          <a:ln w="0">
            <a:noFill/>
          </a:ln>
        </p:spPr>
      </p:pic>
      <p:sp>
        <p:nvSpPr>
          <p:cNvPr id="255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7134-C8F1-4FC0-8998-396722D9ADFB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42600" y="1700280"/>
            <a:ext cx="7961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в ЮЦР се отчита подобрение в стойностите на всички основни и специфични индикатори по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иоритет 1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оложителна промяна има в привличането на инвестиции в район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Усвояването на средства по ОП „РКБИ“, ОП „РР“ и „ПРСР“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55a83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ъздаването на клъстери и развитието на туризм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ъз основа на това може да се направи извод, че в изпълнение на мерките по приоритет 1 на АДИ на РПР на ЮЦР се наблюдава значителен напредъ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6836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П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остигнат напредък по изпълнение на Приоритет 1 “Повишаване конкурентоспособността на регионалната икономика, базирана на знанието и местните ресурс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784-6836-4235-8491-E31DEBDFDC31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921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риоритетни инфраструктурни проекти с национално и международно значение в областта на транспорта през 2013 г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68360" y="404640"/>
            <a:ext cx="8675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2 “Развитие и модернизация на техническатаинфраструктура и градската среда в ЮЦР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Diagram 6" descr=""/>
          <p:cNvPicPr/>
          <p:nvPr/>
        </p:nvPicPr>
        <p:blipFill>
          <a:blip r:embed="rId1"/>
          <a:stretch/>
        </p:blipFill>
        <p:spPr>
          <a:xfrm>
            <a:off x="542880" y="2378160"/>
            <a:ext cx="8004240" cy="419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929-1D66-4879-BD62-49B3490A649C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Diagram 5" descr=""/>
          <p:cNvPicPr/>
          <p:nvPr/>
        </p:nvPicPr>
        <p:blipFill>
          <a:blip r:embed="rId1"/>
          <a:stretch/>
        </p:blipFill>
        <p:spPr>
          <a:xfrm>
            <a:off x="596880" y="1407960"/>
            <a:ext cx="8066160" cy="40420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468360" y="404640"/>
            <a:ext cx="8675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2 “Развитие и модернизация на техническатаинфраструктура и градската среда в ЮЦР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4360" y="4941720"/>
            <a:ext cx="7920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в ЮЦР се наблюдава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предък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 отношение на изпълнението на мерките и целите по приоритет 2, който обхваща дейностите по развитието и модернизацията на техническата инфраструктура и градската среда. В процес на изпълнение са ключови проекти в транспортния сектор в района, повечето от които предстои да бъдат приключени през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D42-DDC7-4629-88D7-D09F13C16E5F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Diagram 5" descr=""/>
          <p:cNvPicPr/>
          <p:nvPr/>
        </p:nvPicPr>
        <p:blipFill>
          <a:blip r:embed="rId1"/>
          <a:stretch/>
        </p:blipFill>
        <p:spPr>
          <a:xfrm>
            <a:off x="500040" y="1566720"/>
            <a:ext cx="8156520" cy="3969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468360" y="404640"/>
            <a:ext cx="80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3  “Подобряване на социалната инфраструк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611280" y="5380200"/>
            <a:ext cx="7993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регледът на специфичните цели по приоритет 3 показва, че в ЮЦР се създават условия за повишаване на производителността, приспособимостта и устойчивостта на заетите, подобрява се качеството на образованието и здравеопазването, съизмерими с европейските  изисквания, което ще допринесе  за изпълнение на националните цели на Стратегия „Европа 2020“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2DC-5424-4DC0-8766-F3D0AE446CA2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Diagram 5" descr=""/>
          <p:cNvPicPr/>
          <p:nvPr/>
        </p:nvPicPr>
        <p:blipFill>
          <a:blip r:embed="rId1"/>
          <a:stretch/>
        </p:blipFill>
        <p:spPr>
          <a:xfrm>
            <a:off x="457200" y="1609560"/>
            <a:ext cx="8169120" cy="49197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468360" y="404640"/>
            <a:ext cx="806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по изпълнение на Приоритет 4 “Укрепване на институционалния капацитет на регионално и местно ниво за подобряване процеса на управление и подпомагане на инициативи за регионално и мес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Untitled15_2.png"/>
          <p:cNvPicPr/>
          <p:nvPr/>
        </p:nvPicPr>
        <p:blipFill>
          <a:blip r:embed="rId1"/>
          <a:stretch/>
        </p:blipFill>
        <p:spPr>
          <a:xfrm>
            <a:off x="3492360" y="3382920"/>
            <a:ext cx="5651640" cy="3475080"/>
          </a:xfrm>
          <a:prstGeom prst="rect">
            <a:avLst/>
          </a:prstGeom>
          <a:ln w="0">
            <a:noFill/>
          </a:ln>
        </p:spPr>
      </p:pic>
      <p:sp>
        <p:nvSpPr>
          <p:cNvPr id="274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9C9B-722C-4D6F-8F0B-A086E1E405F2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64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Обща оценка на наблюдението на изпълнение на АДИ на РПР на Южен централен район</a:t>
            </a:r>
            <a:r>
              <a:rPr b="1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  </a:t>
            </a:r>
            <a:br>
              <a:rPr sz="2700"/>
            </a:br>
            <a:endParaRPr b="0" lang="en-US" sz="2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10920" y="1341000"/>
            <a:ext cx="532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ahoma"/>
                <a:ea typeface="Tahoma"/>
              </a:rPr>
              <a:t>        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  <a:ea typeface="Tahoma"/>
              </a:rPr>
              <a:t>Изпълнението на АДИ на РПР на ЮЦР показва, че определената в него рамка на политиката за регионално развитие в ЮЦР като цяло се изпълнява чрез инструментите за сближаване и съответното национално съфинансиране. Същевременно е ясна необходимостта от по-конкретно адресиране на бъдещите мерки към специфичните икономически и социални проблеми на района, в контекста на общите структурни предизвикателства пред развитието.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остигането на устойчиво и балансирано развитие на ЮЦР предполага по-активна политика и насочване на усилия за намаляване на междурегионалните и вътрешнорегионалните неравенств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F23-9101-4B15-84BE-744E6E6D8FB7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993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Tahoma"/>
                <a:ea typeface="Tahoma"/>
              </a:rPr>
              <a:t>Действия, предприети от РСР</a:t>
            </a:r>
            <a:r>
              <a:rPr b="0" lang="bg-BG" sz="2500" spc="-1" strike="noStrike">
                <a:solidFill>
                  <a:srgbClr val="04617b"/>
                </a:solidFill>
                <a:latin typeface="Tahoma"/>
                <a:ea typeface="Tahoma"/>
              </a:rPr>
              <a:t> в ЮЦР</a:t>
            </a:r>
            <a:r>
              <a:rPr b="0" lang="ru-RU" sz="2500" spc="-1" strike="noStrike">
                <a:solidFill>
                  <a:srgbClr val="04617b"/>
                </a:solidFill>
                <a:latin typeface="Tahoma"/>
                <a:ea typeface="Tahoma"/>
              </a:rPr>
              <a:t> с цел осигуряване на ефективност и ефикасност при изпълнението на АДИ на </a:t>
            </a:r>
            <a:r>
              <a:rPr b="0" lang="bg-BG" sz="2500" spc="-1" strike="noStrike">
                <a:solidFill>
                  <a:srgbClr val="04617b"/>
                </a:solidFill>
                <a:latin typeface="Tahoma"/>
                <a:ea typeface="Tahoma"/>
              </a:rPr>
              <a:t>РПР на ЮЦР</a:t>
            </a:r>
            <a:r>
              <a:rPr b="0" lang="bg-BG" sz="2700" spc="-1" strike="noStrike">
                <a:solidFill>
                  <a:srgbClr val="04617b"/>
                </a:solidFill>
                <a:latin typeface="Tahoma"/>
                <a:ea typeface="Tahoma"/>
              </a:rPr>
              <a:t> през 2013 г.</a:t>
            </a:r>
            <a:endParaRPr b="0" lang="en-US" sz="27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Наблюдението на изпълнението на РПР е отговорност на РС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ена и обсъдена Предварителната и Екологичната оценка на Регионалния план за развитие на Южен централен район за периода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приоритетни мерки и проекти в областта на транспорта и транспортната инфраструктура, ключови за Южен централен район за програмния период 2014-2020 г.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и съгласувани проектите на Областните стратегии за развитие на областите от ЮЦР за периода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бсъдени "Резултати от анализа на градското развитие в България" и Втори финален проект на оперативна програма "Региони в растеж" 2014-2020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ценка на въздействието на Закона за регионалното развитие и Правилника за прилагане на Закона за регионалното развит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DF2-3BA1-43A5-8DF1-AA9B0683F019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277920"/>
            <a:ext cx="7921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Заключения и предложения за подобряване </a:t>
            </a:r>
            <a:br>
              <a:rPr sz="2800"/>
            </a:b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на резултатите от наблюдението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4200" y="1700280"/>
            <a:ext cx="8029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предъкът по изпълнението на приоритетите на АДИ на РПР на ЮЦР (2011-2013) е съществен.  Това се дължи на  високата  усвояемост на  средствата от фондовете на ЕС  в района за периода 2012 -2013 г.  Отчетени са добри социално-икономически показатели, близки до средните  за  страната. Констатиран е напредък, свързан с подобряване на  транспортната и бизнес инфраструктура, подобряване на туристическите атракции, обновление на градската сре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чита се увеличаване на обема на информация,  предоставена от областните и общински администрации. Със съдействието на Председателя на РСР на ЮЦР, областните управители и помоща на Секретариата на РСР е събрана и обобщена информация за настоящия Годишен докла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FAB7-EC18-4202-8317-5A2980216EDD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Заключения и предложения за подобряване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на резултатите от наблюдението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0920" y="1628640"/>
            <a:ext cx="7924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еобходимо е да се насочат усилия към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оптимално функциониране на системата за наблюдени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създаване, организиране и поддържане на информационна база данни за изпълнени проекти, чието реализиране се финансира от държавния и общинските бюджети;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ени допълнителни мерки за сътрудничество в граничните планински общини, чрез които да се използва специфичният им потенциал за развит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зготвянето на детайлна информация от УО на ниво ЮЦР  и обвързването й с индикаторите за наблюдение би спомогнало за по-пълно и точно отчитане на изпълнението на Регионалния план за развитие. За следващия програмен период е необходимо уеднаквяване на информацията за изпълнението на проектите, предоставяни от УО на оперативните програми и данните от ИСУ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</a:rPr>
              <a:t>ДОКЛАД ПО НАБЛЮДЕНИЕТО И КОНТРОЛА ПРИ ПРИЛАГАНЕТО НА РПР НА ЮЦР (2007-1013), ВКЛ. НА МЕРКИТЕ ЗА ПРЕДОТВРАТЯВАНЕ, НАМАЛЯВАНЕ ИЛИ ОТСТРАНЯВАНЕ НА ЕКОЛОГИЧНИ ЩЕТИ В РЕЗУЛТАТ НА ПРИЛАГАНЕТО НА РПР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I.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Изпълнение на мерките за предотвратяване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намаляване или отстраняване на екологичните щети в резултат на прилагането на РПР на ЮЦР (2007-2013), съгласно становище по ЕО № 2-2/2005 год. на МОСВ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1.1 до 1.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II.Изпълнение на мерките за наблюдение и контрол при прилагане на РПР на ЮЦР (2007-2013), съгласно становище по ЕО № 2-2/2005 год. на МОСВ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Възду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Повърхностни и подземни вод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Земи и почв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Биоразнообразие и защитени територ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Отпадъц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Шум и вибраци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1D4-FC4E-443A-8ABB-0C8A40FD3C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201-42FB-4400-A1DA-F97A238F9ECC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6" name="Chart 4" descr=""/>
          <p:cNvPicPr/>
          <p:nvPr/>
        </p:nvPicPr>
        <p:blipFill>
          <a:blip r:embed="rId1"/>
          <a:stretch/>
        </p:blipFill>
        <p:spPr>
          <a:xfrm>
            <a:off x="603360" y="1620720"/>
            <a:ext cx="8076960" cy="469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FDB5-1098-4622-A80A-A192F1A754F0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83763"/>
                </a:solidFill>
                <a:latin typeface="Tahoma"/>
                <a:ea typeface="Tahoma"/>
              </a:rPr>
              <a:t>Благодаря за вниманието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83763"/>
                </a:solidFill>
                <a:latin typeface="Tahoma"/>
                <a:ea typeface="Tahoma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83763"/>
                </a:solidFill>
                <a:latin typeface="Tahoma"/>
                <a:ea typeface="Tahoma"/>
              </a:rPr>
              <a:t>ГД “Стратегическо планиране на регионалното развитие и административно-териториално устройство”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 </a:t>
            </a: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Отдел “Стратегическо планиране и координация на регионалното развитие в Южен централен район” - Пловдив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083763"/>
                </a:solidFill>
                <a:latin typeface="Tahoma"/>
                <a:ea typeface="Tahoma"/>
              </a:rPr>
              <a:t>Даниела Опълченска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83763"/>
                </a:solidFill>
                <a:latin typeface="Tahoma"/>
                <a:ea typeface="Tahoma"/>
              </a:rPr>
              <a:t>	</a:t>
            </a: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Мобилен тел:0884 66 36 21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е</a:t>
            </a: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-mail</a:t>
            </a:r>
            <a:r>
              <a:rPr b="0" lang="bg-BG" sz="1800" spc="-1" strike="noStrike">
                <a:solidFill>
                  <a:srgbClr val="083763"/>
                </a:solidFill>
                <a:latin typeface="Tahoma"/>
                <a:ea typeface="Tahoma"/>
              </a:rPr>
              <a:t>: </a:t>
            </a: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DOpalchenska@mrrb.government.b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Tahoma"/>
                <a:ea typeface="Tahoma"/>
              </a:rPr>
              <a:t>secretariat_rsr_scr.p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Контейнер за номер на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CB36-11D3-4FE6-99DF-ABC2239ECB1D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9" name="Chart 7" descr=""/>
          <p:cNvPicPr/>
          <p:nvPr/>
        </p:nvPicPr>
        <p:blipFill>
          <a:blip r:embed="rId1"/>
          <a:stretch/>
        </p:blipFill>
        <p:spPr>
          <a:xfrm>
            <a:off x="603360" y="1620720"/>
            <a:ext cx="6351480" cy="476748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14"/>
          <p:cNvCxnSpPr/>
          <p:nvPr/>
        </p:nvCxnSpPr>
        <p:spPr>
          <a:xfrm flipV="1">
            <a:off x="6227640" y="3789000"/>
            <a:ext cx="145440" cy="504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231" name="Chart 6" descr=""/>
          <p:cNvPicPr/>
          <p:nvPr/>
        </p:nvPicPr>
        <p:blipFill>
          <a:blip r:embed="rId2"/>
          <a:stretch/>
        </p:blipFill>
        <p:spPr>
          <a:xfrm>
            <a:off x="5138640" y="1047600"/>
            <a:ext cx="3834000" cy="274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з 2013 г.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коефициентът на безработиц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ет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на 15-64 навършени годин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в ЮЦР е 13,5% и е по-висок от средния за страната – 13%. Спрямо 2012 г. този показател за района отчита минимално намаление с 0,5%. Стойността за област Пловдив е 13,5%, област Кърджали - 7%, област Пазарджик-13,1%, област Смолян-20,1%, Хасково-14,4%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B83-693F-48F8-ACDA-DFA24CFADDD4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561440" cy="3456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50560" y="1773360"/>
            <a:ext cx="8435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Коефициентът на заетост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на населението между 15-64 навършени години в ЮЦР за 2013 г. е  59,4% и се доближава до средния за странат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(59,5%.) Спрямо 2012 г. стойността му се е увеличила с 2,5 %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тойността за област Пловдив е 61,2%, област Кърджали - 59%, област Пазарджик-56,0%, област Смолян-59,3%, Хасково-58,4%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Контейнер за номер на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5A2-9C7C-4E17-88C3-56DC3F057C7D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945560" cy="3789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57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ЮЦР през 2012 г. са 2 033 178,6 хил. евро или 9,3 % от тези за страната. В сравнение с 2011г.,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за 2012г. са се увеличили с 124 412,5 хил. евро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ъпреки последствията от икономическата криза, районът е привлякъл инвестиции и от 4-то място за 2011 г. се нарежда на 3-то място сред районите в страната през 2012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906D-DCF5-4157-93BB-FC65FF0D29D7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7416720" cy="3357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В привличането на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ПЧИ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Tahoma"/>
              </a:rPr>
              <a:t> през 2012 г. в ЮЦР водеща е област Пловди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 1 340 733,9 хил. евро. С най-малко привлечени ПЧИ е област Смолян с 75 502,9 хил. евро. Наблюдаваната разлика между привлечените инвестиции в двете области е голяма, което налага да се търсят допълнителни механизми за преодоляване на вътрешнорегионалните нервенства по отношение на този показате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1CD8-7FA1-4EEA-B748-428E00D01EE0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729400" cy="36925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ромени в социално-икономическите условия на Южен централен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FCE-84E7-4AC2-96E5-A6EA88F3CA3F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468360" y="40464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4617b"/>
                </a:solidFill>
                <a:latin typeface="Tahoma"/>
                <a:ea typeface="Tahoma"/>
              </a:rPr>
              <a:t>Постигнат напредък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о изпълнение на целите на АДИ на РПР на ЮЦ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Diagram 6" descr=""/>
          <p:cNvPicPr/>
          <p:nvPr/>
        </p:nvPicPr>
        <p:blipFill>
          <a:blip r:embed="rId1"/>
          <a:stretch/>
        </p:blipFill>
        <p:spPr>
          <a:xfrm>
            <a:off x="476280" y="1554120"/>
            <a:ext cx="8246880" cy="477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Контейнер за номер на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338C-3C8A-4BB8-B08A-74E0A37D1901}" type="slidenum">
              <a:rPr b="0" lang="bg-BG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468360" y="404640"/>
            <a:ext cx="8280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4617b"/>
                </a:solidFill>
                <a:latin typeface="Tahoma"/>
                <a:ea typeface="Tahoma"/>
              </a:rPr>
              <a:t>П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  <a:ea typeface="Tahoma"/>
              </a:rPr>
              <a:t>остигнат напредък по изпълнение на Приоритет 1 “Повишаване конкурентоспособността на регионалната икономика, базирана на знанието и местните ресурс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Diagram 5" descr=""/>
          <p:cNvPicPr/>
          <p:nvPr/>
        </p:nvPicPr>
        <p:blipFill>
          <a:blip r:embed="rId1"/>
          <a:stretch/>
        </p:blipFill>
        <p:spPr>
          <a:xfrm>
            <a:off x="549360" y="1951200"/>
            <a:ext cx="8113680" cy="46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3:53Z</dcterms:created>
  <dc:creator>MRRB</dc:creator>
  <dc:description/>
  <dc:language>en-US</dc:language>
  <cp:lastModifiedBy>MRRB</cp:lastModifiedBy>
  <dcterms:modified xsi:type="dcterms:W3CDTF">2014-07-09T06:57:21Z</dcterms:modified>
  <cp:revision>270</cp:revision>
  <dc:subject/>
  <dc:title>Годишен доклад  за наблюдение  на изпълнението  на РПР на ЮЦР      2013 г.</dc:title>
</cp:coreProperties>
</file>